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F2F742-424B-4D3E-9E4A-B16076D6D1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6D7CCF-4F15-4BC5-A0E2-EDAA39D3D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6A9C2E-173A-4608-B755-4768DF75F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61A5FF-E277-4AE2-9621-576DB0110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7C0914-1AA2-40F5-9BAB-048E8C444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B4E94D-9B19-402D-B9CB-3831EEBDB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8B414C-5EB9-431D-AE21-34C3D7986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6DF36C-69AC-43AF-805F-884B01F62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BC678-70C9-42F0-9F98-FB4EFB304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406947-8830-455B-BEF7-6A01DE912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9CE975-0165-48D7-AF9B-B05904AB2E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5559E9-B6D6-457A-B046-22DD1A615C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8361-B1BB-44F9-AB45-DDC104A8C371}"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j.lu@hp.com" TargetMode="External"/><Relationship Id="rId3" Type="http://schemas.openxmlformats.org/officeDocument/2006/relationships/hyperlink" Target="mailto:bauman@hp.com" TargetMode="External"/><Relationship Id="rId4" Type="http://schemas.openxmlformats.org/officeDocument/2006/relationships/hyperlink" Target="mailto:carlos.cuina@hp.com" TargetMode="External"/><Relationship Id="rId5" Type="http://schemas.openxmlformats.org/officeDocument/2006/relationships/hyperlink" Target="mailto:Yan-fei.yang@hp.com" TargetMode="External"/><Relationship Id="rId6" Type="http://schemas.openxmlformats.org/officeDocument/2006/relationships/hyperlink" Target="mailto:naren@hp.com" TargetMode="External"/><Relationship Id="rId7" Type="http://schemas.openxmlformats.org/officeDocument/2006/relationships/hyperlink" Target="mailto:iekazu.okano@hp.com"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744480"/>
          <a:ext cx="8886960" cy="6113160"/>
        </p:xfrm>
        <a:graphic>
          <a:graphicData uri="http://schemas.openxmlformats.org/drawingml/2006/table">
            <a:tbl>
              <a:tblPr/>
              <a:tblGrid>
                <a:gridCol w="2949840"/>
                <a:gridCol w="2973240"/>
                <a:gridCol w="2963880"/>
              </a:tblGrid>
              <a:tr h="6113160">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50 G5 server is an Intel-based, 2P, 5U form factor, tower server with up to two Intel Xeon 5400 sequence quad-core processors or 5200 sequence dual-core processor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1 February 2008</a:t>
                      </a:r>
                      <a:r>
                        <a:rPr b="0" lang="en-US" sz="900" spc="-1" strike="noStrike">
                          <a:solidFill>
                            <a:srgbClr val="000000"/>
                          </a:solidFill>
                          <a:latin typeface="Futura Bk"/>
                        </a:rPr>
                        <a:t>, HP will announce the ProLiant ML150 G5 server as follow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Up to two (2) Intel Xeon 5400 sequence quad-core processors running at up to 2.83GHz with up to 12MB Level 2 Cache.</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Xeon 5400 sequence quad-core or 5200 sequence dual-core processors.</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205 1.86GHz</a:t>
                      </a:r>
                      <a:r>
                        <a:rPr b="0" lang="en-US" sz="900" spc="-1" strike="noStrike">
                          <a:solidFill>
                            <a:srgbClr val="000000"/>
                          </a:solidFill>
                          <a:latin typeface="Futura Bk"/>
                        </a:rPr>
                        <a:t> – 6MB dual-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05 2.0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10 2.3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20 2.5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30 2.66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40 2.8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2P</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 (rack models via optional rack mounting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 type, protection, and capacity</a:t>
                      </a:r>
                      <a:r>
                        <a:rPr b="0" lang="en-US" sz="900" spc="-1" strike="noStrike">
                          <a:solidFill>
                            <a:srgbClr val="0071b5"/>
                          </a:solidFill>
                          <a:latin typeface="Futura Hv"/>
                        </a:rPr>
                        <a:t> </a:t>
                      </a:r>
                      <a:r>
                        <a:rPr b="0" lang="en-US" sz="900" spc="-1" strike="noStrike">
                          <a:solidFill>
                            <a:srgbClr val="000000"/>
                          </a:solidFill>
                          <a:latin typeface="Futura Bk"/>
                        </a:rPr>
                        <a:t>— PC2-5300 DDR2-667,Registered Buffered, 16GB maximum memory</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71b5"/>
                          </a:solidFill>
                          <a:latin typeface="Futura Hv"/>
                        </a:rPr>
                        <a:t> </a:t>
                      </a:r>
                      <a:r>
                        <a:rPr b="0" lang="en-US" sz="900" spc="-1" strike="noStrike">
                          <a:solidFill>
                            <a:srgbClr val="000000"/>
                          </a:solidFill>
                          <a:latin typeface="Futura Bk"/>
                        </a:rPr>
                        <a:t>— Six expansion slots: t</a:t>
                      </a:r>
                      <a:r>
                        <a:rPr b="0" lang="en-US" sz="900" spc="-1" strike="noStrike">
                          <a:solidFill>
                            <a:srgbClr val="000000"/>
                          </a:solidFill>
                          <a:latin typeface="Futura Bk"/>
                          <a:ea typeface="PMingLiU"/>
                        </a:rPr>
                        <a:t>wo (2) PCI-Express x8, three (3) PCI-Express x4(x8 connector) and one (1) PCI (32-bit/33MHz). One slot designated for optional HP ProLiant Lights-Out 100c remote management card.</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Hot plug or non-hot plug SATA</a:t>
                      </a:r>
                      <a:r>
                        <a:rPr b="0" lang="en-US" sz="900" spc="-1" strike="noStrike">
                          <a:solidFill>
                            <a:srgbClr val="000000"/>
                          </a:solidFill>
                          <a:latin typeface="Futura Bk"/>
                          <a:ea typeface="PMingLiU"/>
                        </a:rPr>
                        <a:t>/SAS, up to total 8 Drives with 2nd HDD Option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a:t>
                      </a:r>
                      <a:r>
                        <a:rPr b="0" lang="en-US" sz="900" spc="-1" strike="noStrike">
                          <a:solidFill>
                            <a:srgbClr val="0071b5"/>
                          </a:solidFill>
                          <a:latin typeface="Futura Hv"/>
                        </a:rPr>
                        <a:t> </a:t>
                      </a:r>
                      <a:r>
                        <a:rPr b="0" lang="en-US" sz="900" spc="-1" strike="noStrike">
                          <a:solidFill>
                            <a:srgbClr val="000000"/>
                          </a:solidFill>
                          <a:latin typeface="Futura Bk"/>
                        </a:rPr>
                        <a:t>— HP embedded SATA RAID controller, HP SAS SC40Ge PCI Express to 4-Port SATA/SAS HBA controller (SAS model), </a:t>
                      </a:r>
                      <a:r>
                        <a:rPr b="0" lang="it-IT" sz="900" spc="-1" strike="noStrike">
                          <a:solidFill>
                            <a:srgbClr val="000000"/>
                          </a:solidFill>
                          <a:latin typeface="Futura Bk"/>
                        </a:rPr>
                        <a:t>HP Smart Array E200/128 BBWC SATA/SAS controller (performance model)</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Optional HP ProLiant Lights-Out 100</a:t>
                      </a:r>
                      <a:r>
                        <a:rPr b="0" lang="en-US" sz="900" spc="-1" strike="noStrike">
                          <a:solidFill>
                            <a:srgbClr val="000000"/>
                          </a:solidFill>
                          <a:latin typeface="Futura Bk"/>
                          <a:ea typeface="PMingLiU"/>
                        </a:rPr>
                        <a:t>c Remote Management Card</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Bk"/>
                          <a:ea typeface="PMingLiU"/>
                        </a:rPr>
                        <a:t>750W redundant power supply via optional RPS kit (ready by March Launch)</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1-1-1</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Look for customers with the following business challenge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ly manage the server.</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ith the optional Lights-Out 100 card the customer can remotely control the system console and power as well as view the system environmental health and system event log. Also they will have the ability update software and firmware as well as to remotely control attached USB storage. Additionally you can remotely administrate your OS and remotely control the system console. Currently customers would need to walk or drive to the site if something goes wrong with the server.</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Remote management capabilities.</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mall and medium businesses running light application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ML150 G5 is ideal server for these requirements. Combined with HP Services it can bring the customer the benefit of a faster, simpler deployment with true server functionality. This will yield increased employee productivity, reduced cost of business, and operational efficiency. </a:t>
                      </a:r>
                      <a:r>
                        <a:rPr b="0" lang="en-US" sz="900" spc="-1" strike="noStrike">
                          <a:solidFill>
                            <a:srgbClr val="000000"/>
                          </a:solidFill>
                          <a:latin typeface="Futura Bk"/>
                          <a:ea typeface="PMingLiU"/>
                        </a:rPr>
                        <a:t>It can provide basic file/print, database server functionality at an appropriate price point.</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L150 G5 is flexible in deployment.</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ost-conscious, sophisticated small and medium businesse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ffordable dual processor server with essential management, redundancy, and enough power to handle complex business requirement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Affordable performance-based server, and new technologies provide a competitive edge.</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ustomers who want expandability for future growth.</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With room for two Intel Xeon processors, six I/O slots, six memory slots, and eight hard drives, the ML150 G5 is optimized for expansion. There is also a rack convertible option kit to meet customer needs in terms of server consolidation.</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any expansion options provide the customer the ability to expand as the business grows.</a:t>
                      </a:r>
                      <a:endParaRPr b="0" lang="en-US" sz="900" spc="-1" strike="noStrike">
                        <a:solidFill>
                          <a:srgbClr val="000000"/>
                        </a:solidFill>
                        <a:latin typeface="Futura Bk"/>
                      </a:endParaRPr>
                    </a:p>
                    <a:p>
                      <a:pPr lvl="1" marL="228600" indent="-114120">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Green light deals (must wi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expandability for future growth</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remote management capabilities</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ost conscious SMB looking for an affordable dual processor server</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Yellow light deals (more qualificatio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ze of business may grow beyond 100 employees</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d light deals (walk away) </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as dual-core servers and does not feel their business or infrastructure is adversely impacted by their current computing power.</a:t>
                      </a:r>
                      <a:endParaRPr b="0" lang="en-US" sz="900" spc="-1" strike="noStrike">
                        <a:solidFill>
                          <a:srgbClr val="000000"/>
                        </a:solidFill>
                        <a:latin typeface="Futura Bk"/>
                      </a:endParaRPr>
                    </a:p>
                    <a:p>
                      <a:pPr>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50 G5 on HP.com</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Hv"/>
                          <a:hlinkClick r:id="rId1"/>
                        </a:rPr>
                        <a:t>http://www.hp.com/servers/proliantml15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72600" y="117360"/>
            <a:ext cx="7831080" cy="58752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a:off x="6148440" y="3514680"/>
            <a:ext cx="142920" cy="142920"/>
          </a:xfrm>
          <a:prstGeom prst="ellipse">
            <a:avLst/>
          </a:prstGeom>
          <a:solidFill>
            <a:srgbClr val="339933"/>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6" name=""/>
          <p:cNvSpPr/>
          <p:nvPr/>
        </p:nvSpPr>
        <p:spPr>
          <a:xfrm>
            <a:off x="6157800" y="4381560"/>
            <a:ext cx="142920" cy="142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7" name=""/>
          <p:cNvSpPr/>
          <p:nvPr/>
        </p:nvSpPr>
        <p:spPr>
          <a:xfrm>
            <a:off x="6157800" y="4838760"/>
            <a:ext cx="142920" cy="142920"/>
          </a:xfrm>
          <a:prstGeom prst="ellipse">
            <a:avLst/>
          </a:prstGeom>
          <a:solidFill>
            <a:srgbClr val="ff3300"/>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8"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9" name="" descr=""/>
          <p:cNvPicPr/>
          <p:nvPr/>
        </p:nvPicPr>
        <p:blipFill>
          <a:blip r:embed="rId3"/>
          <a:stretch/>
        </p:blipFill>
        <p:spPr>
          <a:xfrm>
            <a:off x="3394080" y="5630760"/>
            <a:ext cx="557280" cy="113040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41" name=""/>
          <p:cNvGrpSpPr/>
          <p:nvPr/>
        </p:nvGrpSpPr>
        <p:grpSpPr>
          <a:xfrm>
            <a:off x="0" y="0"/>
            <a:ext cx="257040" cy="6858000"/>
            <a:chOff x="0" y="0"/>
            <a:chExt cx="257040" cy="6858000"/>
          </a:xfrm>
        </p:grpSpPr>
        <p:sp>
          <p:nvSpPr>
            <p:cNvPr id="142"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3"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4" name="" descr=""/>
          <p:cNvPicPr/>
          <p:nvPr/>
        </p:nvPicPr>
        <p:blipFill>
          <a:blip r:embed="rId1"/>
          <a:srcRect l="0" t="0" r="11376" b="0"/>
          <a:stretch/>
        </p:blipFill>
        <p:spPr>
          <a:xfrm>
            <a:off x="8329680" y="101520"/>
            <a:ext cx="655560" cy="628560"/>
          </a:xfrm>
          <a:prstGeom prst="rect">
            <a:avLst/>
          </a:prstGeom>
          <a:ln w="0">
            <a:noFill/>
          </a:ln>
        </p:spPr>
      </p:pic>
      <p:sp>
        <p:nvSpPr>
          <p:cNvPr id="145"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graphicFrame>
        <p:nvGraphicFramePr>
          <p:cNvPr id="146" name=""/>
          <p:cNvGraphicFramePr/>
          <p:nvPr/>
        </p:nvGraphicFramePr>
        <p:xfrm>
          <a:off x="399960" y="1036800"/>
          <a:ext cx="8462880" cy="5348160"/>
        </p:xfrm>
        <a:graphic>
          <a:graphicData uri="http://schemas.openxmlformats.org/drawingml/2006/table">
            <a:tbl>
              <a:tblPr/>
              <a:tblGrid>
                <a:gridCol w="1649520"/>
                <a:gridCol w="3336840"/>
                <a:gridCol w="3476520"/>
              </a:tblGrid>
              <a:tr h="2311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P ProLiant DL15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ell PowerEdge SC143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Form facto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5U</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not rackabl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38880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400 sequence (1.8, 2.0, 2.3, 2.5, and 2.83GHz); Intel Xeon 5200 sequence (1.8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300 sequence quad-core (1.6, 2.0, 2.33, 1.86GHz)</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100 sequence dual-core (2.0, 1.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ax processor cor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400 sequence), 4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300 sequence quad-core), 4 (5100 sequence dual-cor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187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2MB Level 2 (5400 sequenc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MB Level 2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MB (5300 sequence quad-core), 4MB (5100 sequence dual-cor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min/ma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 /16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8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Registered buffered DDR2-667</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FBD SDRA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max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0TB SATA, 2.4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4.0TB SATA, 1.2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403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HP embedded SATA RAID controller (RAID 0,1)</a:t>
                      </a:r>
                      <a:endParaRPr b="0" lang="en-US" sz="9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Optional: </a:t>
                      </a:r>
                      <a:r>
                        <a:rPr b="0" lang="it-IT" sz="900" spc="-1" strike="noStrike">
                          <a:solidFill>
                            <a:srgbClr val="000000"/>
                          </a:solidFill>
                          <a:latin typeface="Futura Bk"/>
                        </a:rPr>
                        <a:t>HP Smart Array E200/128 BBWC SATA/SAS controller (RAID 0,1,5)</a:t>
                      </a:r>
                      <a:r>
                        <a:rPr b="0" lang="it-IT" sz="1000" spc="-1" strike="noStrike">
                          <a:solidFill>
                            <a:srgbClr val="0071b5"/>
                          </a:solidFill>
                          <a:latin typeface="Futura Bk"/>
                        </a:rPr>
                        <a:t> </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SAS 5iR (when using 2 or less SAS or SATA hard drives and running RAID0 or RAID1 configuration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RC 5i (only needed when running RAID5 configurati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technolog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7124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slot typ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Six expansion slots: t</a:t>
                      </a:r>
                      <a:r>
                        <a:rPr b="0" lang="en-US" sz="1000" spc="-1" strike="noStrike">
                          <a:solidFill>
                            <a:srgbClr val="000000"/>
                          </a:solidFill>
                          <a:latin typeface="Futura Bk"/>
                          <a:ea typeface="PMingLiU"/>
                        </a:rPr>
                        <a:t>wo (2) PCI-Express x8, three (3) PCI-Express x4(x8 connector) and one (1) PCI (32-bit/33MHz). One slot designated for optional HP ProLiant Lights-Out 100c remote</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 total I/O slots: 2 PCI Express slots (x4 with x8 connector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64-bit/100MHz PCI-X slots 3.3V, 1 32-bit/33MHz PCI slot 5V,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e full height, full length slot; remaining slots are full height, half length</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4838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igh availability (hot swap, redundant power supply or fan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750W redundant power supply via optional RPS kit</a:t>
                      </a:r>
                      <a:endParaRPr b="0" lang="en-US" sz="10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Availability: March 2008)</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non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11541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明朝"/>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W — </a:t>
                      </a:r>
                      <a:r>
                        <a:rPr b="0" lang="en-US" sz="900" spc="-1" strike="noStrike">
                          <a:solidFill>
                            <a:srgbClr val="00558e"/>
                          </a:solidFill>
                          <a:latin typeface="Futura Bk"/>
                        </a:rPr>
                        <a:t>PJ Lu</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pj.lu@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 </a:t>
                      </a:r>
                      <a:r>
                        <a:rPr b="0" lang="en-US" sz="900" spc="-1" strike="noStrike">
                          <a:solidFill>
                            <a:srgbClr val="00558e"/>
                          </a:solidFill>
                          <a:latin typeface="Futura Bk"/>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bauma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atin America — </a:t>
                      </a:r>
                      <a:r>
                        <a:rPr b="0" lang="en-US" sz="900" spc="-1" strike="noStrike">
                          <a:solidFill>
                            <a:srgbClr val="00558e"/>
                          </a:solidFill>
                          <a:latin typeface="Futura Bk"/>
                        </a:rPr>
                        <a:t>Carlos Cuina</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carlos.cuina@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 </a:t>
                      </a:r>
                      <a:r>
                        <a:rPr b="0" lang="en-US" sz="900" spc="-1" strike="noStrike">
                          <a:solidFill>
                            <a:srgbClr val="00558e"/>
                          </a:solidFill>
                          <a:latin typeface="Futura Bk"/>
                        </a:rPr>
                        <a:t>Yan-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Yan-fei.yang@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P — </a:t>
                      </a:r>
                      <a:r>
                        <a:rPr b="0" lang="en-US" sz="900" spc="-1" strike="noStrike">
                          <a:solidFill>
                            <a:srgbClr val="00558e"/>
                          </a:solidFill>
                          <a:latin typeface="Futura Bk"/>
                        </a:rPr>
                        <a:t>Naren Nuggehalli</a:t>
                      </a:r>
                      <a:r>
                        <a:rPr b="0" lang="en-US" sz="900" spc="-1" strike="noStrike">
                          <a:solidFill>
                            <a:srgbClr val="000000"/>
                          </a:solidFill>
                          <a:latin typeface="Futura Bk"/>
                        </a:rPr>
                        <a:t>, </a:t>
                      </a:r>
                      <a:r>
                        <a:rPr b="0" lang="en-US" sz="900" spc="-1" strike="noStrike" u="sng">
                          <a:solidFill>
                            <a:srgbClr val="eb5f01"/>
                          </a:solidFill>
                          <a:uFillTx/>
                          <a:latin typeface="Futura Bk"/>
                          <a:hlinkClick r:id="rId6"/>
                        </a:rPr>
                        <a:t>nare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 </a:t>
                      </a:r>
                      <a:r>
                        <a:rPr b="0" lang="en-US" sz="900" spc="-1" strike="noStrike">
                          <a:solidFill>
                            <a:srgbClr val="00558e"/>
                          </a:solidFill>
                          <a:latin typeface="Futura Bk"/>
                        </a:rPr>
                        <a:t>Ikazu Okano</a:t>
                      </a:r>
                      <a:r>
                        <a:rPr b="0" lang="en-US" sz="900" spc="-1" strike="noStrike">
                          <a:solidFill>
                            <a:srgbClr val="000000"/>
                          </a:solidFill>
                          <a:latin typeface="Futura Bk"/>
                        </a:rPr>
                        <a:t>, </a:t>
                      </a:r>
                      <a:r>
                        <a:rPr b="0" lang="en-US" sz="900" spc="-1" strike="noStrike" u="sng">
                          <a:solidFill>
                            <a:srgbClr val="eb5f01"/>
                          </a:solidFill>
                          <a:uFillTx/>
                          <a:latin typeface="Futura Bk"/>
                          <a:hlinkClick r:id="rId7"/>
                        </a:rPr>
                        <a:t>iekazu.okano@hp.co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bl>
          </a:graphicData>
        </a:graphic>
      </p:graphicFrame>
      <p:sp>
        <p:nvSpPr>
          <p:cNvPr id="147"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BOB BURDEN</cp:lastModifiedBy>
  <cp:lastPrinted>2005-02-04T03:07:35Z</cp:lastPrinted>
  <dcterms:modified xsi:type="dcterms:W3CDTF">2008-01-21T21:30:10Z</dcterms:modified>
  <cp:revision>261</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