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210B-1AB5-4A59-94F0-EDCC27DB4A2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9902-2EC4-4345-8381-F40F70263109}"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B092-495A-4EAA-B4F4-81834C1821E9}"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B3AF-E2F2-4304-A967-D395CBC02BF7}"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9D8B-B0BF-468A-82CF-92BB94C531E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F89D-82BB-4850-AD3B-D4815639DC8B}"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8A95-A7A2-418B-84EF-E818F7CF01B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E32A-FA2D-41BE-9DE3-B369271D3C1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6128-6692-4ECE-ACD5-F3F2D0B991D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3318-0DCF-4224-8E57-B0CE782C20B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D44977-DD5E-460A-ACC3-C198326C9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BC0D2C-72AD-4973-94F7-DF24F38F5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A9C43E8-A9AD-414B-A91B-4A3F7E2C2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789B6D-86D1-496A-B670-F96D084B0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18C4B76-304D-409A-886E-A2C442D21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606D30-38DB-4BD2-9B9A-F62D91056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6C8C79-9DEB-4B5B-A60D-94D06517D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144690-F88F-4A7E-AEFA-442118F05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FA89FC-1C27-4EE2-94F0-C1A96EFD7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7D2B15-6D7F-4D96-A4CA-64C2D4525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6B37DC-14B4-4B48-B04E-46B923B89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61339D3-9390-4B6A-B63A-0B8AD3ADB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977D20-1054-416F-B2D4-FAD33FF01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4C59AB-64F1-4C49-88F4-C4BE6CB70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C8A9DE-F9B7-4121-A27F-7128122ED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E7533B-A491-471A-A75C-8366C5325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ED1FB87-3A6A-481C-ABD3-719339E6A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7BBF9D-C892-461B-AA9B-F07CAB019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53DA6F-5A1D-4ECC-AF23-2CDB5969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EDC929-9C4B-47D9-B5CB-BB51498A8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4DD4B5-8724-460D-8B4A-4DCF055AC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104B1B-C3F6-48A6-9689-9C15C69B8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F82798-0736-437F-B0D9-500DDBA96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6A9A07-2BAB-4AAF-B863-36109F639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00F2-1D8B-4442-B5F9-2EDFE32276B6}" type="datetime">
              <a:rPr b="0" lang="es-ES_tradnl" sz="1000" spc="-1" strike="noStrike">
                <a:solidFill>
                  <a:srgbClr val="ffff66"/>
                </a:solidFill>
                <a:latin typeface="Arial"/>
              </a:rPr>
              <a:t>31/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C954-4CFE-47B6-8054-A514552AF092}"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0483-8DF9-4430-8D8D-43EDDDE2EA7C}" type="datetime">
              <a:rPr b="0" lang="es-ES_tradnl" sz="1000" spc="-1" strike="noStrike">
                <a:solidFill>
                  <a:srgbClr val="ffffff"/>
                </a:solidFill>
                <a:latin typeface="Arial"/>
              </a:rPr>
              <a:t>31/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CA50-C6BF-4A9F-B1B9-DF5AD3244D0C}"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