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9.wmf" ContentType="image/x-wmf"/>
  <Override PartName="/ppt/media/image14.png" ContentType="image/png"/>
  <Override PartName="/ppt/media/image12.png" ContentType="image/png"/>
  <Override PartName="/ppt/media/image17.wmf" ContentType="image/x-wmf"/>
  <Override PartName="/ppt/media/image16.wmf" ContentType="image/x-wmf"/>
  <Override PartName="/ppt/media/image15.png" ContentType="image/png"/>
  <Override PartName="/ppt/media/image1.png" ContentType="image/png"/>
  <Override PartName="/ppt/media/image2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3.png" ContentType="image/png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DF8F-3046-4FE6-A8FA-2893AD49A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F1C8-7065-4A33-A1C3-EAFC82E40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A4DC-3965-4245-87BC-F378E1E63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A5A6-8007-4942-AA91-BA7FEF4AA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35C8-5449-4D08-801D-CF3E6AAE0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B88D-8E53-42D1-859E-79F51D0E5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9C02-1155-487A-8292-7FD459D2F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F947-9119-41A6-80EE-A62E27860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C8DB-7D69-4B20-B518-F92897DF4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6509-4DA2-4DED-A8AD-9BEB2238A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3361-2320-4AAD-ABAC-5F6FCA3B9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5265-78A5-4ABB-B381-45B7B7344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7CC4B-1428-4208-9E55-FDAE2F56AE05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cybercenter.cl/" TargetMode="External"/><Relationship Id="rId3" Type="http://schemas.openxmlformats.org/officeDocument/2006/relationships/hyperlink" Target="http://www.cybercenter.cl/" TargetMode="External"/><Relationship Id="rId4" Type="http://schemas.openxmlformats.org/officeDocument/2006/relationships/hyperlink" Target="http://www.cybercenter.cl/" TargetMode="External"/><Relationship Id="rId5" Type="http://schemas.openxmlformats.org/officeDocument/2006/relationships/hyperlink" Target="http://www.cybercenter.cl/" TargetMode="External"/><Relationship Id="rId6" Type="http://schemas.openxmlformats.org/officeDocument/2006/relationships/hyperlink" Target="http://www.cybercenter.cl/" TargetMode="External"/><Relationship Id="rId7" Type="http://schemas.openxmlformats.org/officeDocument/2006/relationships/hyperlink" Target="http://www.cybercenter.cl/" TargetMode="External"/><Relationship Id="rId8" Type="http://schemas.openxmlformats.org/officeDocument/2006/relationships/hyperlink" Target="http://www.cybercenter.cl/" TargetMode="External"/><Relationship Id="rId9" Type="http://schemas.openxmlformats.org/officeDocument/2006/relationships/hyperlink" Target="http://www.cybercenter.cl/" TargetMode="External"/><Relationship Id="rId10" Type="http://schemas.openxmlformats.org/officeDocument/2006/relationships/hyperlink" Target="http://www.cybercenter.cl/" TargetMode="External"/><Relationship Id="rId11" Type="http://schemas.openxmlformats.org/officeDocument/2006/relationships/hyperlink" Target="http://www.cybercenter.cl/" TargetMode="External"/><Relationship Id="rId12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2133720"/>
            <a:ext cx="746784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ELECOMUNICACIONES Y TECNOLOGÍAS DE LA INFORMACIÓN: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stado Actual y Perspecti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3200400"/>
            <a:ext cx="7772400" cy="24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19320" y="4874040"/>
            <a:ext cx="6737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hristian Nicola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ubsecretario de Telecomunica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17000" y="5943600"/>
            <a:ext cx="17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ctubre - 20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Logo%20SUBTEL" descr=""/>
          <p:cNvPicPr/>
          <p:nvPr/>
        </p:nvPicPr>
        <p:blipFill>
          <a:blip r:embed="rId1"/>
          <a:stretch/>
        </p:blipFill>
        <p:spPr>
          <a:xfrm>
            <a:off x="3962520" y="304920"/>
            <a:ext cx="1066680" cy="104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2666880" y="762120"/>
            <a:ext cx="38102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3399"/>
                </a:solidFill>
                <a:uFillTx/>
                <a:latin typeface="Verdana"/>
              </a:rPr>
              <a:t>TELEFONÍA  MÓV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92480" y="152280"/>
            <a:ext cx="2623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99"/>
                </a:solidFill>
                <a:uFillTx/>
                <a:latin typeface="Verdana"/>
              </a:rPr>
              <a:t>Medios de Acce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4" name="Logo%20SUBTEL" descr=""/>
          <p:cNvPicPr/>
          <p:nvPr/>
        </p:nvPicPr>
        <p:blipFill>
          <a:blip r:embed="rId1"/>
          <a:stretch/>
        </p:blipFill>
        <p:spPr>
          <a:xfrm>
            <a:off x="7924680" y="152280"/>
            <a:ext cx="1067040" cy="1044720"/>
          </a:xfrm>
          <a:prstGeom prst="rect">
            <a:avLst/>
          </a:prstGeom>
          <a:ln w="0">
            <a:noFill/>
          </a:ln>
        </p:spPr>
      </p:pic>
      <p:grpSp>
        <p:nvGrpSpPr>
          <p:cNvPr id="495" name=""/>
          <p:cNvGrpSpPr/>
          <p:nvPr/>
        </p:nvGrpSpPr>
        <p:grpSpPr>
          <a:xfrm>
            <a:off x="744480" y="1353960"/>
            <a:ext cx="7631280" cy="5186520"/>
            <a:chOff x="744480" y="1353960"/>
            <a:chExt cx="7631280" cy="5186520"/>
          </a:xfrm>
        </p:grpSpPr>
        <p:sp>
          <p:nvSpPr>
            <p:cNvPr id="496" name=""/>
            <p:cNvSpPr/>
            <p:nvPr/>
          </p:nvSpPr>
          <p:spPr>
            <a:xfrm>
              <a:off x="744480" y="1353960"/>
              <a:ext cx="7631280" cy="51865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370400" y="3390840"/>
              <a:ext cx="190440" cy="687600"/>
            </a:xfrm>
            <a:custGeom>
              <a:avLst/>
              <a:gdLst/>
              <a:ahLst/>
              <a:rect l="l" t="t" r="r" b="b"/>
              <a:pathLst>
                <a:path w="120" h="433">
                  <a:moveTo>
                    <a:pt x="0" y="0"/>
                  </a:moveTo>
                  <a:lnTo>
                    <a:pt x="30" y="0"/>
                  </a:lnTo>
                  <a:lnTo>
                    <a:pt x="90" y="0"/>
                  </a:lnTo>
                  <a:lnTo>
                    <a:pt x="120" y="0"/>
                  </a:lnTo>
                  <a:lnTo>
                    <a:pt x="120" y="4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465800" y="2976480"/>
              <a:ext cx="164880" cy="414360"/>
            </a:xfrm>
            <a:custGeom>
              <a:avLst/>
              <a:gdLst/>
              <a:ahLst/>
              <a:rect l="l" t="t" r="r" b="b"/>
              <a:pathLst>
                <a:path w="14" h="35">
                  <a:moveTo>
                    <a:pt x="14" y="0"/>
                  </a:moveTo>
                  <a:lnTo>
                    <a:pt x="14" y="13"/>
                  </a:lnTo>
                  <a:lnTo>
                    <a:pt x="0" y="35"/>
                  </a:lnTo>
                </a:path>
              </a:pathLst>
            </a:custGeom>
            <a:noFill/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275000" y="3390840"/>
              <a:ext cx="285840" cy="687600"/>
            </a:xfrm>
            <a:custGeom>
              <a:avLst/>
              <a:gdLst/>
              <a:ahLst/>
              <a:rect l="l" t="t" r="r" b="b"/>
              <a:pathLst>
                <a:path w="180" h="433">
                  <a:moveTo>
                    <a:pt x="0" y="0"/>
                  </a:moveTo>
                  <a:lnTo>
                    <a:pt x="30" y="0"/>
                  </a:lnTo>
                  <a:lnTo>
                    <a:pt x="30" y="0"/>
                  </a:lnTo>
                  <a:lnTo>
                    <a:pt x="60" y="0"/>
                  </a:lnTo>
                  <a:lnTo>
                    <a:pt x="180" y="4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4133880" y="2846520"/>
              <a:ext cx="201600" cy="544320"/>
            </a:xfrm>
            <a:custGeom>
              <a:avLst/>
              <a:gdLst/>
              <a:ahLst/>
              <a:rect l="l" t="t" r="r" b="b"/>
              <a:pathLst>
                <a:path w="17" h="46">
                  <a:moveTo>
                    <a:pt x="0" y="0"/>
                  </a:moveTo>
                  <a:lnTo>
                    <a:pt x="13" y="0"/>
                  </a:lnTo>
                  <a:lnTo>
                    <a:pt x="17" y="46"/>
                  </a:lnTo>
                </a:path>
              </a:pathLst>
            </a:custGeom>
            <a:noFill/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4560840" y="3390840"/>
              <a:ext cx="414360" cy="687600"/>
            </a:xfrm>
            <a:custGeom>
              <a:avLst/>
              <a:gdLst/>
              <a:ahLst/>
              <a:rect l="l" t="t" r="r" b="b"/>
              <a:pathLst>
                <a:path w="261" h="433">
                  <a:moveTo>
                    <a:pt x="0" y="0"/>
                  </a:moveTo>
                  <a:lnTo>
                    <a:pt x="29" y="0"/>
                  </a:lnTo>
                  <a:lnTo>
                    <a:pt x="59" y="0"/>
                  </a:lnTo>
                  <a:lnTo>
                    <a:pt x="82" y="0"/>
                  </a:lnTo>
                  <a:lnTo>
                    <a:pt x="111" y="0"/>
                  </a:lnTo>
                  <a:lnTo>
                    <a:pt x="141" y="0"/>
                  </a:lnTo>
                  <a:lnTo>
                    <a:pt x="171" y="0"/>
                  </a:lnTo>
                  <a:lnTo>
                    <a:pt x="201" y="0"/>
                  </a:lnTo>
                  <a:lnTo>
                    <a:pt x="231" y="0"/>
                  </a:lnTo>
                  <a:lnTo>
                    <a:pt x="261" y="0"/>
                  </a:lnTo>
                  <a:lnTo>
                    <a:pt x="0" y="4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749840" y="3024360"/>
              <a:ext cx="297000" cy="366480"/>
            </a:xfrm>
            <a:custGeom>
              <a:avLst/>
              <a:gdLst/>
              <a:ahLst/>
              <a:rect l="l" t="t" r="r" b="b"/>
              <a:pathLst>
                <a:path w="25" h="31">
                  <a:moveTo>
                    <a:pt x="25" y="0"/>
                  </a:moveTo>
                  <a:lnTo>
                    <a:pt x="25" y="13"/>
                  </a:lnTo>
                  <a:lnTo>
                    <a:pt x="0" y="31"/>
                  </a:lnTo>
                </a:path>
              </a:pathLst>
            </a:custGeom>
            <a:noFill/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560840" y="3390840"/>
              <a:ext cx="900000" cy="687600"/>
            </a:xfrm>
            <a:custGeom>
              <a:avLst/>
              <a:gdLst/>
              <a:ahLst/>
              <a:rect l="l" t="t" r="r" b="b"/>
              <a:pathLst>
                <a:path w="567" h="433">
                  <a:moveTo>
                    <a:pt x="261" y="0"/>
                  </a:moveTo>
                  <a:lnTo>
                    <a:pt x="283" y="8"/>
                  </a:lnTo>
                  <a:lnTo>
                    <a:pt x="313" y="8"/>
                  </a:lnTo>
                  <a:lnTo>
                    <a:pt x="373" y="8"/>
                  </a:lnTo>
                  <a:lnTo>
                    <a:pt x="403" y="8"/>
                  </a:lnTo>
                  <a:lnTo>
                    <a:pt x="425" y="15"/>
                  </a:lnTo>
                  <a:lnTo>
                    <a:pt x="455" y="15"/>
                  </a:lnTo>
                  <a:lnTo>
                    <a:pt x="515" y="23"/>
                  </a:lnTo>
                  <a:lnTo>
                    <a:pt x="537" y="23"/>
                  </a:lnTo>
                  <a:lnTo>
                    <a:pt x="567" y="23"/>
                  </a:lnTo>
                  <a:lnTo>
                    <a:pt x="0" y="433"/>
                  </a:lnTo>
                  <a:lnTo>
                    <a:pt x="261" y="0"/>
                  </a:lnTo>
                  <a:close/>
                </a:path>
              </a:pathLst>
            </a:cu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200560" y="3013200"/>
              <a:ext cx="284400" cy="401400"/>
            </a:xfrm>
            <a:custGeom>
              <a:avLst/>
              <a:gdLst/>
              <a:ahLst/>
              <a:rect l="l" t="t" r="r" b="b"/>
              <a:pathLst>
                <a:path w="24" h="34">
                  <a:moveTo>
                    <a:pt x="24" y="0"/>
                  </a:moveTo>
                  <a:lnTo>
                    <a:pt x="24" y="13"/>
                  </a:lnTo>
                  <a:lnTo>
                    <a:pt x="0" y="34"/>
                  </a:lnTo>
                </a:path>
              </a:pathLst>
            </a:custGeom>
            <a:noFill/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565440" y="3390840"/>
              <a:ext cx="995400" cy="687600"/>
            </a:xfrm>
            <a:custGeom>
              <a:avLst/>
              <a:gdLst/>
              <a:ahLst/>
              <a:rect l="l" t="t" r="r" b="b"/>
              <a:pathLst>
                <a:path w="627" h="433">
                  <a:moveTo>
                    <a:pt x="0" y="30"/>
                  </a:moveTo>
                  <a:lnTo>
                    <a:pt x="29" y="30"/>
                  </a:lnTo>
                  <a:lnTo>
                    <a:pt x="82" y="23"/>
                  </a:lnTo>
                  <a:lnTo>
                    <a:pt x="112" y="23"/>
                  </a:lnTo>
                  <a:lnTo>
                    <a:pt x="141" y="15"/>
                  </a:lnTo>
                  <a:lnTo>
                    <a:pt x="194" y="15"/>
                  </a:lnTo>
                  <a:lnTo>
                    <a:pt x="224" y="8"/>
                  </a:lnTo>
                  <a:lnTo>
                    <a:pt x="253" y="8"/>
                  </a:lnTo>
                  <a:lnTo>
                    <a:pt x="306" y="8"/>
                  </a:lnTo>
                  <a:lnTo>
                    <a:pt x="335" y="8"/>
                  </a:lnTo>
                  <a:lnTo>
                    <a:pt x="365" y="0"/>
                  </a:lnTo>
                  <a:lnTo>
                    <a:pt x="425" y="0"/>
                  </a:lnTo>
                  <a:lnTo>
                    <a:pt x="447" y="0"/>
                  </a:lnTo>
                  <a:lnTo>
                    <a:pt x="627" y="433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3505320" y="2894040"/>
              <a:ext cx="415800" cy="520560"/>
            </a:xfrm>
            <a:custGeom>
              <a:avLst/>
              <a:gdLst/>
              <a:ahLst/>
              <a:rect l="l" t="t" r="r" b="b"/>
              <a:pathLst>
                <a:path w="35" h="44">
                  <a:moveTo>
                    <a:pt x="0" y="0"/>
                  </a:moveTo>
                  <a:lnTo>
                    <a:pt x="13" y="0"/>
                  </a:lnTo>
                  <a:lnTo>
                    <a:pt x="35" y="44"/>
                  </a:lnTo>
                </a:path>
              </a:pathLst>
            </a:custGeom>
            <a:noFill/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560840" y="3427560"/>
              <a:ext cx="1065240" cy="650880"/>
            </a:xfrm>
            <a:custGeom>
              <a:avLst/>
              <a:gdLst/>
              <a:ahLst/>
              <a:rect l="l" t="t" r="r" b="b"/>
              <a:pathLst>
                <a:path w="671" h="410">
                  <a:moveTo>
                    <a:pt x="567" y="0"/>
                  </a:moveTo>
                  <a:lnTo>
                    <a:pt x="597" y="7"/>
                  </a:lnTo>
                  <a:lnTo>
                    <a:pt x="649" y="7"/>
                  </a:lnTo>
                  <a:lnTo>
                    <a:pt x="671" y="15"/>
                  </a:lnTo>
                  <a:lnTo>
                    <a:pt x="0" y="410"/>
                  </a:lnTo>
                  <a:lnTo>
                    <a:pt x="567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5554800" y="3083040"/>
              <a:ext cx="309600" cy="355320"/>
            </a:xfrm>
            <a:custGeom>
              <a:avLst/>
              <a:gdLst/>
              <a:ahLst/>
              <a:rect l="l" t="t" r="r" b="b"/>
              <a:pathLst>
                <a:path w="26" h="30">
                  <a:moveTo>
                    <a:pt x="26" y="0"/>
                  </a:moveTo>
                  <a:lnTo>
                    <a:pt x="26" y="13"/>
                  </a:lnTo>
                  <a:lnTo>
                    <a:pt x="0" y="30"/>
                  </a:lnTo>
                </a:path>
              </a:pathLst>
            </a:custGeom>
            <a:noFill/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560840" y="3451320"/>
              <a:ext cx="1397160" cy="627120"/>
            </a:xfrm>
            <a:custGeom>
              <a:avLst/>
              <a:gdLst/>
              <a:ahLst/>
              <a:rect l="l" t="t" r="r" b="b"/>
              <a:pathLst>
                <a:path w="880" h="395">
                  <a:moveTo>
                    <a:pt x="671" y="0"/>
                  </a:moveTo>
                  <a:lnTo>
                    <a:pt x="701" y="0"/>
                  </a:lnTo>
                  <a:lnTo>
                    <a:pt x="753" y="7"/>
                  </a:lnTo>
                  <a:lnTo>
                    <a:pt x="776" y="14"/>
                  </a:lnTo>
                  <a:lnTo>
                    <a:pt x="806" y="14"/>
                  </a:lnTo>
                  <a:lnTo>
                    <a:pt x="858" y="22"/>
                  </a:lnTo>
                  <a:lnTo>
                    <a:pt x="880" y="29"/>
                  </a:lnTo>
                  <a:lnTo>
                    <a:pt x="0" y="395"/>
                  </a:lnTo>
                  <a:lnTo>
                    <a:pt x="671" y="0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803920" y="3048120"/>
              <a:ext cx="509400" cy="425160"/>
            </a:xfrm>
            <a:custGeom>
              <a:avLst/>
              <a:gdLst/>
              <a:ahLst/>
              <a:rect l="l" t="t" r="r" b="b"/>
              <a:pathLst>
                <a:path w="43" h="36">
                  <a:moveTo>
                    <a:pt x="43" y="0"/>
                  </a:moveTo>
                  <a:lnTo>
                    <a:pt x="30" y="0"/>
                  </a:lnTo>
                  <a:lnTo>
                    <a:pt x="0" y="36"/>
                  </a:lnTo>
                </a:path>
              </a:pathLst>
            </a:custGeom>
            <a:noFill/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114720" y="3438360"/>
              <a:ext cx="1446120" cy="640080"/>
            </a:xfrm>
            <a:custGeom>
              <a:avLst/>
              <a:gdLst/>
              <a:ahLst/>
              <a:rect l="l" t="t" r="r" b="b"/>
              <a:pathLst>
                <a:path w="911" h="403">
                  <a:moveTo>
                    <a:pt x="0" y="37"/>
                  </a:moveTo>
                  <a:lnTo>
                    <a:pt x="30" y="37"/>
                  </a:lnTo>
                  <a:lnTo>
                    <a:pt x="52" y="30"/>
                  </a:lnTo>
                  <a:lnTo>
                    <a:pt x="104" y="22"/>
                  </a:lnTo>
                  <a:lnTo>
                    <a:pt x="127" y="22"/>
                  </a:lnTo>
                  <a:lnTo>
                    <a:pt x="157" y="15"/>
                  </a:lnTo>
                  <a:lnTo>
                    <a:pt x="179" y="15"/>
                  </a:lnTo>
                  <a:lnTo>
                    <a:pt x="231" y="8"/>
                  </a:lnTo>
                  <a:lnTo>
                    <a:pt x="261" y="0"/>
                  </a:lnTo>
                  <a:lnTo>
                    <a:pt x="284" y="0"/>
                  </a:lnTo>
                  <a:lnTo>
                    <a:pt x="911" y="403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913120" y="3024360"/>
              <a:ext cx="403200" cy="448920"/>
            </a:xfrm>
            <a:custGeom>
              <a:avLst/>
              <a:gdLst/>
              <a:ahLst/>
              <a:rect l="l" t="t" r="r" b="b"/>
              <a:pathLst>
                <a:path w="34" h="38">
                  <a:moveTo>
                    <a:pt x="0" y="0"/>
                  </a:moveTo>
                  <a:lnTo>
                    <a:pt x="13" y="0"/>
                  </a:lnTo>
                  <a:lnTo>
                    <a:pt x="34" y="38"/>
                  </a:lnTo>
                </a:path>
              </a:pathLst>
            </a:custGeom>
            <a:noFill/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225520" y="3497400"/>
              <a:ext cx="2335320" cy="581040"/>
            </a:xfrm>
            <a:custGeom>
              <a:avLst/>
              <a:gdLst/>
              <a:ahLst/>
              <a:rect l="l" t="t" r="r" b="b"/>
              <a:pathLst>
                <a:path w="1471" h="366">
                  <a:moveTo>
                    <a:pt x="0" y="164"/>
                  </a:moveTo>
                  <a:lnTo>
                    <a:pt x="15" y="157"/>
                  </a:lnTo>
                  <a:lnTo>
                    <a:pt x="30" y="150"/>
                  </a:lnTo>
                  <a:lnTo>
                    <a:pt x="60" y="135"/>
                  </a:lnTo>
                  <a:lnTo>
                    <a:pt x="75" y="127"/>
                  </a:lnTo>
                  <a:lnTo>
                    <a:pt x="90" y="120"/>
                  </a:lnTo>
                  <a:lnTo>
                    <a:pt x="105" y="112"/>
                  </a:lnTo>
                  <a:lnTo>
                    <a:pt x="120" y="112"/>
                  </a:lnTo>
                  <a:lnTo>
                    <a:pt x="157" y="97"/>
                  </a:lnTo>
                  <a:lnTo>
                    <a:pt x="172" y="90"/>
                  </a:lnTo>
                  <a:lnTo>
                    <a:pt x="194" y="82"/>
                  </a:lnTo>
                  <a:lnTo>
                    <a:pt x="209" y="82"/>
                  </a:lnTo>
                  <a:lnTo>
                    <a:pt x="254" y="67"/>
                  </a:lnTo>
                  <a:lnTo>
                    <a:pt x="269" y="60"/>
                  </a:lnTo>
                  <a:lnTo>
                    <a:pt x="291" y="60"/>
                  </a:lnTo>
                  <a:lnTo>
                    <a:pt x="314" y="53"/>
                  </a:lnTo>
                  <a:lnTo>
                    <a:pt x="336" y="45"/>
                  </a:lnTo>
                  <a:lnTo>
                    <a:pt x="373" y="38"/>
                  </a:lnTo>
                  <a:lnTo>
                    <a:pt x="396" y="30"/>
                  </a:lnTo>
                  <a:lnTo>
                    <a:pt x="418" y="30"/>
                  </a:lnTo>
                  <a:lnTo>
                    <a:pt x="441" y="23"/>
                  </a:lnTo>
                  <a:lnTo>
                    <a:pt x="470" y="15"/>
                  </a:lnTo>
                  <a:lnTo>
                    <a:pt x="515" y="8"/>
                  </a:lnTo>
                  <a:lnTo>
                    <a:pt x="538" y="8"/>
                  </a:lnTo>
                  <a:lnTo>
                    <a:pt x="560" y="0"/>
                  </a:lnTo>
                  <a:lnTo>
                    <a:pt x="1471" y="366"/>
                  </a:lnTo>
                  <a:lnTo>
                    <a:pt x="0" y="16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308320" y="3189240"/>
              <a:ext cx="285480" cy="426960"/>
            </a:xfrm>
            <a:custGeom>
              <a:avLst/>
              <a:gdLst/>
              <a:ahLst/>
              <a:rect l="l" t="t" r="r" b="b"/>
              <a:pathLst>
                <a:path w="24" h="36">
                  <a:moveTo>
                    <a:pt x="0" y="0"/>
                  </a:moveTo>
                  <a:lnTo>
                    <a:pt x="13" y="0"/>
                  </a:lnTo>
                  <a:lnTo>
                    <a:pt x="24" y="36"/>
                  </a:lnTo>
                </a:path>
              </a:pathLst>
            </a:custGeom>
            <a:noFill/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560840" y="3497400"/>
              <a:ext cx="2511360" cy="581040"/>
            </a:xfrm>
            <a:custGeom>
              <a:avLst/>
              <a:gdLst/>
              <a:ahLst/>
              <a:rect l="l" t="t" r="r" b="b"/>
              <a:pathLst>
                <a:path w="1582" h="366">
                  <a:moveTo>
                    <a:pt x="880" y="0"/>
                  </a:moveTo>
                  <a:lnTo>
                    <a:pt x="903" y="0"/>
                  </a:lnTo>
                  <a:lnTo>
                    <a:pt x="955" y="8"/>
                  </a:lnTo>
                  <a:lnTo>
                    <a:pt x="977" y="15"/>
                  </a:lnTo>
                  <a:lnTo>
                    <a:pt x="1000" y="15"/>
                  </a:lnTo>
                  <a:lnTo>
                    <a:pt x="1044" y="30"/>
                  </a:lnTo>
                  <a:lnTo>
                    <a:pt x="1067" y="30"/>
                  </a:lnTo>
                  <a:lnTo>
                    <a:pt x="1089" y="38"/>
                  </a:lnTo>
                  <a:lnTo>
                    <a:pt x="1134" y="45"/>
                  </a:lnTo>
                  <a:lnTo>
                    <a:pt x="1156" y="53"/>
                  </a:lnTo>
                  <a:lnTo>
                    <a:pt x="1171" y="60"/>
                  </a:lnTo>
                  <a:lnTo>
                    <a:pt x="1216" y="67"/>
                  </a:lnTo>
                  <a:lnTo>
                    <a:pt x="1231" y="75"/>
                  </a:lnTo>
                  <a:lnTo>
                    <a:pt x="1253" y="82"/>
                  </a:lnTo>
                  <a:lnTo>
                    <a:pt x="1291" y="90"/>
                  </a:lnTo>
                  <a:lnTo>
                    <a:pt x="1306" y="97"/>
                  </a:lnTo>
                  <a:lnTo>
                    <a:pt x="1328" y="105"/>
                  </a:lnTo>
                  <a:lnTo>
                    <a:pt x="1358" y="112"/>
                  </a:lnTo>
                  <a:lnTo>
                    <a:pt x="1380" y="120"/>
                  </a:lnTo>
                  <a:lnTo>
                    <a:pt x="1395" y="127"/>
                  </a:lnTo>
                  <a:lnTo>
                    <a:pt x="1425" y="142"/>
                  </a:lnTo>
                  <a:lnTo>
                    <a:pt x="1440" y="150"/>
                  </a:lnTo>
                  <a:lnTo>
                    <a:pt x="1455" y="157"/>
                  </a:lnTo>
                  <a:lnTo>
                    <a:pt x="1477" y="164"/>
                  </a:lnTo>
                  <a:lnTo>
                    <a:pt x="1492" y="172"/>
                  </a:lnTo>
                  <a:lnTo>
                    <a:pt x="1507" y="179"/>
                  </a:lnTo>
                  <a:lnTo>
                    <a:pt x="1530" y="194"/>
                  </a:lnTo>
                  <a:lnTo>
                    <a:pt x="1544" y="202"/>
                  </a:lnTo>
                  <a:lnTo>
                    <a:pt x="1552" y="209"/>
                  </a:lnTo>
                  <a:lnTo>
                    <a:pt x="1574" y="224"/>
                  </a:lnTo>
                  <a:lnTo>
                    <a:pt x="1582" y="232"/>
                  </a:lnTo>
                  <a:lnTo>
                    <a:pt x="0" y="366"/>
                  </a:lnTo>
                  <a:lnTo>
                    <a:pt x="880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645240" y="3308400"/>
              <a:ext cx="212760" cy="342720"/>
            </a:xfrm>
            <a:custGeom>
              <a:avLst/>
              <a:gdLst/>
              <a:ahLst/>
              <a:rect l="l" t="t" r="r" b="b"/>
              <a:pathLst>
                <a:path w="18" h="29">
                  <a:moveTo>
                    <a:pt x="18" y="0"/>
                  </a:moveTo>
                  <a:lnTo>
                    <a:pt x="5" y="0"/>
                  </a:lnTo>
                  <a:lnTo>
                    <a:pt x="0" y="29"/>
                  </a:lnTo>
                </a:path>
              </a:pathLst>
            </a:custGeom>
            <a:noFill/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048040" y="3757680"/>
              <a:ext cx="2512800" cy="320760"/>
            </a:xfrm>
            <a:custGeom>
              <a:avLst/>
              <a:gdLst/>
              <a:ahLst/>
              <a:rect l="l" t="t" r="r" b="b"/>
              <a:pathLst>
                <a:path w="1583" h="202">
                  <a:moveTo>
                    <a:pt x="0" y="68"/>
                  </a:moveTo>
                  <a:lnTo>
                    <a:pt x="8" y="60"/>
                  </a:lnTo>
                  <a:lnTo>
                    <a:pt x="15" y="53"/>
                  </a:lnTo>
                  <a:lnTo>
                    <a:pt x="30" y="45"/>
                  </a:lnTo>
                  <a:lnTo>
                    <a:pt x="38" y="38"/>
                  </a:lnTo>
                  <a:lnTo>
                    <a:pt x="60" y="23"/>
                  </a:lnTo>
                  <a:lnTo>
                    <a:pt x="75" y="15"/>
                  </a:lnTo>
                  <a:lnTo>
                    <a:pt x="82" y="8"/>
                  </a:lnTo>
                  <a:lnTo>
                    <a:pt x="97" y="0"/>
                  </a:lnTo>
                  <a:lnTo>
                    <a:pt x="112" y="0"/>
                  </a:lnTo>
                  <a:lnTo>
                    <a:pt x="1583" y="202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811160" y="3403440"/>
              <a:ext cx="320760" cy="401760"/>
            </a:xfrm>
            <a:custGeom>
              <a:avLst/>
              <a:gdLst/>
              <a:ahLst/>
              <a:rect l="l" t="t" r="r" b="b"/>
              <a:pathLst>
                <a:path w="27" h="34">
                  <a:moveTo>
                    <a:pt x="0" y="0"/>
                  </a:moveTo>
                  <a:lnTo>
                    <a:pt x="13" y="0"/>
                  </a:lnTo>
                  <a:lnTo>
                    <a:pt x="27" y="34"/>
                  </a:lnTo>
                </a:path>
              </a:pathLst>
            </a:custGeom>
            <a:noFill/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930320" y="3865680"/>
              <a:ext cx="2630520" cy="212760"/>
            </a:xfrm>
            <a:custGeom>
              <a:avLst/>
              <a:gdLst/>
              <a:ahLst/>
              <a:rect l="l" t="t" r="r" b="b"/>
              <a:pathLst>
                <a:path w="1657" h="134">
                  <a:moveTo>
                    <a:pt x="0" y="82"/>
                  </a:moveTo>
                  <a:lnTo>
                    <a:pt x="7" y="74"/>
                  </a:lnTo>
                  <a:lnTo>
                    <a:pt x="7" y="67"/>
                  </a:lnTo>
                  <a:lnTo>
                    <a:pt x="22" y="52"/>
                  </a:lnTo>
                  <a:lnTo>
                    <a:pt x="30" y="44"/>
                  </a:lnTo>
                  <a:lnTo>
                    <a:pt x="30" y="37"/>
                  </a:lnTo>
                  <a:lnTo>
                    <a:pt x="37" y="29"/>
                  </a:lnTo>
                  <a:lnTo>
                    <a:pt x="52" y="14"/>
                  </a:lnTo>
                  <a:lnTo>
                    <a:pt x="59" y="7"/>
                  </a:lnTo>
                  <a:lnTo>
                    <a:pt x="74" y="0"/>
                  </a:lnTo>
                  <a:lnTo>
                    <a:pt x="1657" y="134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622520" y="3911760"/>
              <a:ext cx="355680" cy="23760"/>
            </a:xfrm>
            <a:custGeom>
              <a:avLst/>
              <a:gdLst/>
              <a:ahLst/>
              <a:rect l="l" t="t" r="r" b="b"/>
              <a:pathLst>
                <a:path w="30" h="2">
                  <a:moveTo>
                    <a:pt x="0" y="0"/>
                  </a:moveTo>
                  <a:lnTo>
                    <a:pt x="13" y="0"/>
                  </a:lnTo>
                  <a:lnTo>
                    <a:pt x="30" y="2"/>
                  </a:lnTo>
                </a:path>
              </a:pathLst>
            </a:custGeom>
            <a:noFill/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1917720" y="4065480"/>
              <a:ext cx="5284800" cy="1420920"/>
            </a:xfrm>
            <a:custGeom>
              <a:avLst/>
              <a:gdLst/>
              <a:ahLst/>
              <a:rect l="l" t="t" r="r" b="b"/>
              <a:pathLst>
                <a:path w="3329" h="895">
                  <a:moveTo>
                    <a:pt x="3329" y="0"/>
                  </a:moveTo>
                  <a:lnTo>
                    <a:pt x="3329" y="8"/>
                  </a:lnTo>
                  <a:lnTo>
                    <a:pt x="3321" y="23"/>
                  </a:lnTo>
                  <a:lnTo>
                    <a:pt x="3321" y="30"/>
                  </a:lnTo>
                  <a:lnTo>
                    <a:pt x="3321" y="38"/>
                  </a:lnTo>
                  <a:lnTo>
                    <a:pt x="3314" y="53"/>
                  </a:lnTo>
                  <a:lnTo>
                    <a:pt x="3314" y="60"/>
                  </a:lnTo>
                  <a:lnTo>
                    <a:pt x="3306" y="67"/>
                  </a:lnTo>
                  <a:lnTo>
                    <a:pt x="3299" y="82"/>
                  </a:lnTo>
                  <a:lnTo>
                    <a:pt x="3292" y="90"/>
                  </a:lnTo>
                  <a:lnTo>
                    <a:pt x="3284" y="97"/>
                  </a:lnTo>
                  <a:lnTo>
                    <a:pt x="3269" y="112"/>
                  </a:lnTo>
                  <a:lnTo>
                    <a:pt x="3262" y="120"/>
                  </a:lnTo>
                  <a:lnTo>
                    <a:pt x="3254" y="127"/>
                  </a:lnTo>
                  <a:lnTo>
                    <a:pt x="3239" y="142"/>
                  </a:lnTo>
                  <a:lnTo>
                    <a:pt x="3224" y="150"/>
                  </a:lnTo>
                  <a:lnTo>
                    <a:pt x="3217" y="157"/>
                  </a:lnTo>
                  <a:lnTo>
                    <a:pt x="3195" y="172"/>
                  </a:lnTo>
                  <a:lnTo>
                    <a:pt x="3180" y="179"/>
                  </a:lnTo>
                  <a:lnTo>
                    <a:pt x="3172" y="187"/>
                  </a:lnTo>
                  <a:lnTo>
                    <a:pt x="3142" y="194"/>
                  </a:lnTo>
                  <a:lnTo>
                    <a:pt x="3135" y="202"/>
                  </a:lnTo>
                  <a:lnTo>
                    <a:pt x="3120" y="209"/>
                  </a:lnTo>
                  <a:lnTo>
                    <a:pt x="3090" y="224"/>
                  </a:lnTo>
                  <a:lnTo>
                    <a:pt x="3075" y="232"/>
                  </a:lnTo>
                  <a:lnTo>
                    <a:pt x="3060" y="239"/>
                  </a:lnTo>
                  <a:lnTo>
                    <a:pt x="3023" y="246"/>
                  </a:lnTo>
                  <a:lnTo>
                    <a:pt x="3008" y="254"/>
                  </a:lnTo>
                  <a:lnTo>
                    <a:pt x="2993" y="261"/>
                  </a:lnTo>
                  <a:lnTo>
                    <a:pt x="2956" y="269"/>
                  </a:lnTo>
                  <a:lnTo>
                    <a:pt x="2941" y="276"/>
                  </a:lnTo>
                  <a:lnTo>
                    <a:pt x="2918" y="284"/>
                  </a:lnTo>
                  <a:lnTo>
                    <a:pt x="2881" y="291"/>
                  </a:lnTo>
                  <a:lnTo>
                    <a:pt x="2859" y="299"/>
                  </a:lnTo>
                  <a:lnTo>
                    <a:pt x="2836" y="306"/>
                  </a:lnTo>
                  <a:lnTo>
                    <a:pt x="2799" y="314"/>
                  </a:lnTo>
                  <a:lnTo>
                    <a:pt x="2777" y="321"/>
                  </a:lnTo>
                  <a:lnTo>
                    <a:pt x="2754" y="329"/>
                  </a:lnTo>
                  <a:lnTo>
                    <a:pt x="2709" y="336"/>
                  </a:lnTo>
                  <a:lnTo>
                    <a:pt x="2687" y="343"/>
                  </a:lnTo>
                  <a:lnTo>
                    <a:pt x="2665" y="343"/>
                  </a:lnTo>
                  <a:lnTo>
                    <a:pt x="2620" y="351"/>
                  </a:lnTo>
                  <a:lnTo>
                    <a:pt x="2590" y="358"/>
                  </a:lnTo>
                  <a:lnTo>
                    <a:pt x="2568" y="358"/>
                  </a:lnTo>
                  <a:lnTo>
                    <a:pt x="2523" y="373"/>
                  </a:lnTo>
                  <a:lnTo>
                    <a:pt x="2493" y="373"/>
                  </a:lnTo>
                  <a:lnTo>
                    <a:pt x="2471" y="381"/>
                  </a:lnTo>
                  <a:lnTo>
                    <a:pt x="2418" y="381"/>
                  </a:lnTo>
                  <a:lnTo>
                    <a:pt x="2396" y="388"/>
                  </a:lnTo>
                  <a:lnTo>
                    <a:pt x="2366" y="388"/>
                  </a:lnTo>
                  <a:lnTo>
                    <a:pt x="2314" y="396"/>
                  </a:lnTo>
                  <a:lnTo>
                    <a:pt x="2284" y="403"/>
                  </a:lnTo>
                  <a:lnTo>
                    <a:pt x="2262" y="403"/>
                  </a:lnTo>
                  <a:lnTo>
                    <a:pt x="2202" y="411"/>
                  </a:lnTo>
                  <a:lnTo>
                    <a:pt x="2180" y="411"/>
                  </a:lnTo>
                  <a:lnTo>
                    <a:pt x="2150" y="411"/>
                  </a:lnTo>
                  <a:lnTo>
                    <a:pt x="2090" y="418"/>
                  </a:lnTo>
                  <a:lnTo>
                    <a:pt x="2068" y="418"/>
                  </a:lnTo>
                  <a:lnTo>
                    <a:pt x="2038" y="418"/>
                  </a:lnTo>
                  <a:lnTo>
                    <a:pt x="1978" y="426"/>
                  </a:lnTo>
                  <a:lnTo>
                    <a:pt x="1948" y="426"/>
                  </a:lnTo>
                  <a:lnTo>
                    <a:pt x="1926" y="426"/>
                  </a:lnTo>
                  <a:lnTo>
                    <a:pt x="1866" y="426"/>
                  </a:lnTo>
                  <a:lnTo>
                    <a:pt x="1836" y="426"/>
                  </a:lnTo>
                  <a:lnTo>
                    <a:pt x="1806" y="433"/>
                  </a:lnTo>
                  <a:lnTo>
                    <a:pt x="1747" y="433"/>
                  </a:lnTo>
                  <a:lnTo>
                    <a:pt x="1724" y="433"/>
                  </a:lnTo>
                  <a:lnTo>
                    <a:pt x="1694" y="433"/>
                  </a:lnTo>
                  <a:lnTo>
                    <a:pt x="1635" y="433"/>
                  </a:lnTo>
                  <a:lnTo>
                    <a:pt x="1605" y="433"/>
                  </a:lnTo>
                  <a:lnTo>
                    <a:pt x="1575" y="433"/>
                  </a:lnTo>
                  <a:lnTo>
                    <a:pt x="1515" y="433"/>
                  </a:lnTo>
                  <a:lnTo>
                    <a:pt x="1485" y="426"/>
                  </a:lnTo>
                  <a:lnTo>
                    <a:pt x="1463" y="426"/>
                  </a:lnTo>
                  <a:lnTo>
                    <a:pt x="1403" y="426"/>
                  </a:lnTo>
                  <a:lnTo>
                    <a:pt x="1373" y="426"/>
                  </a:lnTo>
                  <a:lnTo>
                    <a:pt x="1344" y="426"/>
                  </a:lnTo>
                  <a:lnTo>
                    <a:pt x="1291" y="418"/>
                  </a:lnTo>
                  <a:lnTo>
                    <a:pt x="1262" y="418"/>
                  </a:lnTo>
                  <a:lnTo>
                    <a:pt x="1232" y="418"/>
                  </a:lnTo>
                  <a:lnTo>
                    <a:pt x="1179" y="411"/>
                  </a:lnTo>
                  <a:lnTo>
                    <a:pt x="1150" y="411"/>
                  </a:lnTo>
                  <a:lnTo>
                    <a:pt x="1120" y="411"/>
                  </a:lnTo>
                  <a:lnTo>
                    <a:pt x="1067" y="403"/>
                  </a:lnTo>
                  <a:lnTo>
                    <a:pt x="1038" y="403"/>
                  </a:lnTo>
                  <a:lnTo>
                    <a:pt x="1015" y="396"/>
                  </a:lnTo>
                  <a:lnTo>
                    <a:pt x="963" y="388"/>
                  </a:lnTo>
                  <a:lnTo>
                    <a:pt x="933" y="388"/>
                  </a:lnTo>
                  <a:lnTo>
                    <a:pt x="911" y="381"/>
                  </a:lnTo>
                  <a:lnTo>
                    <a:pt x="858" y="381"/>
                  </a:lnTo>
                  <a:lnTo>
                    <a:pt x="829" y="373"/>
                  </a:lnTo>
                  <a:lnTo>
                    <a:pt x="806" y="373"/>
                  </a:lnTo>
                  <a:lnTo>
                    <a:pt x="754" y="358"/>
                  </a:lnTo>
                  <a:lnTo>
                    <a:pt x="732" y="358"/>
                  </a:lnTo>
                  <a:lnTo>
                    <a:pt x="709" y="351"/>
                  </a:lnTo>
                  <a:lnTo>
                    <a:pt x="664" y="343"/>
                  </a:lnTo>
                  <a:lnTo>
                    <a:pt x="635" y="343"/>
                  </a:lnTo>
                  <a:lnTo>
                    <a:pt x="612" y="336"/>
                  </a:lnTo>
                  <a:lnTo>
                    <a:pt x="567" y="329"/>
                  </a:lnTo>
                  <a:lnTo>
                    <a:pt x="552" y="321"/>
                  </a:lnTo>
                  <a:lnTo>
                    <a:pt x="530" y="314"/>
                  </a:lnTo>
                  <a:lnTo>
                    <a:pt x="485" y="306"/>
                  </a:lnTo>
                  <a:lnTo>
                    <a:pt x="463" y="299"/>
                  </a:lnTo>
                  <a:lnTo>
                    <a:pt x="448" y="291"/>
                  </a:lnTo>
                  <a:lnTo>
                    <a:pt x="403" y="284"/>
                  </a:lnTo>
                  <a:lnTo>
                    <a:pt x="388" y="276"/>
                  </a:lnTo>
                  <a:lnTo>
                    <a:pt x="366" y="269"/>
                  </a:lnTo>
                  <a:lnTo>
                    <a:pt x="336" y="261"/>
                  </a:lnTo>
                  <a:lnTo>
                    <a:pt x="314" y="254"/>
                  </a:lnTo>
                  <a:lnTo>
                    <a:pt x="299" y="246"/>
                  </a:lnTo>
                  <a:lnTo>
                    <a:pt x="269" y="239"/>
                  </a:lnTo>
                  <a:lnTo>
                    <a:pt x="254" y="232"/>
                  </a:lnTo>
                  <a:lnTo>
                    <a:pt x="239" y="224"/>
                  </a:lnTo>
                  <a:lnTo>
                    <a:pt x="209" y="209"/>
                  </a:lnTo>
                  <a:lnTo>
                    <a:pt x="194" y="202"/>
                  </a:lnTo>
                  <a:lnTo>
                    <a:pt x="179" y="194"/>
                  </a:lnTo>
                  <a:lnTo>
                    <a:pt x="157" y="187"/>
                  </a:lnTo>
                  <a:lnTo>
                    <a:pt x="142" y="179"/>
                  </a:lnTo>
                  <a:lnTo>
                    <a:pt x="127" y="172"/>
                  </a:lnTo>
                  <a:lnTo>
                    <a:pt x="112" y="157"/>
                  </a:lnTo>
                  <a:lnTo>
                    <a:pt x="97" y="150"/>
                  </a:lnTo>
                  <a:lnTo>
                    <a:pt x="90" y="142"/>
                  </a:lnTo>
                  <a:lnTo>
                    <a:pt x="67" y="127"/>
                  </a:lnTo>
                  <a:lnTo>
                    <a:pt x="60" y="120"/>
                  </a:lnTo>
                  <a:lnTo>
                    <a:pt x="52" y="112"/>
                  </a:lnTo>
                  <a:lnTo>
                    <a:pt x="38" y="97"/>
                  </a:lnTo>
                  <a:lnTo>
                    <a:pt x="38" y="90"/>
                  </a:lnTo>
                  <a:lnTo>
                    <a:pt x="30" y="82"/>
                  </a:lnTo>
                  <a:lnTo>
                    <a:pt x="15" y="67"/>
                  </a:lnTo>
                  <a:lnTo>
                    <a:pt x="15" y="60"/>
                  </a:lnTo>
                  <a:lnTo>
                    <a:pt x="8" y="53"/>
                  </a:lnTo>
                  <a:lnTo>
                    <a:pt x="8" y="38"/>
                  </a:lnTo>
                  <a:lnTo>
                    <a:pt x="0" y="30"/>
                  </a:lnTo>
                  <a:lnTo>
                    <a:pt x="0" y="23"/>
                  </a:lnTo>
                  <a:lnTo>
                    <a:pt x="0" y="8"/>
                  </a:lnTo>
                  <a:lnTo>
                    <a:pt x="0" y="0"/>
                  </a:lnTo>
                  <a:lnTo>
                    <a:pt x="0" y="463"/>
                  </a:lnTo>
                  <a:lnTo>
                    <a:pt x="0" y="470"/>
                  </a:lnTo>
                  <a:lnTo>
                    <a:pt x="0" y="485"/>
                  </a:lnTo>
                  <a:lnTo>
                    <a:pt x="0" y="493"/>
                  </a:lnTo>
                  <a:lnTo>
                    <a:pt x="8" y="500"/>
                  </a:lnTo>
                  <a:lnTo>
                    <a:pt x="8" y="515"/>
                  </a:lnTo>
                  <a:lnTo>
                    <a:pt x="15" y="522"/>
                  </a:lnTo>
                  <a:lnTo>
                    <a:pt x="15" y="530"/>
                  </a:lnTo>
                  <a:lnTo>
                    <a:pt x="30" y="545"/>
                  </a:lnTo>
                  <a:lnTo>
                    <a:pt x="38" y="552"/>
                  </a:lnTo>
                  <a:lnTo>
                    <a:pt x="38" y="560"/>
                  </a:lnTo>
                  <a:lnTo>
                    <a:pt x="52" y="575"/>
                  </a:lnTo>
                  <a:lnTo>
                    <a:pt x="60" y="582"/>
                  </a:lnTo>
                  <a:lnTo>
                    <a:pt x="67" y="590"/>
                  </a:lnTo>
                  <a:lnTo>
                    <a:pt x="90" y="605"/>
                  </a:lnTo>
                  <a:lnTo>
                    <a:pt x="97" y="612"/>
                  </a:lnTo>
                  <a:lnTo>
                    <a:pt x="112" y="619"/>
                  </a:lnTo>
                  <a:lnTo>
                    <a:pt x="127" y="634"/>
                  </a:lnTo>
                  <a:lnTo>
                    <a:pt x="142" y="642"/>
                  </a:lnTo>
                  <a:lnTo>
                    <a:pt x="157" y="649"/>
                  </a:lnTo>
                  <a:lnTo>
                    <a:pt x="179" y="657"/>
                  </a:lnTo>
                  <a:lnTo>
                    <a:pt x="194" y="664"/>
                  </a:lnTo>
                  <a:lnTo>
                    <a:pt x="209" y="672"/>
                  </a:lnTo>
                  <a:lnTo>
                    <a:pt x="239" y="687"/>
                  </a:lnTo>
                  <a:lnTo>
                    <a:pt x="254" y="694"/>
                  </a:lnTo>
                  <a:lnTo>
                    <a:pt x="269" y="701"/>
                  </a:lnTo>
                  <a:lnTo>
                    <a:pt x="299" y="709"/>
                  </a:lnTo>
                  <a:lnTo>
                    <a:pt x="314" y="716"/>
                  </a:lnTo>
                  <a:lnTo>
                    <a:pt x="336" y="724"/>
                  </a:lnTo>
                  <a:lnTo>
                    <a:pt x="366" y="731"/>
                  </a:lnTo>
                  <a:lnTo>
                    <a:pt x="388" y="739"/>
                  </a:lnTo>
                  <a:lnTo>
                    <a:pt x="403" y="746"/>
                  </a:lnTo>
                  <a:lnTo>
                    <a:pt x="448" y="754"/>
                  </a:lnTo>
                  <a:lnTo>
                    <a:pt x="463" y="761"/>
                  </a:lnTo>
                  <a:lnTo>
                    <a:pt x="485" y="769"/>
                  </a:lnTo>
                  <a:lnTo>
                    <a:pt x="530" y="776"/>
                  </a:lnTo>
                  <a:lnTo>
                    <a:pt x="552" y="784"/>
                  </a:lnTo>
                  <a:lnTo>
                    <a:pt x="567" y="791"/>
                  </a:lnTo>
                  <a:lnTo>
                    <a:pt x="612" y="798"/>
                  </a:lnTo>
                  <a:lnTo>
                    <a:pt x="635" y="806"/>
                  </a:lnTo>
                  <a:lnTo>
                    <a:pt x="664" y="806"/>
                  </a:lnTo>
                  <a:lnTo>
                    <a:pt x="709" y="813"/>
                  </a:lnTo>
                  <a:lnTo>
                    <a:pt x="732" y="821"/>
                  </a:lnTo>
                  <a:lnTo>
                    <a:pt x="754" y="821"/>
                  </a:lnTo>
                  <a:lnTo>
                    <a:pt x="806" y="836"/>
                  </a:lnTo>
                  <a:lnTo>
                    <a:pt x="829" y="836"/>
                  </a:lnTo>
                  <a:lnTo>
                    <a:pt x="858" y="843"/>
                  </a:lnTo>
                  <a:lnTo>
                    <a:pt x="911" y="843"/>
                  </a:lnTo>
                  <a:lnTo>
                    <a:pt x="933" y="851"/>
                  </a:lnTo>
                  <a:lnTo>
                    <a:pt x="963" y="851"/>
                  </a:lnTo>
                  <a:lnTo>
                    <a:pt x="1015" y="858"/>
                  </a:lnTo>
                  <a:lnTo>
                    <a:pt x="1038" y="866"/>
                  </a:lnTo>
                  <a:lnTo>
                    <a:pt x="1067" y="866"/>
                  </a:lnTo>
                  <a:lnTo>
                    <a:pt x="1120" y="873"/>
                  </a:lnTo>
                  <a:lnTo>
                    <a:pt x="1150" y="873"/>
                  </a:lnTo>
                  <a:lnTo>
                    <a:pt x="1179" y="873"/>
                  </a:lnTo>
                  <a:lnTo>
                    <a:pt x="1232" y="880"/>
                  </a:lnTo>
                  <a:lnTo>
                    <a:pt x="1262" y="880"/>
                  </a:lnTo>
                  <a:lnTo>
                    <a:pt x="1291" y="880"/>
                  </a:lnTo>
                  <a:lnTo>
                    <a:pt x="1344" y="888"/>
                  </a:lnTo>
                  <a:lnTo>
                    <a:pt x="1373" y="888"/>
                  </a:lnTo>
                  <a:lnTo>
                    <a:pt x="1403" y="888"/>
                  </a:lnTo>
                  <a:lnTo>
                    <a:pt x="1463" y="888"/>
                  </a:lnTo>
                  <a:lnTo>
                    <a:pt x="1485" y="888"/>
                  </a:lnTo>
                  <a:lnTo>
                    <a:pt x="1515" y="895"/>
                  </a:lnTo>
                  <a:lnTo>
                    <a:pt x="1575" y="895"/>
                  </a:lnTo>
                  <a:lnTo>
                    <a:pt x="1605" y="895"/>
                  </a:lnTo>
                  <a:lnTo>
                    <a:pt x="1635" y="895"/>
                  </a:lnTo>
                  <a:lnTo>
                    <a:pt x="1694" y="895"/>
                  </a:lnTo>
                  <a:lnTo>
                    <a:pt x="1724" y="895"/>
                  </a:lnTo>
                  <a:lnTo>
                    <a:pt x="1747" y="895"/>
                  </a:lnTo>
                  <a:lnTo>
                    <a:pt x="1806" y="895"/>
                  </a:lnTo>
                  <a:lnTo>
                    <a:pt x="1836" y="888"/>
                  </a:lnTo>
                  <a:lnTo>
                    <a:pt x="1866" y="888"/>
                  </a:lnTo>
                  <a:lnTo>
                    <a:pt x="1926" y="888"/>
                  </a:lnTo>
                  <a:lnTo>
                    <a:pt x="1948" y="888"/>
                  </a:lnTo>
                  <a:lnTo>
                    <a:pt x="1978" y="888"/>
                  </a:lnTo>
                  <a:lnTo>
                    <a:pt x="2038" y="880"/>
                  </a:lnTo>
                  <a:lnTo>
                    <a:pt x="2068" y="880"/>
                  </a:lnTo>
                  <a:lnTo>
                    <a:pt x="2090" y="880"/>
                  </a:lnTo>
                  <a:lnTo>
                    <a:pt x="2150" y="873"/>
                  </a:lnTo>
                  <a:lnTo>
                    <a:pt x="2180" y="873"/>
                  </a:lnTo>
                  <a:lnTo>
                    <a:pt x="2202" y="873"/>
                  </a:lnTo>
                  <a:lnTo>
                    <a:pt x="2262" y="866"/>
                  </a:lnTo>
                  <a:lnTo>
                    <a:pt x="2284" y="866"/>
                  </a:lnTo>
                  <a:lnTo>
                    <a:pt x="2314" y="858"/>
                  </a:lnTo>
                  <a:lnTo>
                    <a:pt x="2366" y="851"/>
                  </a:lnTo>
                  <a:lnTo>
                    <a:pt x="2396" y="851"/>
                  </a:lnTo>
                  <a:lnTo>
                    <a:pt x="2418" y="843"/>
                  </a:lnTo>
                  <a:lnTo>
                    <a:pt x="2471" y="843"/>
                  </a:lnTo>
                  <a:lnTo>
                    <a:pt x="2493" y="836"/>
                  </a:lnTo>
                  <a:lnTo>
                    <a:pt x="2523" y="836"/>
                  </a:lnTo>
                  <a:lnTo>
                    <a:pt x="2568" y="821"/>
                  </a:lnTo>
                  <a:lnTo>
                    <a:pt x="2590" y="821"/>
                  </a:lnTo>
                  <a:lnTo>
                    <a:pt x="2620" y="813"/>
                  </a:lnTo>
                  <a:lnTo>
                    <a:pt x="2665" y="806"/>
                  </a:lnTo>
                  <a:lnTo>
                    <a:pt x="2687" y="806"/>
                  </a:lnTo>
                  <a:lnTo>
                    <a:pt x="2709" y="798"/>
                  </a:lnTo>
                  <a:lnTo>
                    <a:pt x="2754" y="791"/>
                  </a:lnTo>
                  <a:lnTo>
                    <a:pt x="2777" y="784"/>
                  </a:lnTo>
                  <a:lnTo>
                    <a:pt x="2799" y="776"/>
                  </a:lnTo>
                  <a:lnTo>
                    <a:pt x="2836" y="769"/>
                  </a:lnTo>
                  <a:lnTo>
                    <a:pt x="2859" y="761"/>
                  </a:lnTo>
                  <a:lnTo>
                    <a:pt x="2881" y="754"/>
                  </a:lnTo>
                  <a:lnTo>
                    <a:pt x="2918" y="746"/>
                  </a:lnTo>
                  <a:lnTo>
                    <a:pt x="2941" y="739"/>
                  </a:lnTo>
                  <a:lnTo>
                    <a:pt x="2956" y="731"/>
                  </a:lnTo>
                  <a:lnTo>
                    <a:pt x="2993" y="724"/>
                  </a:lnTo>
                  <a:lnTo>
                    <a:pt x="3008" y="716"/>
                  </a:lnTo>
                  <a:lnTo>
                    <a:pt x="3023" y="709"/>
                  </a:lnTo>
                  <a:lnTo>
                    <a:pt x="3060" y="701"/>
                  </a:lnTo>
                  <a:lnTo>
                    <a:pt x="3075" y="694"/>
                  </a:lnTo>
                  <a:lnTo>
                    <a:pt x="3090" y="687"/>
                  </a:lnTo>
                  <a:lnTo>
                    <a:pt x="3120" y="672"/>
                  </a:lnTo>
                  <a:lnTo>
                    <a:pt x="3135" y="664"/>
                  </a:lnTo>
                  <a:lnTo>
                    <a:pt x="3142" y="657"/>
                  </a:lnTo>
                  <a:lnTo>
                    <a:pt x="3172" y="649"/>
                  </a:lnTo>
                  <a:lnTo>
                    <a:pt x="3180" y="642"/>
                  </a:lnTo>
                  <a:lnTo>
                    <a:pt x="3195" y="634"/>
                  </a:lnTo>
                  <a:lnTo>
                    <a:pt x="3217" y="619"/>
                  </a:lnTo>
                  <a:lnTo>
                    <a:pt x="3224" y="612"/>
                  </a:lnTo>
                  <a:lnTo>
                    <a:pt x="3239" y="605"/>
                  </a:lnTo>
                  <a:lnTo>
                    <a:pt x="3254" y="590"/>
                  </a:lnTo>
                  <a:lnTo>
                    <a:pt x="3262" y="582"/>
                  </a:lnTo>
                  <a:lnTo>
                    <a:pt x="3269" y="575"/>
                  </a:lnTo>
                  <a:lnTo>
                    <a:pt x="3284" y="560"/>
                  </a:lnTo>
                  <a:lnTo>
                    <a:pt x="3292" y="552"/>
                  </a:lnTo>
                  <a:lnTo>
                    <a:pt x="3299" y="545"/>
                  </a:lnTo>
                  <a:lnTo>
                    <a:pt x="3306" y="530"/>
                  </a:lnTo>
                  <a:lnTo>
                    <a:pt x="3314" y="522"/>
                  </a:lnTo>
                  <a:lnTo>
                    <a:pt x="3314" y="515"/>
                  </a:lnTo>
                  <a:lnTo>
                    <a:pt x="3321" y="500"/>
                  </a:lnTo>
                  <a:lnTo>
                    <a:pt x="3321" y="493"/>
                  </a:lnTo>
                  <a:lnTo>
                    <a:pt x="3321" y="485"/>
                  </a:lnTo>
                  <a:lnTo>
                    <a:pt x="3329" y="470"/>
                  </a:lnTo>
                  <a:lnTo>
                    <a:pt x="3329" y="463"/>
                  </a:lnTo>
                  <a:lnTo>
                    <a:pt x="3329" y="0"/>
                  </a:lnTo>
                  <a:close/>
                </a:path>
              </a:pathLst>
            </a:custGeom>
            <a:solidFill>
              <a:srgbClr val="8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17720" y="3865680"/>
              <a:ext cx="5284800" cy="898560"/>
            </a:xfrm>
            <a:custGeom>
              <a:avLst/>
              <a:gdLst/>
              <a:ahLst/>
              <a:rect l="l" t="t" r="r" b="b"/>
              <a:pathLst>
                <a:path w="3329" h="566">
                  <a:moveTo>
                    <a:pt x="3247" y="0"/>
                  </a:moveTo>
                  <a:lnTo>
                    <a:pt x="3254" y="7"/>
                  </a:lnTo>
                  <a:lnTo>
                    <a:pt x="3269" y="22"/>
                  </a:lnTo>
                  <a:lnTo>
                    <a:pt x="3277" y="29"/>
                  </a:lnTo>
                  <a:lnTo>
                    <a:pt x="3284" y="37"/>
                  </a:lnTo>
                  <a:lnTo>
                    <a:pt x="3299" y="52"/>
                  </a:lnTo>
                  <a:lnTo>
                    <a:pt x="3299" y="59"/>
                  </a:lnTo>
                  <a:lnTo>
                    <a:pt x="3306" y="67"/>
                  </a:lnTo>
                  <a:lnTo>
                    <a:pt x="3314" y="82"/>
                  </a:lnTo>
                  <a:lnTo>
                    <a:pt x="3321" y="89"/>
                  </a:lnTo>
                  <a:lnTo>
                    <a:pt x="3321" y="97"/>
                  </a:lnTo>
                  <a:lnTo>
                    <a:pt x="3321" y="104"/>
                  </a:lnTo>
                  <a:lnTo>
                    <a:pt x="3329" y="119"/>
                  </a:lnTo>
                  <a:lnTo>
                    <a:pt x="3329" y="126"/>
                  </a:lnTo>
                  <a:lnTo>
                    <a:pt x="3329" y="134"/>
                  </a:lnTo>
                  <a:lnTo>
                    <a:pt x="3329" y="149"/>
                  </a:lnTo>
                  <a:lnTo>
                    <a:pt x="3321" y="156"/>
                  </a:lnTo>
                  <a:lnTo>
                    <a:pt x="3321" y="164"/>
                  </a:lnTo>
                  <a:lnTo>
                    <a:pt x="3321" y="179"/>
                  </a:lnTo>
                  <a:lnTo>
                    <a:pt x="3314" y="186"/>
                  </a:lnTo>
                  <a:lnTo>
                    <a:pt x="3314" y="193"/>
                  </a:lnTo>
                  <a:lnTo>
                    <a:pt x="3299" y="208"/>
                  </a:lnTo>
                  <a:lnTo>
                    <a:pt x="3299" y="216"/>
                  </a:lnTo>
                  <a:lnTo>
                    <a:pt x="3292" y="223"/>
                  </a:lnTo>
                  <a:lnTo>
                    <a:pt x="3277" y="238"/>
                  </a:lnTo>
                  <a:lnTo>
                    <a:pt x="3269" y="246"/>
                  </a:lnTo>
                  <a:lnTo>
                    <a:pt x="3262" y="253"/>
                  </a:lnTo>
                  <a:lnTo>
                    <a:pt x="3254" y="261"/>
                  </a:lnTo>
                  <a:lnTo>
                    <a:pt x="3239" y="276"/>
                  </a:lnTo>
                  <a:lnTo>
                    <a:pt x="3224" y="283"/>
                  </a:lnTo>
                  <a:lnTo>
                    <a:pt x="3217" y="290"/>
                  </a:lnTo>
                  <a:lnTo>
                    <a:pt x="3195" y="298"/>
                  </a:lnTo>
                  <a:lnTo>
                    <a:pt x="3180" y="305"/>
                  </a:lnTo>
                  <a:lnTo>
                    <a:pt x="3172" y="313"/>
                  </a:lnTo>
                  <a:lnTo>
                    <a:pt x="3142" y="328"/>
                  </a:lnTo>
                  <a:lnTo>
                    <a:pt x="3135" y="335"/>
                  </a:lnTo>
                  <a:lnTo>
                    <a:pt x="3120" y="343"/>
                  </a:lnTo>
                  <a:lnTo>
                    <a:pt x="3090" y="358"/>
                  </a:lnTo>
                  <a:lnTo>
                    <a:pt x="3075" y="358"/>
                  </a:lnTo>
                  <a:lnTo>
                    <a:pt x="3060" y="365"/>
                  </a:lnTo>
                  <a:lnTo>
                    <a:pt x="3023" y="380"/>
                  </a:lnTo>
                  <a:lnTo>
                    <a:pt x="3008" y="387"/>
                  </a:lnTo>
                  <a:lnTo>
                    <a:pt x="2993" y="395"/>
                  </a:lnTo>
                  <a:lnTo>
                    <a:pt x="2956" y="402"/>
                  </a:lnTo>
                  <a:lnTo>
                    <a:pt x="2941" y="410"/>
                  </a:lnTo>
                  <a:lnTo>
                    <a:pt x="2918" y="417"/>
                  </a:lnTo>
                  <a:lnTo>
                    <a:pt x="2896" y="425"/>
                  </a:lnTo>
                  <a:lnTo>
                    <a:pt x="2859" y="432"/>
                  </a:lnTo>
                  <a:lnTo>
                    <a:pt x="2836" y="440"/>
                  </a:lnTo>
                  <a:lnTo>
                    <a:pt x="2821" y="440"/>
                  </a:lnTo>
                  <a:lnTo>
                    <a:pt x="2777" y="455"/>
                  </a:lnTo>
                  <a:lnTo>
                    <a:pt x="2754" y="462"/>
                  </a:lnTo>
                  <a:lnTo>
                    <a:pt x="2732" y="462"/>
                  </a:lnTo>
                  <a:lnTo>
                    <a:pt x="2687" y="469"/>
                  </a:lnTo>
                  <a:lnTo>
                    <a:pt x="2665" y="477"/>
                  </a:lnTo>
                  <a:lnTo>
                    <a:pt x="2642" y="484"/>
                  </a:lnTo>
                  <a:lnTo>
                    <a:pt x="2590" y="492"/>
                  </a:lnTo>
                  <a:lnTo>
                    <a:pt x="2568" y="492"/>
                  </a:lnTo>
                  <a:lnTo>
                    <a:pt x="2545" y="499"/>
                  </a:lnTo>
                  <a:lnTo>
                    <a:pt x="2493" y="507"/>
                  </a:lnTo>
                  <a:lnTo>
                    <a:pt x="2471" y="507"/>
                  </a:lnTo>
                  <a:lnTo>
                    <a:pt x="2441" y="514"/>
                  </a:lnTo>
                  <a:lnTo>
                    <a:pt x="2418" y="514"/>
                  </a:lnTo>
                  <a:lnTo>
                    <a:pt x="2366" y="522"/>
                  </a:lnTo>
                  <a:lnTo>
                    <a:pt x="2336" y="529"/>
                  </a:lnTo>
                  <a:lnTo>
                    <a:pt x="2314" y="529"/>
                  </a:lnTo>
                  <a:lnTo>
                    <a:pt x="2262" y="537"/>
                  </a:lnTo>
                  <a:lnTo>
                    <a:pt x="2232" y="537"/>
                  </a:lnTo>
                  <a:lnTo>
                    <a:pt x="2202" y="544"/>
                  </a:lnTo>
                  <a:lnTo>
                    <a:pt x="2150" y="544"/>
                  </a:lnTo>
                  <a:lnTo>
                    <a:pt x="2120" y="552"/>
                  </a:lnTo>
                  <a:lnTo>
                    <a:pt x="2090" y="552"/>
                  </a:lnTo>
                  <a:lnTo>
                    <a:pt x="2038" y="552"/>
                  </a:lnTo>
                  <a:lnTo>
                    <a:pt x="2008" y="552"/>
                  </a:lnTo>
                  <a:lnTo>
                    <a:pt x="1978" y="559"/>
                  </a:lnTo>
                  <a:lnTo>
                    <a:pt x="1926" y="559"/>
                  </a:lnTo>
                  <a:lnTo>
                    <a:pt x="1896" y="559"/>
                  </a:lnTo>
                  <a:lnTo>
                    <a:pt x="1866" y="559"/>
                  </a:lnTo>
                  <a:lnTo>
                    <a:pt x="1806" y="566"/>
                  </a:lnTo>
                  <a:lnTo>
                    <a:pt x="1776" y="566"/>
                  </a:lnTo>
                  <a:lnTo>
                    <a:pt x="1747" y="566"/>
                  </a:lnTo>
                  <a:lnTo>
                    <a:pt x="1724" y="566"/>
                  </a:lnTo>
                  <a:lnTo>
                    <a:pt x="1665" y="566"/>
                  </a:lnTo>
                  <a:lnTo>
                    <a:pt x="1635" y="566"/>
                  </a:lnTo>
                  <a:lnTo>
                    <a:pt x="1605" y="566"/>
                  </a:lnTo>
                  <a:lnTo>
                    <a:pt x="1545" y="566"/>
                  </a:lnTo>
                  <a:lnTo>
                    <a:pt x="1515" y="566"/>
                  </a:lnTo>
                  <a:lnTo>
                    <a:pt x="1485" y="559"/>
                  </a:lnTo>
                  <a:lnTo>
                    <a:pt x="1433" y="559"/>
                  </a:lnTo>
                  <a:lnTo>
                    <a:pt x="1403" y="559"/>
                  </a:lnTo>
                  <a:lnTo>
                    <a:pt x="1373" y="559"/>
                  </a:lnTo>
                  <a:lnTo>
                    <a:pt x="1314" y="552"/>
                  </a:lnTo>
                  <a:lnTo>
                    <a:pt x="1291" y="552"/>
                  </a:lnTo>
                  <a:lnTo>
                    <a:pt x="1262" y="552"/>
                  </a:lnTo>
                  <a:lnTo>
                    <a:pt x="1202" y="552"/>
                  </a:lnTo>
                  <a:lnTo>
                    <a:pt x="1179" y="544"/>
                  </a:lnTo>
                  <a:lnTo>
                    <a:pt x="1150" y="544"/>
                  </a:lnTo>
                  <a:lnTo>
                    <a:pt x="1120" y="544"/>
                  </a:lnTo>
                  <a:lnTo>
                    <a:pt x="1067" y="537"/>
                  </a:lnTo>
                  <a:lnTo>
                    <a:pt x="1038" y="537"/>
                  </a:lnTo>
                  <a:lnTo>
                    <a:pt x="1015" y="529"/>
                  </a:lnTo>
                  <a:lnTo>
                    <a:pt x="963" y="522"/>
                  </a:lnTo>
                  <a:lnTo>
                    <a:pt x="933" y="522"/>
                  </a:lnTo>
                  <a:lnTo>
                    <a:pt x="911" y="514"/>
                  </a:lnTo>
                  <a:lnTo>
                    <a:pt x="858" y="507"/>
                  </a:lnTo>
                  <a:lnTo>
                    <a:pt x="829" y="507"/>
                  </a:lnTo>
                  <a:lnTo>
                    <a:pt x="806" y="499"/>
                  </a:lnTo>
                  <a:lnTo>
                    <a:pt x="754" y="492"/>
                  </a:lnTo>
                  <a:lnTo>
                    <a:pt x="732" y="492"/>
                  </a:lnTo>
                  <a:lnTo>
                    <a:pt x="709" y="484"/>
                  </a:lnTo>
                  <a:lnTo>
                    <a:pt x="664" y="477"/>
                  </a:lnTo>
                  <a:lnTo>
                    <a:pt x="635" y="469"/>
                  </a:lnTo>
                  <a:lnTo>
                    <a:pt x="612" y="469"/>
                  </a:lnTo>
                  <a:lnTo>
                    <a:pt x="590" y="462"/>
                  </a:lnTo>
                  <a:lnTo>
                    <a:pt x="552" y="455"/>
                  </a:lnTo>
                  <a:lnTo>
                    <a:pt x="530" y="447"/>
                  </a:lnTo>
                  <a:lnTo>
                    <a:pt x="508" y="440"/>
                  </a:lnTo>
                  <a:lnTo>
                    <a:pt x="463" y="432"/>
                  </a:lnTo>
                  <a:lnTo>
                    <a:pt x="448" y="425"/>
                  </a:lnTo>
                  <a:lnTo>
                    <a:pt x="426" y="425"/>
                  </a:lnTo>
                  <a:lnTo>
                    <a:pt x="388" y="410"/>
                  </a:lnTo>
                  <a:lnTo>
                    <a:pt x="366" y="402"/>
                  </a:lnTo>
                  <a:lnTo>
                    <a:pt x="351" y="395"/>
                  </a:lnTo>
                  <a:lnTo>
                    <a:pt x="314" y="387"/>
                  </a:lnTo>
                  <a:lnTo>
                    <a:pt x="299" y="380"/>
                  </a:lnTo>
                  <a:lnTo>
                    <a:pt x="284" y="372"/>
                  </a:lnTo>
                  <a:lnTo>
                    <a:pt x="254" y="358"/>
                  </a:lnTo>
                  <a:lnTo>
                    <a:pt x="239" y="358"/>
                  </a:lnTo>
                  <a:lnTo>
                    <a:pt x="224" y="350"/>
                  </a:lnTo>
                  <a:lnTo>
                    <a:pt x="194" y="335"/>
                  </a:lnTo>
                  <a:lnTo>
                    <a:pt x="179" y="328"/>
                  </a:lnTo>
                  <a:lnTo>
                    <a:pt x="164" y="320"/>
                  </a:lnTo>
                  <a:lnTo>
                    <a:pt x="157" y="313"/>
                  </a:lnTo>
                  <a:lnTo>
                    <a:pt x="127" y="298"/>
                  </a:lnTo>
                  <a:lnTo>
                    <a:pt x="120" y="290"/>
                  </a:lnTo>
                  <a:lnTo>
                    <a:pt x="112" y="290"/>
                  </a:lnTo>
                  <a:lnTo>
                    <a:pt x="90" y="276"/>
                  </a:lnTo>
                  <a:lnTo>
                    <a:pt x="82" y="268"/>
                  </a:lnTo>
                  <a:lnTo>
                    <a:pt x="67" y="261"/>
                  </a:lnTo>
                  <a:lnTo>
                    <a:pt x="52" y="246"/>
                  </a:lnTo>
                  <a:lnTo>
                    <a:pt x="45" y="238"/>
                  </a:lnTo>
                  <a:lnTo>
                    <a:pt x="38" y="231"/>
                  </a:lnTo>
                  <a:lnTo>
                    <a:pt x="30" y="216"/>
                  </a:lnTo>
                  <a:lnTo>
                    <a:pt x="23" y="208"/>
                  </a:lnTo>
                  <a:lnTo>
                    <a:pt x="15" y="201"/>
                  </a:lnTo>
                  <a:lnTo>
                    <a:pt x="8" y="186"/>
                  </a:lnTo>
                  <a:lnTo>
                    <a:pt x="8" y="179"/>
                  </a:lnTo>
                  <a:lnTo>
                    <a:pt x="8" y="171"/>
                  </a:lnTo>
                  <a:lnTo>
                    <a:pt x="0" y="164"/>
                  </a:lnTo>
                  <a:lnTo>
                    <a:pt x="0" y="149"/>
                  </a:lnTo>
                  <a:lnTo>
                    <a:pt x="0" y="141"/>
                  </a:lnTo>
                  <a:lnTo>
                    <a:pt x="0" y="134"/>
                  </a:lnTo>
                  <a:lnTo>
                    <a:pt x="0" y="119"/>
                  </a:lnTo>
                  <a:lnTo>
                    <a:pt x="0" y="111"/>
                  </a:lnTo>
                  <a:lnTo>
                    <a:pt x="0" y="104"/>
                  </a:lnTo>
                  <a:lnTo>
                    <a:pt x="8" y="89"/>
                  </a:lnTo>
                  <a:lnTo>
                    <a:pt x="8" y="82"/>
                  </a:lnTo>
                  <a:lnTo>
                    <a:pt x="1665" y="134"/>
                  </a:lnTo>
                  <a:lnTo>
                    <a:pt x="3247" y="0"/>
                  </a:lnTo>
                  <a:close/>
                </a:path>
              </a:pathLst>
            </a:custGeom>
            <a:solidFill>
              <a:srgbClr val="ff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648800" y="1555920"/>
              <a:ext cx="58208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80"/>
                  </a:solidFill>
                  <a:latin typeface="Verdana"/>
                </a:rPr>
                <a:t>Distribución de Abonados Móviles por Región</a:t>
              </a:r>
              <a:r>
                <a:rPr b="1" lang="en-US" sz="2200" spc="-1" strike="noStrike">
                  <a:solidFill>
                    <a:srgbClr val="000080"/>
                  </a:solidFill>
                  <a:latin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330640" y="1898640"/>
              <a:ext cx="45986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80"/>
                  </a:solidFill>
                  <a:latin typeface="Verdana"/>
                </a:rPr>
                <a:t>(Diciembre de 2000: 3.401.525 abonado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821120" y="5546880"/>
              <a:ext cx="236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80"/>
                  </a:solidFill>
                  <a:latin typeface="Arial"/>
                </a:rPr>
                <a:t>R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712400" y="5735520"/>
              <a:ext cx="435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80"/>
                  </a:solidFill>
                  <a:latin typeface="Arial"/>
                </a:rPr>
                <a:t>58,0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1423800" y="3722760"/>
              <a:ext cx="133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V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1276560" y="3911760"/>
              <a:ext cx="32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3,6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605600" y="3213000"/>
              <a:ext cx="172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VI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467000" y="3403440"/>
              <a:ext cx="32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3,3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036520" y="3000240"/>
              <a:ext cx="230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80"/>
                  </a:solidFill>
                  <a:latin typeface="Arial"/>
                </a:rPr>
                <a:t>VII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963800" y="3189240"/>
              <a:ext cx="349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80"/>
                  </a:solidFill>
                  <a:latin typeface="Arial"/>
                </a:rPr>
                <a:t>7,7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716200" y="2835360"/>
              <a:ext cx="133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IX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568600" y="3024360"/>
              <a:ext cx="32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3,3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334680" y="270504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X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160800" y="2894040"/>
              <a:ext cx="32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4,2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936960" y="2657520"/>
              <a:ext cx="133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X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787920" y="2846520"/>
              <a:ext cx="32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0,3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4604400" y="2575080"/>
              <a:ext cx="172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XI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464000" y="2763720"/>
              <a:ext cx="32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0,7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073120" y="262080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878360" y="2811600"/>
              <a:ext cx="32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2,5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485320" y="2610000"/>
              <a:ext cx="79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I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5316840" y="2798640"/>
              <a:ext cx="32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3,0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5857560" y="2681280"/>
              <a:ext cx="119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II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695920" y="2870280"/>
              <a:ext cx="32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0,9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483240" y="2859120"/>
              <a:ext cx="133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IV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336000" y="3048120"/>
              <a:ext cx="32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3,0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047720" y="311940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80"/>
                  </a:solidFill>
                  <a:latin typeface="Arial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879960" y="3308400"/>
              <a:ext cx="349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80"/>
                  </a:solidFill>
                  <a:latin typeface="Arial"/>
                </a:rPr>
                <a:t>9,5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744480" y="1353960"/>
              <a:ext cx="7631280" cy="51865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550880" y="5961240"/>
              <a:ext cx="1646280" cy="24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54200" y="5985000"/>
              <a:ext cx="1158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80"/>
                  </a:solidFill>
                  <a:latin typeface="Verdana"/>
                </a:rPr>
                <a:t>Fuente:  SUBT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/>
          <p:nvPr/>
        </p:nvSpPr>
        <p:spPr>
          <a:xfrm>
            <a:off x="2666880" y="762120"/>
            <a:ext cx="38102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3399"/>
                </a:solidFill>
                <a:uFillTx/>
                <a:latin typeface="Verdana"/>
              </a:rPr>
              <a:t>TELEFONÍA  MÓV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492480" y="152280"/>
            <a:ext cx="2623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99"/>
                </a:solidFill>
                <a:uFillTx/>
                <a:latin typeface="Verdana"/>
              </a:rPr>
              <a:t>Medios de Acce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6" name="Logo%20SUBTEL" descr=""/>
          <p:cNvPicPr/>
          <p:nvPr/>
        </p:nvPicPr>
        <p:blipFill>
          <a:blip r:embed="rId1"/>
          <a:stretch/>
        </p:blipFill>
        <p:spPr>
          <a:xfrm>
            <a:off x="7924680" y="152280"/>
            <a:ext cx="1067040" cy="1044720"/>
          </a:xfrm>
          <a:prstGeom prst="rect">
            <a:avLst/>
          </a:prstGeom>
          <a:ln w="0">
            <a:noFill/>
          </a:ln>
        </p:spPr>
      </p:pic>
      <p:grpSp>
        <p:nvGrpSpPr>
          <p:cNvPr id="557" name=""/>
          <p:cNvGrpSpPr/>
          <p:nvPr/>
        </p:nvGrpSpPr>
        <p:grpSpPr>
          <a:xfrm>
            <a:off x="673200" y="1352520"/>
            <a:ext cx="8089920" cy="5132520"/>
            <a:chOff x="673200" y="1352520"/>
            <a:chExt cx="8089920" cy="5132520"/>
          </a:xfrm>
        </p:grpSpPr>
        <p:grpSp>
          <p:nvGrpSpPr>
            <p:cNvPr id="558" name=""/>
            <p:cNvGrpSpPr/>
            <p:nvPr/>
          </p:nvGrpSpPr>
          <p:grpSpPr>
            <a:xfrm>
              <a:off x="1557360" y="2349360"/>
              <a:ext cx="6800760" cy="2874960"/>
              <a:chOff x="1557360" y="2349360"/>
              <a:chExt cx="6800760" cy="2874960"/>
            </a:xfrm>
          </p:grpSpPr>
          <p:sp>
            <p:nvSpPr>
              <p:cNvPr id="559" name=""/>
              <p:cNvSpPr/>
              <p:nvPr/>
            </p:nvSpPr>
            <p:spPr>
              <a:xfrm>
                <a:off x="1557360" y="2349360"/>
                <a:ext cx="6800760" cy="92160"/>
              </a:xfrm>
              <a:prstGeom prst="rect">
                <a:avLst/>
              </a:prstGeom>
              <a:solidFill>
                <a:srgbClr val="98cb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1557360" y="2441520"/>
                <a:ext cx="6800760" cy="90720"/>
              </a:xfrm>
              <a:prstGeom prst="rect">
                <a:avLst/>
              </a:prstGeom>
              <a:solidFill>
                <a:srgbClr val="98cb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1557360" y="2532240"/>
                <a:ext cx="6800760" cy="91800"/>
              </a:xfrm>
              <a:prstGeom prst="rect">
                <a:avLst/>
              </a:prstGeom>
              <a:solidFill>
                <a:srgbClr val="98c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1557360" y="2624040"/>
                <a:ext cx="6800760" cy="81000"/>
              </a:xfrm>
              <a:prstGeom prst="rect">
                <a:avLst/>
              </a:prstGeom>
              <a:solidFill>
                <a:srgbClr val="97ca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1557360" y="2705040"/>
                <a:ext cx="6800760" cy="90720"/>
              </a:xfrm>
              <a:prstGeom prst="rect">
                <a:avLst/>
              </a:prstGeom>
              <a:solidFill>
                <a:srgbClr val="97ca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1557360" y="2795760"/>
                <a:ext cx="6800760" cy="91800"/>
              </a:xfrm>
              <a:prstGeom prst="rect">
                <a:avLst/>
              </a:prstGeom>
              <a:solidFill>
                <a:srgbClr val="96c9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1557360" y="2887560"/>
                <a:ext cx="6800760" cy="92160"/>
              </a:xfrm>
              <a:prstGeom prst="rect">
                <a:avLst/>
              </a:prstGeom>
              <a:solidFill>
                <a:srgbClr val="96c8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1557360" y="2979720"/>
                <a:ext cx="6800760" cy="90360"/>
              </a:xfrm>
              <a:prstGeom prst="rect">
                <a:avLst/>
              </a:prstGeom>
              <a:solidFill>
                <a:srgbClr val="95c7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1557360" y="3070080"/>
                <a:ext cx="6800760" cy="92160"/>
              </a:xfrm>
              <a:prstGeom prst="rect">
                <a:avLst/>
              </a:prstGeom>
              <a:solidFill>
                <a:srgbClr val="94c6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1557360" y="3162240"/>
                <a:ext cx="6800760" cy="81000"/>
              </a:xfrm>
              <a:prstGeom prst="rect">
                <a:avLst/>
              </a:prstGeom>
              <a:solidFill>
                <a:srgbClr val="93c4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1557360" y="3243240"/>
                <a:ext cx="6800760" cy="90360"/>
              </a:xfrm>
              <a:prstGeom prst="rect">
                <a:avLst/>
              </a:prstGeom>
              <a:solidFill>
                <a:srgbClr val="92c3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1557360" y="3333600"/>
                <a:ext cx="6800760" cy="92160"/>
              </a:xfrm>
              <a:prstGeom prst="rect">
                <a:avLst/>
              </a:prstGeom>
              <a:solidFill>
                <a:srgbClr val="91c1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1557360" y="3425760"/>
                <a:ext cx="6800760" cy="92160"/>
              </a:xfrm>
              <a:prstGeom prst="rect">
                <a:avLst/>
              </a:prstGeom>
              <a:solidFill>
                <a:srgbClr val="8fbf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1557360" y="3517920"/>
                <a:ext cx="6800760" cy="92160"/>
              </a:xfrm>
              <a:prstGeom prst="rect">
                <a:avLst/>
              </a:prstGeom>
              <a:solidFill>
                <a:srgbClr val="8ebd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1557360" y="3610080"/>
                <a:ext cx="6800760" cy="90360"/>
              </a:xfrm>
              <a:prstGeom prst="rect">
                <a:avLst/>
              </a:prstGeom>
              <a:solidFill>
                <a:srgbClr val="8cbb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1557360" y="3700440"/>
                <a:ext cx="6800760" cy="81000"/>
              </a:xfrm>
              <a:prstGeom prst="rect">
                <a:avLst/>
              </a:prstGeom>
              <a:solidFill>
                <a:srgbClr val="8bb9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1557360" y="3781440"/>
                <a:ext cx="6800760" cy="92160"/>
              </a:xfrm>
              <a:prstGeom prst="rect">
                <a:avLst/>
              </a:prstGeom>
              <a:solidFill>
                <a:srgbClr val="89b7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557360" y="3873600"/>
                <a:ext cx="6800760" cy="90360"/>
              </a:xfrm>
              <a:prstGeom prst="rect">
                <a:avLst/>
              </a:prstGeom>
              <a:solidFill>
                <a:srgbClr val="88b5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1557360" y="3963960"/>
                <a:ext cx="6800760" cy="92160"/>
              </a:xfrm>
              <a:prstGeom prst="rect">
                <a:avLst/>
              </a:prstGeom>
              <a:solidFill>
                <a:srgbClr val="86b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1557360" y="4056120"/>
                <a:ext cx="6800760" cy="92160"/>
              </a:xfrm>
              <a:prstGeom prst="rect">
                <a:avLst/>
              </a:prstGeom>
              <a:solidFill>
                <a:srgbClr val="84b1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1557360" y="4148280"/>
                <a:ext cx="6800760" cy="90360"/>
              </a:xfrm>
              <a:prstGeom prst="rect">
                <a:avLst/>
              </a:prstGeom>
              <a:solidFill>
                <a:srgbClr val="83af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1557360" y="4238640"/>
                <a:ext cx="6800760" cy="92160"/>
              </a:xfrm>
              <a:prstGeom prst="rect">
                <a:avLst/>
              </a:prstGeom>
              <a:solidFill>
                <a:srgbClr val="81ad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1557360" y="4330800"/>
                <a:ext cx="6800760" cy="81000"/>
              </a:xfrm>
              <a:prstGeom prst="rect">
                <a:avLst/>
              </a:prstGeom>
              <a:solidFill>
                <a:srgbClr val="80ab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1557360" y="4411800"/>
                <a:ext cx="6800760" cy="90360"/>
              </a:xfrm>
              <a:prstGeom prst="rect">
                <a:avLst/>
              </a:prstGeom>
              <a:solidFill>
                <a:srgbClr val="7fa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1557360" y="4502160"/>
                <a:ext cx="6800760" cy="92160"/>
              </a:xfrm>
              <a:prstGeom prst="rect">
                <a:avLst/>
              </a:prstGeom>
              <a:solidFill>
                <a:srgbClr val="7ea8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1557360" y="4594320"/>
                <a:ext cx="6800760" cy="92160"/>
              </a:xfrm>
              <a:prstGeom prst="rect">
                <a:avLst/>
              </a:prstGeom>
              <a:solidFill>
                <a:srgbClr val="7da7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1557360" y="4686480"/>
                <a:ext cx="6800760" cy="91800"/>
              </a:xfrm>
              <a:prstGeom prst="rect">
                <a:avLst/>
              </a:prstGeom>
              <a:solidFill>
                <a:srgbClr val="7ca6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1557360" y="4778280"/>
                <a:ext cx="6800760" cy="90720"/>
              </a:xfrm>
              <a:prstGeom prst="rect">
                <a:avLst/>
              </a:prstGeom>
              <a:solidFill>
                <a:srgbClr val="7ba5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1557360" y="4869000"/>
                <a:ext cx="6800760" cy="81000"/>
              </a:xfrm>
              <a:prstGeom prst="rect">
                <a:avLst/>
              </a:prstGeom>
              <a:solidFill>
                <a:srgbClr val="7ba4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1557360" y="4950000"/>
                <a:ext cx="6800760" cy="91800"/>
              </a:xfrm>
              <a:prstGeom prst="rect">
                <a:avLst/>
              </a:prstGeom>
              <a:solidFill>
                <a:srgbClr val="7aa4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1557360" y="5041800"/>
                <a:ext cx="6800760" cy="90720"/>
              </a:xfrm>
              <a:prstGeom prst="rect">
                <a:avLst/>
              </a:prstGeom>
              <a:solidFill>
                <a:srgbClr val="7aa3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1557360" y="5132520"/>
                <a:ext cx="6800760" cy="91800"/>
              </a:xfrm>
              <a:prstGeom prst="rect">
                <a:avLst/>
              </a:prstGeom>
              <a:solidFill>
                <a:srgbClr val="7aa3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1" name=""/>
            <p:cNvSpPr/>
            <p:nvPr/>
          </p:nvSpPr>
          <p:spPr>
            <a:xfrm>
              <a:off x="1557360" y="2349360"/>
              <a:ext cx="6800760" cy="287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1557360" y="4811760"/>
              <a:ext cx="6800760" cy="144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1557360" y="4398840"/>
              <a:ext cx="6800760" cy="180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1557360" y="3987720"/>
              <a:ext cx="6800760" cy="180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1557360" y="3586320"/>
              <a:ext cx="6800760" cy="144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557360" y="3173400"/>
              <a:ext cx="6800760" cy="144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557360" y="2762280"/>
              <a:ext cx="6800760" cy="144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1557360" y="2349360"/>
              <a:ext cx="6800760" cy="180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557360" y="2349360"/>
              <a:ext cx="6800760" cy="2874960"/>
            </a:xfrm>
            <a:prstGeom prst="rect">
              <a:avLst/>
            </a:prstGeom>
            <a:noFill/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0" name=""/>
            <p:cNvGrpSpPr/>
            <p:nvPr/>
          </p:nvGrpSpPr>
          <p:grpSpPr>
            <a:xfrm>
              <a:off x="2163600" y="3462480"/>
              <a:ext cx="218880" cy="1794960"/>
              <a:chOff x="2163600" y="3462480"/>
              <a:chExt cx="218880" cy="1794960"/>
            </a:xfrm>
          </p:grpSpPr>
          <p:sp>
            <p:nvSpPr>
              <p:cNvPr id="601" name=""/>
              <p:cNvSpPr/>
              <p:nvPr/>
            </p:nvSpPr>
            <p:spPr>
              <a:xfrm>
                <a:off x="2163600" y="3462480"/>
                <a:ext cx="23040" cy="1794960"/>
              </a:xfrm>
              <a:prstGeom prst="rect">
                <a:avLst/>
              </a:prstGeom>
              <a:solidFill>
                <a:srgbClr val="7d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2186640" y="3462480"/>
                <a:ext cx="11160" cy="1794960"/>
              </a:xfrm>
              <a:prstGeom prst="rect">
                <a:avLst/>
              </a:prstGeom>
              <a:solidFill>
                <a:srgbClr val="937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2198160" y="3462480"/>
                <a:ext cx="23040" cy="1794960"/>
              </a:xfrm>
              <a:prstGeom prst="rect">
                <a:avLst/>
              </a:prstGeom>
              <a:solidFill>
                <a:srgbClr val="b49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2221200" y="3462480"/>
                <a:ext cx="11160" cy="1794960"/>
              </a:xfrm>
              <a:prstGeom prst="rect">
                <a:avLst/>
              </a:prstGeom>
              <a:solidFill>
                <a:srgbClr val="d7a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2232720" y="3462480"/>
                <a:ext cx="23040" cy="1794960"/>
              </a:xfrm>
              <a:prstGeom prst="rect">
                <a:avLst/>
              </a:prstGeom>
              <a:solidFill>
                <a:srgbClr val="ee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2255760" y="3462480"/>
                <a:ext cx="11160" cy="1794960"/>
              </a:xfrm>
              <a:prstGeom prst="rect">
                <a:avLst/>
              </a:prstGeom>
              <a:solidFill>
                <a:srgbClr val="fbc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2267280" y="3462480"/>
                <a:ext cx="23040" cy="1794960"/>
              </a:xfrm>
              <a:prstGeom prst="rect">
                <a:avLst/>
              </a:prstGeom>
              <a:solidFill>
                <a:srgbClr val="fd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2290680" y="3462480"/>
                <a:ext cx="22680" cy="1794960"/>
              </a:xfrm>
              <a:prstGeom prst="rect">
                <a:avLst/>
              </a:prstGeom>
              <a:solidFill>
                <a:srgbClr val="ee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2313360" y="3462480"/>
                <a:ext cx="11160" cy="1794960"/>
              </a:xfrm>
              <a:prstGeom prst="rect">
                <a:avLst/>
              </a:prstGeom>
              <a:solidFill>
                <a:srgbClr val="d7a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2324880" y="3462480"/>
                <a:ext cx="23040" cy="1794960"/>
              </a:xfrm>
              <a:prstGeom prst="rect">
                <a:avLst/>
              </a:prstGeom>
              <a:solidFill>
                <a:srgbClr val="b49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2347920" y="3462480"/>
                <a:ext cx="11160" cy="1794960"/>
              </a:xfrm>
              <a:prstGeom prst="rect">
                <a:avLst/>
              </a:prstGeom>
              <a:solidFill>
                <a:srgbClr val="937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2359440" y="3462480"/>
                <a:ext cx="23040" cy="1794960"/>
              </a:xfrm>
              <a:prstGeom prst="rect">
                <a:avLst/>
              </a:prstGeom>
              <a:solidFill>
                <a:srgbClr val="7d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3" name=""/>
            <p:cNvSpPr/>
            <p:nvPr/>
          </p:nvSpPr>
          <p:spPr>
            <a:xfrm>
              <a:off x="2163600" y="3483000"/>
              <a:ext cx="241560" cy="174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4" name=""/>
            <p:cNvGrpSpPr/>
            <p:nvPr/>
          </p:nvGrpSpPr>
          <p:grpSpPr>
            <a:xfrm>
              <a:off x="2657520" y="4267080"/>
              <a:ext cx="218520" cy="960120"/>
              <a:chOff x="2657520" y="4267080"/>
              <a:chExt cx="218520" cy="960120"/>
            </a:xfrm>
          </p:grpSpPr>
          <p:sp>
            <p:nvSpPr>
              <p:cNvPr id="615" name=""/>
              <p:cNvSpPr/>
              <p:nvPr/>
            </p:nvSpPr>
            <p:spPr>
              <a:xfrm>
                <a:off x="2657520" y="4267080"/>
                <a:ext cx="11880" cy="960120"/>
              </a:xfrm>
              <a:prstGeom prst="rect">
                <a:avLst/>
              </a:prstGeom>
              <a:solidFill>
                <a:srgbClr val="79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2669400" y="4267080"/>
                <a:ext cx="24480" cy="960120"/>
              </a:xfrm>
              <a:prstGeom prst="rect">
                <a:avLst/>
              </a:prstGeom>
              <a:solidFill>
                <a:srgbClr val="8c7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2694240" y="4267080"/>
                <a:ext cx="11880" cy="960120"/>
              </a:xfrm>
              <a:prstGeom prst="rect">
                <a:avLst/>
              </a:prstGeom>
              <a:solidFill>
                <a:srgbClr val="ad8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2706480" y="4267080"/>
                <a:ext cx="24480" cy="960120"/>
              </a:xfrm>
              <a:prstGeom prst="rect">
                <a:avLst/>
              </a:prstGeom>
              <a:solidFill>
                <a:srgbClr val="d2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2730960" y="4267080"/>
                <a:ext cx="11880" cy="960120"/>
              </a:xfrm>
              <a:prstGeom prst="rect">
                <a:avLst/>
              </a:prstGeom>
              <a:solidFill>
                <a:srgbClr val="ed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2743200" y="4267080"/>
                <a:ext cx="22680" cy="960120"/>
              </a:xfrm>
              <a:prstGeom prst="rect">
                <a:avLst/>
              </a:prstGeom>
              <a:solidFill>
                <a:srgbClr val="fb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2766240" y="4267080"/>
                <a:ext cx="11880" cy="960120"/>
              </a:xfrm>
              <a:prstGeom prst="rect">
                <a:avLst/>
              </a:prstGeom>
              <a:solidFill>
                <a:srgbClr val="fd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2778120" y="4267080"/>
                <a:ext cx="24480" cy="960120"/>
              </a:xfrm>
              <a:prstGeom prst="rect">
                <a:avLst/>
              </a:prstGeom>
              <a:solidFill>
                <a:srgbClr val="f3c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2802960" y="4267080"/>
                <a:ext cx="11880" cy="960120"/>
              </a:xfrm>
              <a:prstGeom prst="rect">
                <a:avLst/>
              </a:prstGeom>
              <a:solidFill>
                <a:srgbClr val="dcb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2815200" y="4267080"/>
                <a:ext cx="24480" cy="960120"/>
              </a:xfrm>
              <a:prstGeom prst="rect">
                <a:avLst/>
              </a:prstGeom>
              <a:solidFill>
                <a:srgbClr val="ba9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2839680" y="4267080"/>
                <a:ext cx="11880" cy="960120"/>
              </a:xfrm>
              <a:prstGeom prst="rect">
                <a:avLst/>
              </a:prstGeom>
              <a:solidFill>
                <a:srgbClr val="967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2851920" y="4267080"/>
                <a:ext cx="24120" cy="960120"/>
              </a:xfrm>
              <a:prstGeom prst="rect">
                <a:avLst/>
              </a:prstGeom>
              <a:solidFill>
                <a:srgbClr val="7e6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7" name=""/>
            <p:cNvGrpSpPr/>
            <p:nvPr/>
          </p:nvGrpSpPr>
          <p:grpSpPr>
            <a:xfrm>
              <a:off x="3137040" y="3813120"/>
              <a:ext cx="215280" cy="1444320"/>
              <a:chOff x="3137040" y="3813120"/>
              <a:chExt cx="215280" cy="1444320"/>
            </a:xfrm>
          </p:grpSpPr>
          <p:sp>
            <p:nvSpPr>
              <p:cNvPr id="628" name=""/>
              <p:cNvSpPr/>
              <p:nvPr/>
            </p:nvSpPr>
            <p:spPr>
              <a:xfrm>
                <a:off x="3137040" y="3813120"/>
                <a:ext cx="22320" cy="1444320"/>
              </a:xfrm>
              <a:prstGeom prst="rect">
                <a:avLst/>
              </a:prstGeom>
              <a:solidFill>
                <a:srgbClr val="7d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3159360" y="3813120"/>
                <a:ext cx="11160" cy="1444320"/>
              </a:xfrm>
              <a:prstGeom prst="rect">
                <a:avLst/>
              </a:prstGeom>
              <a:solidFill>
                <a:srgbClr val="937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3170520" y="3813120"/>
                <a:ext cx="22680" cy="1444320"/>
              </a:xfrm>
              <a:prstGeom prst="rect">
                <a:avLst/>
              </a:prstGeom>
              <a:solidFill>
                <a:srgbClr val="b49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3193560" y="3813120"/>
                <a:ext cx="11160" cy="1444320"/>
              </a:xfrm>
              <a:prstGeom prst="rect">
                <a:avLst/>
              </a:prstGeom>
              <a:solidFill>
                <a:srgbClr val="d7a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3204720" y="3813120"/>
                <a:ext cx="22680" cy="1444320"/>
              </a:xfrm>
              <a:prstGeom prst="rect">
                <a:avLst/>
              </a:prstGeom>
              <a:solidFill>
                <a:srgbClr val="ee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3227760" y="3813120"/>
                <a:ext cx="11160" cy="1444320"/>
              </a:xfrm>
              <a:prstGeom prst="rect">
                <a:avLst/>
              </a:prstGeom>
              <a:solidFill>
                <a:srgbClr val="fbc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3238920" y="3813120"/>
                <a:ext cx="22680" cy="1444320"/>
              </a:xfrm>
              <a:prstGeom prst="rect">
                <a:avLst/>
              </a:prstGeom>
              <a:solidFill>
                <a:srgbClr val="fd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3261600" y="3813120"/>
                <a:ext cx="22320" cy="1444320"/>
              </a:xfrm>
              <a:prstGeom prst="rect">
                <a:avLst/>
              </a:prstGeom>
              <a:solidFill>
                <a:srgbClr val="ee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3284280" y="3813120"/>
                <a:ext cx="11520" cy="1444320"/>
              </a:xfrm>
              <a:prstGeom prst="rect">
                <a:avLst/>
              </a:prstGeom>
              <a:solidFill>
                <a:srgbClr val="d7a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3295800" y="3813120"/>
                <a:ext cx="22320" cy="1444320"/>
              </a:xfrm>
              <a:prstGeom prst="rect">
                <a:avLst/>
              </a:prstGeom>
              <a:solidFill>
                <a:srgbClr val="b49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3318480" y="3813120"/>
                <a:ext cx="11160" cy="1444320"/>
              </a:xfrm>
              <a:prstGeom prst="rect">
                <a:avLst/>
              </a:prstGeom>
              <a:solidFill>
                <a:srgbClr val="937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3329640" y="3813120"/>
                <a:ext cx="22680" cy="1444320"/>
              </a:xfrm>
              <a:prstGeom prst="rect">
                <a:avLst/>
              </a:prstGeom>
              <a:solidFill>
                <a:srgbClr val="7d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0" name=""/>
            <p:cNvGrpSpPr/>
            <p:nvPr/>
          </p:nvGrpSpPr>
          <p:grpSpPr>
            <a:xfrm>
              <a:off x="3630600" y="3567240"/>
              <a:ext cx="218880" cy="1690560"/>
              <a:chOff x="3630600" y="3567240"/>
              <a:chExt cx="218880" cy="1690560"/>
            </a:xfrm>
          </p:grpSpPr>
          <p:sp>
            <p:nvSpPr>
              <p:cNvPr id="641" name=""/>
              <p:cNvSpPr/>
              <p:nvPr/>
            </p:nvSpPr>
            <p:spPr>
              <a:xfrm>
                <a:off x="3630600" y="3567240"/>
                <a:ext cx="11880" cy="1690560"/>
              </a:xfrm>
              <a:prstGeom prst="rect">
                <a:avLst/>
              </a:prstGeom>
              <a:solidFill>
                <a:srgbClr val="79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3642480" y="3567240"/>
                <a:ext cx="24480" cy="1690560"/>
              </a:xfrm>
              <a:prstGeom prst="rect">
                <a:avLst/>
              </a:prstGeom>
              <a:solidFill>
                <a:srgbClr val="8c7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3667320" y="3567240"/>
                <a:ext cx="11880" cy="1690560"/>
              </a:xfrm>
              <a:prstGeom prst="rect">
                <a:avLst/>
              </a:prstGeom>
              <a:solidFill>
                <a:srgbClr val="ad8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3679560" y="3567240"/>
                <a:ext cx="24480" cy="1690560"/>
              </a:xfrm>
              <a:prstGeom prst="rect">
                <a:avLst/>
              </a:prstGeom>
              <a:solidFill>
                <a:srgbClr val="d2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3704040" y="3567240"/>
                <a:ext cx="11880" cy="1690560"/>
              </a:xfrm>
              <a:prstGeom prst="rect">
                <a:avLst/>
              </a:prstGeom>
              <a:solidFill>
                <a:srgbClr val="ed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3716280" y="3567240"/>
                <a:ext cx="24480" cy="1690560"/>
              </a:xfrm>
              <a:prstGeom prst="rect">
                <a:avLst/>
              </a:prstGeom>
              <a:solidFill>
                <a:srgbClr val="fb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3740760" y="3567240"/>
                <a:ext cx="10080" cy="1690560"/>
              </a:xfrm>
              <a:prstGeom prst="rect">
                <a:avLst/>
              </a:prstGeom>
              <a:solidFill>
                <a:srgbClr val="fd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3751200" y="3567240"/>
                <a:ext cx="24480" cy="1690560"/>
              </a:xfrm>
              <a:prstGeom prst="rect">
                <a:avLst/>
              </a:prstGeom>
              <a:solidFill>
                <a:srgbClr val="f3c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3776040" y="3567240"/>
                <a:ext cx="11880" cy="1690560"/>
              </a:xfrm>
              <a:prstGeom prst="rect">
                <a:avLst/>
              </a:prstGeom>
              <a:solidFill>
                <a:srgbClr val="dcb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3788280" y="3567240"/>
                <a:ext cx="24480" cy="1690560"/>
              </a:xfrm>
              <a:prstGeom prst="rect">
                <a:avLst/>
              </a:prstGeom>
              <a:solidFill>
                <a:srgbClr val="ba9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3812760" y="3567240"/>
                <a:ext cx="11880" cy="1690560"/>
              </a:xfrm>
              <a:prstGeom prst="rect">
                <a:avLst/>
              </a:prstGeom>
              <a:solidFill>
                <a:srgbClr val="967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3825000" y="3567240"/>
                <a:ext cx="24480" cy="1690560"/>
              </a:xfrm>
              <a:prstGeom prst="rect">
                <a:avLst/>
              </a:prstGeom>
              <a:solidFill>
                <a:srgbClr val="7e6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3" name=""/>
            <p:cNvGrpSpPr/>
            <p:nvPr/>
          </p:nvGrpSpPr>
          <p:grpSpPr>
            <a:xfrm>
              <a:off x="4110120" y="2590920"/>
              <a:ext cx="218520" cy="2650680"/>
              <a:chOff x="4110120" y="2590920"/>
              <a:chExt cx="218520" cy="2650680"/>
            </a:xfrm>
          </p:grpSpPr>
          <p:sp>
            <p:nvSpPr>
              <p:cNvPr id="654" name=""/>
              <p:cNvSpPr/>
              <p:nvPr/>
            </p:nvSpPr>
            <p:spPr>
              <a:xfrm>
                <a:off x="4110120" y="2590920"/>
                <a:ext cx="22680" cy="2650680"/>
              </a:xfrm>
              <a:prstGeom prst="rect">
                <a:avLst/>
              </a:prstGeom>
              <a:solidFill>
                <a:srgbClr val="7d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4132800" y="2590920"/>
                <a:ext cx="11520" cy="2650680"/>
              </a:xfrm>
              <a:prstGeom prst="rect">
                <a:avLst/>
              </a:prstGeom>
              <a:solidFill>
                <a:srgbClr val="937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4144680" y="2590920"/>
                <a:ext cx="22680" cy="2650680"/>
              </a:xfrm>
              <a:prstGeom prst="rect">
                <a:avLst/>
              </a:prstGeom>
              <a:solidFill>
                <a:srgbClr val="b49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4167360" y="2590920"/>
                <a:ext cx="11160" cy="2650680"/>
              </a:xfrm>
              <a:prstGeom prst="rect">
                <a:avLst/>
              </a:prstGeom>
              <a:solidFill>
                <a:srgbClr val="d7a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4178880" y="2590920"/>
                <a:ext cx="23040" cy="2650680"/>
              </a:xfrm>
              <a:prstGeom prst="rect">
                <a:avLst/>
              </a:prstGeom>
              <a:solidFill>
                <a:srgbClr val="ee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4201920" y="2590920"/>
                <a:ext cx="11160" cy="2650680"/>
              </a:xfrm>
              <a:prstGeom prst="rect">
                <a:avLst/>
              </a:prstGeom>
              <a:solidFill>
                <a:srgbClr val="fbc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4213440" y="2590920"/>
                <a:ext cx="23040" cy="2650680"/>
              </a:xfrm>
              <a:prstGeom prst="rect">
                <a:avLst/>
              </a:prstGeom>
              <a:solidFill>
                <a:srgbClr val="fd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4236840" y="2590920"/>
                <a:ext cx="22680" cy="2650680"/>
              </a:xfrm>
              <a:prstGeom prst="rect">
                <a:avLst/>
              </a:prstGeom>
              <a:solidFill>
                <a:srgbClr val="ee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4259520" y="2590920"/>
                <a:ext cx="11520" cy="2650680"/>
              </a:xfrm>
              <a:prstGeom prst="rect">
                <a:avLst/>
              </a:prstGeom>
              <a:solidFill>
                <a:srgbClr val="d7a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4271400" y="2590920"/>
                <a:ext cx="22680" cy="2650680"/>
              </a:xfrm>
              <a:prstGeom prst="rect">
                <a:avLst/>
              </a:prstGeom>
              <a:solidFill>
                <a:srgbClr val="b49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4294080" y="2590920"/>
                <a:ext cx="11160" cy="2650680"/>
              </a:xfrm>
              <a:prstGeom prst="rect">
                <a:avLst/>
              </a:prstGeom>
              <a:solidFill>
                <a:srgbClr val="937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4305600" y="2590920"/>
                <a:ext cx="23040" cy="2650680"/>
              </a:xfrm>
              <a:prstGeom prst="rect">
                <a:avLst/>
              </a:prstGeom>
              <a:solidFill>
                <a:srgbClr val="7d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6" name=""/>
            <p:cNvGrpSpPr/>
            <p:nvPr/>
          </p:nvGrpSpPr>
          <p:grpSpPr>
            <a:xfrm>
              <a:off x="4603680" y="3962520"/>
              <a:ext cx="218880" cy="1269360"/>
              <a:chOff x="4603680" y="3962520"/>
              <a:chExt cx="218880" cy="1269360"/>
            </a:xfrm>
          </p:grpSpPr>
          <p:sp>
            <p:nvSpPr>
              <p:cNvPr id="667" name=""/>
              <p:cNvSpPr/>
              <p:nvPr/>
            </p:nvSpPr>
            <p:spPr>
              <a:xfrm>
                <a:off x="4603680" y="3962520"/>
                <a:ext cx="11880" cy="1269360"/>
              </a:xfrm>
              <a:prstGeom prst="rect">
                <a:avLst/>
              </a:prstGeom>
              <a:solidFill>
                <a:srgbClr val="79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4615560" y="3962520"/>
                <a:ext cx="24480" cy="1269360"/>
              </a:xfrm>
              <a:prstGeom prst="rect">
                <a:avLst/>
              </a:prstGeom>
              <a:solidFill>
                <a:srgbClr val="8c7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4640400" y="3962520"/>
                <a:ext cx="11880" cy="1269360"/>
              </a:xfrm>
              <a:prstGeom prst="rect">
                <a:avLst/>
              </a:prstGeom>
              <a:solidFill>
                <a:srgbClr val="ad8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4652640" y="3962520"/>
                <a:ext cx="24480" cy="1269360"/>
              </a:xfrm>
              <a:prstGeom prst="rect">
                <a:avLst/>
              </a:prstGeom>
              <a:solidFill>
                <a:srgbClr val="d2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4677120" y="3962520"/>
                <a:ext cx="11880" cy="1269360"/>
              </a:xfrm>
              <a:prstGeom prst="rect">
                <a:avLst/>
              </a:prstGeom>
              <a:solidFill>
                <a:srgbClr val="ed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4689360" y="3962520"/>
                <a:ext cx="24480" cy="1269360"/>
              </a:xfrm>
              <a:prstGeom prst="rect">
                <a:avLst/>
              </a:prstGeom>
              <a:solidFill>
                <a:srgbClr val="fb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4713840" y="3962520"/>
                <a:ext cx="11880" cy="1269360"/>
              </a:xfrm>
              <a:prstGeom prst="rect">
                <a:avLst/>
              </a:prstGeom>
              <a:solidFill>
                <a:srgbClr val="fd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4726080" y="3962520"/>
                <a:ext cx="22680" cy="1269360"/>
              </a:xfrm>
              <a:prstGeom prst="rect">
                <a:avLst/>
              </a:prstGeom>
              <a:solidFill>
                <a:srgbClr val="f3c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4749120" y="3962520"/>
                <a:ext cx="11880" cy="1269360"/>
              </a:xfrm>
              <a:prstGeom prst="rect">
                <a:avLst/>
              </a:prstGeom>
              <a:solidFill>
                <a:srgbClr val="dcb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4761360" y="3962520"/>
                <a:ext cx="24480" cy="1269360"/>
              </a:xfrm>
              <a:prstGeom prst="rect">
                <a:avLst/>
              </a:prstGeom>
              <a:solidFill>
                <a:srgbClr val="ba9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4785840" y="3962520"/>
                <a:ext cx="11880" cy="1269360"/>
              </a:xfrm>
              <a:prstGeom prst="rect">
                <a:avLst/>
              </a:prstGeom>
              <a:solidFill>
                <a:srgbClr val="967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4798080" y="3962520"/>
                <a:ext cx="24480" cy="1269360"/>
              </a:xfrm>
              <a:prstGeom prst="rect">
                <a:avLst/>
              </a:prstGeom>
              <a:solidFill>
                <a:srgbClr val="7e6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9" name=""/>
            <p:cNvSpPr/>
            <p:nvPr/>
          </p:nvSpPr>
          <p:spPr>
            <a:xfrm>
              <a:off x="4603680" y="4284720"/>
              <a:ext cx="227160" cy="93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0" name=""/>
            <p:cNvGrpSpPr/>
            <p:nvPr/>
          </p:nvGrpSpPr>
          <p:grpSpPr>
            <a:xfrm>
              <a:off x="5083200" y="4191120"/>
              <a:ext cx="218520" cy="1032840"/>
              <a:chOff x="5083200" y="4191120"/>
              <a:chExt cx="218520" cy="1032840"/>
            </a:xfrm>
          </p:grpSpPr>
          <p:sp>
            <p:nvSpPr>
              <p:cNvPr id="681" name=""/>
              <p:cNvSpPr/>
              <p:nvPr/>
            </p:nvSpPr>
            <p:spPr>
              <a:xfrm>
                <a:off x="5083200" y="4191120"/>
                <a:ext cx="11880" cy="1032840"/>
              </a:xfrm>
              <a:prstGeom prst="rect">
                <a:avLst/>
              </a:prstGeom>
              <a:solidFill>
                <a:srgbClr val="79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5095080" y="4191120"/>
                <a:ext cx="24120" cy="1032840"/>
              </a:xfrm>
              <a:prstGeom prst="rect">
                <a:avLst/>
              </a:prstGeom>
              <a:solidFill>
                <a:srgbClr val="8c7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5119560" y="4191120"/>
                <a:ext cx="11880" cy="1032840"/>
              </a:xfrm>
              <a:prstGeom prst="rect">
                <a:avLst/>
              </a:prstGeom>
              <a:solidFill>
                <a:srgbClr val="ad8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5131800" y="4191120"/>
                <a:ext cx="24120" cy="1032840"/>
              </a:xfrm>
              <a:prstGeom prst="rect">
                <a:avLst/>
              </a:prstGeom>
              <a:solidFill>
                <a:srgbClr val="d2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5156280" y="4191120"/>
                <a:ext cx="11880" cy="1032840"/>
              </a:xfrm>
              <a:prstGeom prst="rect">
                <a:avLst/>
              </a:prstGeom>
              <a:solidFill>
                <a:srgbClr val="ed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5168160" y="4191120"/>
                <a:ext cx="24120" cy="1032840"/>
              </a:xfrm>
              <a:prstGeom prst="rect">
                <a:avLst/>
              </a:prstGeom>
              <a:solidFill>
                <a:srgbClr val="fb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5192280" y="4191120"/>
                <a:ext cx="12240" cy="1032840"/>
              </a:xfrm>
              <a:prstGeom prst="rect">
                <a:avLst/>
              </a:prstGeom>
              <a:solidFill>
                <a:srgbClr val="fd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5204880" y="4191120"/>
                <a:ext cx="24120" cy="1032840"/>
              </a:xfrm>
              <a:prstGeom prst="rect">
                <a:avLst/>
              </a:prstGeom>
              <a:solidFill>
                <a:srgbClr val="f3c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5229000" y="4191120"/>
                <a:ext cx="12240" cy="1032840"/>
              </a:xfrm>
              <a:prstGeom prst="rect">
                <a:avLst/>
              </a:prstGeom>
              <a:solidFill>
                <a:srgbClr val="dcb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5241240" y="4191120"/>
                <a:ext cx="24120" cy="1032840"/>
              </a:xfrm>
              <a:prstGeom prst="rect">
                <a:avLst/>
              </a:prstGeom>
              <a:solidFill>
                <a:srgbClr val="ba9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5265360" y="4191120"/>
                <a:ext cx="11880" cy="1032840"/>
              </a:xfrm>
              <a:prstGeom prst="rect">
                <a:avLst/>
              </a:prstGeom>
              <a:solidFill>
                <a:srgbClr val="967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5277600" y="4191120"/>
                <a:ext cx="24120" cy="1032840"/>
              </a:xfrm>
              <a:prstGeom prst="rect">
                <a:avLst/>
              </a:prstGeom>
              <a:solidFill>
                <a:srgbClr val="7e6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3" name=""/>
            <p:cNvGrpSpPr/>
            <p:nvPr/>
          </p:nvGrpSpPr>
          <p:grpSpPr>
            <a:xfrm>
              <a:off x="5564160" y="4114800"/>
              <a:ext cx="218880" cy="1142640"/>
              <a:chOff x="5564160" y="4114800"/>
              <a:chExt cx="218880" cy="1142640"/>
            </a:xfrm>
          </p:grpSpPr>
          <p:sp>
            <p:nvSpPr>
              <p:cNvPr id="694" name=""/>
              <p:cNvSpPr/>
              <p:nvPr/>
            </p:nvSpPr>
            <p:spPr>
              <a:xfrm>
                <a:off x="5564160" y="4114800"/>
                <a:ext cx="23040" cy="1142640"/>
              </a:xfrm>
              <a:prstGeom prst="rect">
                <a:avLst/>
              </a:prstGeom>
              <a:solidFill>
                <a:srgbClr val="7d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5587200" y="4114800"/>
                <a:ext cx="11520" cy="1142640"/>
              </a:xfrm>
              <a:prstGeom prst="rect">
                <a:avLst/>
              </a:prstGeom>
              <a:solidFill>
                <a:srgbClr val="937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5598720" y="4114800"/>
                <a:ext cx="23040" cy="1142640"/>
              </a:xfrm>
              <a:prstGeom prst="rect">
                <a:avLst/>
              </a:prstGeom>
              <a:solidFill>
                <a:srgbClr val="b49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5621760" y="4114800"/>
                <a:ext cx="11520" cy="1142640"/>
              </a:xfrm>
              <a:prstGeom prst="rect">
                <a:avLst/>
              </a:prstGeom>
              <a:solidFill>
                <a:srgbClr val="d7a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5633640" y="4114800"/>
                <a:ext cx="23040" cy="1142640"/>
              </a:xfrm>
              <a:prstGeom prst="rect">
                <a:avLst/>
              </a:prstGeom>
              <a:solidFill>
                <a:srgbClr val="ee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5656680" y="4114800"/>
                <a:ext cx="11520" cy="1142640"/>
              </a:xfrm>
              <a:prstGeom prst="rect">
                <a:avLst/>
              </a:prstGeom>
              <a:solidFill>
                <a:srgbClr val="fbc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5668560" y="4114800"/>
                <a:ext cx="23040" cy="1142640"/>
              </a:xfrm>
              <a:prstGeom prst="rect">
                <a:avLst/>
              </a:prstGeom>
              <a:solidFill>
                <a:srgbClr val="fd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5691600" y="4114800"/>
                <a:ext cx="21600" cy="1142640"/>
              </a:xfrm>
              <a:prstGeom prst="rect">
                <a:avLst/>
              </a:prstGeom>
              <a:solidFill>
                <a:srgbClr val="ee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5713560" y="4114800"/>
                <a:ext cx="11520" cy="1142640"/>
              </a:xfrm>
              <a:prstGeom prst="rect">
                <a:avLst/>
              </a:prstGeom>
              <a:solidFill>
                <a:srgbClr val="d7a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5725440" y="4114800"/>
                <a:ext cx="23040" cy="1142640"/>
              </a:xfrm>
              <a:prstGeom prst="rect">
                <a:avLst/>
              </a:prstGeom>
              <a:solidFill>
                <a:srgbClr val="b49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5748480" y="4114800"/>
                <a:ext cx="11520" cy="1142640"/>
              </a:xfrm>
              <a:prstGeom prst="rect">
                <a:avLst/>
              </a:prstGeom>
              <a:solidFill>
                <a:srgbClr val="937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5760000" y="4114800"/>
                <a:ext cx="23040" cy="1142640"/>
              </a:xfrm>
              <a:prstGeom prst="rect">
                <a:avLst/>
              </a:prstGeom>
              <a:solidFill>
                <a:srgbClr val="7d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6" name=""/>
            <p:cNvGrpSpPr/>
            <p:nvPr/>
          </p:nvGrpSpPr>
          <p:grpSpPr>
            <a:xfrm>
              <a:off x="6058080" y="4191120"/>
              <a:ext cx="218520" cy="1040760"/>
              <a:chOff x="6058080" y="4191120"/>
              <a:chExt cx="218520" cy="1040760"/>
            </a:xfrm>
          </p:grpSpPr>
          <p:sp>
            <p:nvSpPr>
              <p:cNvPr id="707" name=""/>
              <p:cNvSpPr/>
              <p:nvPr/>
            </p:nvSpPr>
            <p:spPr>
              <a:xfrm>
                <a:off x="6058080" y="4191120"/>
                <a:ext cx="10080" cy="1040760"/>
              </a:xfrm>
              <a:prstGeom prst="rect">
                <a:avLst/>
              </a:prstGeom>
              <a:solidFill>
                <a:srgbClr val="79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6068160" y="4191120"/>
                <a:ext cx="24480" cy="1040760"/>
              </a:xfrm>
              <a:prstGeom prst="rect">
                <a:avLst/>
              </a:prstGeom>
              <a:solidFill>
                <a:srgbClr val="8c7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6093000" y="4191120"/>
                <a:ext cx="11880" cy="1040760"/>
              </a:xfrm>
              <a:prstGeom prst="rect">
                <a:avLst/>
              </a:prstGeom>
              <a:solidFill>
                <a:srgbClr val="ad8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6105240" y="4191120"/>
                <a:ext cx="24480" cy="1040760"/>
              </a:xfrm>
              <a:prstGeom prst="rect">
                <a:avLst/>
              </a:prstGeom>
              <a:solidFill>
                <a:srgbClr val="d2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6129720" y="4191120"/>
                <a:ext cx="11880" cy="1040760"/>
              </a:xfrm>
              <a:prstGeom prst="rect">
                <a:avLst/>
              </a:prstGeom>
              <a:solidFill>
                <a:srgbClr val="ed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6141960" y="4191120"/>
                <a:ext cx="24480" cy="1040760"/>
              </a:xfrm>
              <a:prstGeom prst="rect">
                <a:avLst/>
              </a:prstGeom>
              <a:solidFill>
                <a:srgbClr val="fb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6166800" y="4191120"/>
                <a:ext cx="11880" cy="1040760"/>
              </a:xfrm>
              <a:prstGeom prst="rect">
                <a:avLst/>
              </a:prstGeom>
              <a:solidFill>
                <a:srgbClr val="fd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6178680" y="4191120"/>
                <a:ext cx="24120" cy="1040760"/>
              </a:xfrm>
              <a:prstGeom prst="rect">
                <a:avLst/>
              </a:prstGeom>
              <a:solidFill>
                <a:srgbClr val="f3c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6203160" y="4191120"/>
                <a:ext cx="12240" cy="1040760"/>
              </a:xfrm>
              <a:prstGeom prst="rect">
                <a:avLst/>
              </a:prstGeom>
              <a:solidFill>
                <a:srgbClr val="dcb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6215760" y="4191120"/>
                <a:ext cx="24120" cy="1040760"/>
              </a:xfrm>
              <a:prstGeom prst="rect">
                <a:avLst/>
              </a:prstGeom>
              <a:solidFill>
                <a:srgbClr val="ba9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6239880" y="4191120"/>
                <a:ext cx="12240" cy="1040760"/>
              </a:xfrm>
              <a:prstGeom prst="rect">
                <a:avLst/>
              </a:prstGeom>
              <a:solidFill>
                <a:srgbClr val="967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6252480" y="4191120"/>
                <a:ext cx="24120" cy="1040760"/>
              </a:xfrm>
              <a:prstGeom prst="rect">
                <a:avLst/>
              </a:prstGeom>
              <a:solidFill>
                <a:srgbClr val="7e6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9" name=""/>
            <p:cNvSpPr/>
            <p:nvPr/>
          </p:nvSpPr>
          <p:spPr>
            <a:xfrm>
              <a:off x="6058080" y="4319640"/>
              <a:ext cx="218880" cy="10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6537240" y="4148280"/>
              <a:ext cx="239760" cy="107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1" name=""/>
            <p:cNvGrpSpPr/>
            <p:nvPr/>
          </p:nvGrpSpPr>
          <p:grpSpPr>
            <a:xfrm>
              <a:off x="7031160" y="4419720"/>
              <a:ext cx="218520" cy="795240"/>
              <a:chOff x="7031160" y="4419720"/>
              <a:chExt cx="218520" cy="795240"/>
            </a:xfrm>
          </p:grpSpPr>
          <p:sp>
            <p:nvSpPr>
              <p:cNvPr id="722" name=""/>
              <p:cNvSpPr/>
              <p:nvPr/>
            </p:nvSpPr>
            <p:spPr>
              <a:xfrm>
                <a:off x="7031160" y="4419720"/>
                <a:ext cx="11880" cy="795240"/>
              </a:xfrm>
              <a:prstGeom prst="rect">
                <a:avLst/>
              </a:prstGeom>
              <a:solidFill>
                <a:srgbClr val="79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7043040" y="4419720"/>
                <a:ext cx="22680" cy="795240"/>
              </a:xfrm>
              <a:prstGeom prst="rect">
                <a:avLst/>
              </a:prstGeom>
              <a:solidFill>
                <a:srgbClr val="8c7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7066080" y="4419720"/>
                <a:ext cx="11880" cy="795240"/>
              </a:xfrm>
              <a:prstGeom prst="rect">
                <a:avLst/>
              </a:prstGeom>
              <a:solidFill>
                <a:srgbClr val="ad8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7078320" y="4419720"/>
                <a:ext cx="24480" cy="795240"/>
              </a:xfrm>
              <a:prstGeom prst="rect">
                <a:avLst/>
              </a:prstGeom>
              <a:solidFill>
                <a:srgbClr val="d2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7102800" y="4419720"/>
                <a:ext cx="11880" cy="795240"/>
              </a:xfrm>
              <a:prstGeom prst="rect">
                <a:avLst/>
              </a:prstGeom>
              <a:solidFill>
                <a:srgbClr val="ed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7115040" y="4419720"/>
                <a:ext cx="24480" cy="795240"/>
              </a:xfrm>
              <a:prstGeom prst="rect">
                <a:avLst/>
              </a:prstGeom>
              <a:solidFill>
                <a:srgbClr val="fb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7139880" y="4419720"/>
                <a:ext cx="11880" cy="795240"/>
              </a:xfrm>
              <a:prstGeom prst="rect">
                <a:avLst/>
              </a:prstGeom>
              <a:solidFill>
                <a:srgbClr val="fd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7151760" y="4419720"/>
                <a:ext cx="24480" cy="795240"/>
              </a:xfrm>
              <a:prstGeom prst="rect">
                <a:avLst/>
              </a:prstGeom>
              <a:solidFill>
                <a:srgbClr val="f3c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7176600" y="4419720"/>
                <a:ext cx="11880" cy="795240"/>
              </a:xfrm>
              <a:prstGeom prst="rect">
                <a:avLst/>
              </a:prstGeom>
              <a:solidFill>
                <a:srgbClr val="dcb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7188840" y="4419720"/>
                <a:ext cx="24120" cy="795240"/>
              </a:xfrm>
              <a:prstGeom prst="rect">
                <a:avLst/>
              </a:prstGeom>
              <a:solidFill>
                <a:srgbClr val="ba9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7212960" y="4419720"/>
                <a:ext cx="12240" cy="795240"/>
              </a:xfrm>
              <a:prstGeom prst="rect">
                <a:avLst/>
              </a:prstGeom>
              <a:solidFill>
                <a:srgbClr val="967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7225560" y="4419720"/>
                <a:ext cx="24120" cy="795240"/>
              </a:xfrm>
              <a:prstGeom prst="rect">
                <a:avLst/>
              </a:prstGeom>
              <a:solidFill>
                <a:srgbClr val="7e6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4" name=""/>
            <p:cNvSpPr/>
            <p:nvPr/>
          </p:nvSpPr>
          <p:spPr>
            <a:xfrm>
              <a:off x="7031160" y="3906720"/>
              <a:ext cx="226800" cy="131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5" name=""/>
            <p:cNvGrpSpPr/>
            <p:nvPr/>
          </p:nvGrpSpPr>
          <p:grpSpPr>
            <a:xfrm>
              <a:off x="7510320" y="3886200"/>
              <a:ext cx="219240" cy="1325520"/>
              <a:chOff x="7510320" y="3886200"/>
              <a:chExt cx="219240" cy="1325520"/>
            </a:xfrm>
          </p:grpSpPr>
          <p:sp>
            <p:nvSpPr>
              <p:cNvPr id="736" name=""/>
              <p:cNvSpPr/>
              <p:nvPr/>
            </p:nvSpPr>
            <p:spPr>
              <a:xfrm>
                <a:off x="7510320" y="3886200"/>
                <a:ext cx="23040" cy="1325520"/>
              </a:xfrm>
              <a:prstGeom prst="rect">
                <a:avLst/>
              </a:prstGeom>
              <a:solidFill>
                <a:srgbClr val="7d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7533360" y="3886200"/>
                <a:ext cx="11520" cy="1325520"/>
              </a:xfrm>
              <a:prstGeom prst="rect">
                <a:avLst/>
              </a:prstGeom>
              <a:solidFill>
                <a:srgbClr val="937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7544880" y="3886200"/>
                <a:ext cx="23040" cy="1325520"/>
              </a:xfrm>
              <a:prstGeom prst="rect">
                <a:avLst/>
              </a:prstGeom>
              <a:solidFill>
                <a:srgbClr val="b49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7568280" y="3886200"/>
                <a:ext cx="11520" cy="1325520"/>
              </a:xfrm>
              <a:prstGeom prst="rect">
                <a:avLst/>
              </a:prstGeom>
              <a:solidFill>
                <a:srgbClr val="d7a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7579800" y="3886200"/>
                <a:ext cx="23040" cy="1325520"/>
              </a:xfrm>
              <a:prstGeom prst="rect">
                <a:avLst/>
              </a:prstGeom>
              <a:solidFill>
                <a:srgbClr val="ee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603200" y="3886200"/>
                <a:ext cx="11520" cy="1325520"/>
              </a:xfrm>
              <a:prstGeom prst="rect">
                <a:avLst/>
              </a:prstGeom>
              <a:solidFill>
                <a:srgbClr val="fbc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7614720" y="3886200"/>
                <a:ext cx="23040" cy="1325520"/>
              </a:xfrm>
              <a:prstGeom prst="rect">
                <a:avLst/>
              </a:prstGeom>
              <a:solidFill>
                <a:srgbClr val="fd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7637760" y="3886200"/>
                <a:ext cx="23040" cy="1325520"/>
              </a:xfrm>
              <a:prstGeom prst="rect">
                <a:avLst/>
              </a:prstGeom>
              <a:solidFill>
                <a:srgbClr val="ee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7661160" y="3886200"/>
                <a:ext cx="11520" cy="1325520"/>
              </a:xfrm>
              <a:prstGeom prst="rect">
                <a:avLst/>
              </a:prstGeom>
              <a:solidFill>
                <a:srgbClr val="d7a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7672680" y="3886200"/>
                <a:ext cx="21600" cy="1325520"/>
              </a:xfrm>
              <a:prstGeom prst="rect">
                <a:avLst/>
              </a:prstGeom>
              <a:solidFill>
                <a:srgbClr val="b49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694640" y="3886200"/>
                <a:ext cx="11520" cy="1325520"/>
              </a:xfrm>
              <a:prstGeom prst="rect">
                <a:avLst/>
              </a:prstGeom>
              <a:solidFill>
                <a:srgbClr val="937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7706520" y="3886200"/>
                <a:ext cx="23040" cy="1325520"/>
              </a:xfrm>
              <a:prstGeom prst="rect">
                <a:avLst/>
              </a:prstGeom>
              <a:solidFill>
                <a:srgbClr val="7d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8" name=""/>
            <p:cNvGrpSpPr/>
            <p:nvPr/>
          </p:nvGrpSpPr>
          <p:grpSpPr>
            <a:xfrm>
              <a:off x="8004240" y="3429000"/>
              <a:ext cx="218520" cy="1828440"/>
              <a:chOff x="8004240" y="3429000"/>
              <a:chExt cx="218520" cy="1828440"/>
            </a:xfrm>
          </p:grpSpPr>
          <p:sp>
            <p:nvSpPr>
              <p:cNvPr id="749" name=""/>
              <p:cNvSpPr/>
              <p:nvPr/>
            </p:nvSpPr>
            <p:spPr>
              <a:xfrm>
                <a:off x="8004240" y="3429000"/>
                <a:ext cx="11880" cy="1828440"/>
              </a:xfrm>
              <a:prstGeom prst="rect">
                <a:avLst/>
              </a:prstGeom>
              <a:solidFill>
                <a:srgbClr val="48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8016120" y="3429000"/>
                <a:ext cx="22680" cy="1828440"/>
              </a:xfrm>
              <a:prstGeom prst="rect">
                <a:avLst/>
              </a:prstGeom>
              <a:solidFill>
                <a:srgbClr val="547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8039160" y="3429000"/>
                <a:ext cx="12240" cy="1828440"/>
              </a:xfrm>
              <a:prstGeom prst="rect">
                <a:avLst/>
              </a:prstGeom>
              <a:solidFill>
                <a:srgbClr val="688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8051760" y="3429000"/>
                <a:ext cx="24120" cy="1828440"/>
              </a:xfrm>
              <a:prstGeom prst="rect">
                <a:avLst/>
              </a:prstGeom>
              <a:solidFill>
                <a:srgbClr val="7e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8075880" y="3429000"/>
                <a:ext cx="11880" cy="1828440"/>
              </a:xfrm>
              <a:prstGeom prst="rect">
                <a:avLst/>
              </a:prstGeom>
              <a:solidFill>
                <a:srgbClr val="8e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8088120" y="3429000"/>
                <a:ext cx="24480" cy="1828440"/>
              </a:xfrm>
              <a:prstGeom prst="rect">
                <a:avLst/>
              </a:prstGeom>
              <a:solidFill>
                <a:srgbClr val="96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8112960" y="3429000"/>
                <a:ext cx="11880" cy="1828440"/>
              </a:xfrm>
              <a:prstGeom prst="rect">
                <a:avLst/>
              </a:prstGeom>
              <a:solidFill>
                <a:srgbClr val="98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8124840" y="3429000"/>
                <a:ext cx="24480" cy="1828440"/>
              </a:xfrm>
              <a:prstGeom prst="rect">
                <a:avLst/>
              </a:prstGeom>
              <a:solidFill>
                <a:srgbClr val="92c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8149680" y="3429000"/>
                <a:ext cx="11880" cy="1828440"/>
              </a:xfrm>
              <a:prstGeom prst="rect">
                <a:avLst/>
              </a:prstGeom>
              <a:solidFill>
                <a:srgbClr val="84b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8161920" y="3429000"/>
                <a:ext cx="24480" cy="1828440"/>
              </a:xfrm>
              <a:prstGeom prst="rect">
                <a:avLst/>
              </a:prstGeom>
              <a:solidFill>
                <a:srgbClr val="6f9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8186400" y="3429000"/>
                <a:ext cx="11880" cy="1828440"/>
              </a:xfrm>
              <a:prstGeom prst="rect">
                <a:avLst/>
              </a:prstGeom>
              <a:solidFill>
                <a:srgbClr val="5a7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8198640" y="3429000"/>
                <a:ext cx="24120" cy="1828440"/>
              </a:xfrm>
              <a:prstGeom prst="rect">
                <a:avLst/>
              </a:prstGeom>
              <a:solidFill>
                <a:srgbClr val="4b6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1" name=""/>
            <p:cNvSpPr/>
            <p:nvPr/>
          </p:nvSpPr>
          <p:spPr>
            <a:xfrm>
              <a:off x="8004240" y="3529080"/>
              <a:ext cx="226800" cy="169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1557360" y="2349360"/>
              <a:ext cx="1440" cy="287496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1506600" y="5224320"/>
              <a:ext cx="50760" cy="180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1506600" y="4811760"/>
              <a:ext cx="50760" cy="144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1506600" y="4398840"/>
              <a:ext cx="50760" cy="180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1506600" y="3987720"/>
              <a:ext cx="50760" cy="180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1506600" y="3586320"/>
              <a:ext cx="50760" cy="144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1506600" y="3173400"/>
              <a:ext cx="50760" cy="144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506600" y="2762280"/>
              <a:ext cx="50760" cy="144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506600" y="2349360"/>
              <a:ext cx="50760" cy="180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557360" y="5224320"/>
              <a:ext cx="6800760" cy="180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 flipV="1">
              <a:off x="1557360" y="5223960"/>
              <a:ext cx="1440" cy="349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 flipV="1">
              <a:off x="2038320" y="5223960"/>
              <a:ext cx="1440" cy="349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 flipV="1">
              <a:off x="2530440" y="5223960"/>
              <a:ext cx="1800" cy="349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 flipV="1">
              <a:off x="3011400" y="5223960"/>
              <a:ext cx="1800" cy="349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 flipV="1">
              <a:off x="3503520" y="5223960"/>
              <a:ext cx="1800" cy="349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 flipV="1">
              <a:off x="3984480" y="5223960"/>
              <a:ext cx="1800" cy="349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V="1">
              <a:off x="4476600" y="5223960"/>
              <a:ext cx="1800" cy="349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V="1">
              <a:off x="4957920" y="5223960"/>
              <a:ext cx="1440" cy="349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5437080" y="5223960"/>
              <a:ext cx="1800" cy="349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 flipV="1">
              <a:off x="5931000" y="5223960"/>
              <a:ext cx="1440" cy="349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flipV="1">
              <a:off x="6410160" y="5223960"/>
              <a:ext cx="1800" cy="349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 flipV="1">
              <a:off x="6904080" y="5223960"/>
              <a:ext cx="1440" cy="349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7383600" y="5223960"/>
              <a:ext cx="1440" cy="349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 flipV="1">
              <a:off x="7877160" y="5223960"/>
              <a:ext cx="1440" cy="349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flipV="1">
              <a:off x="8358120" y="5223960"/>
              <a:ext cx="1800" cy="349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364480" y="1547640"/>
              <a:ext cx="52023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Verdana"/>
                </a:rPr>
                <a:t>Penetración Telefónica Móvil por Región</a:t>
              </a:r>
              <a:r>
                <a:rPr b="1" lang="en-US" sz="2200" spc="-1" strike="noStrike">
                  <a:solidFill>
                    <a:srgbClr val="333399"/>
                  </a:solidFill>
                  <a:latin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3408120" y="1879560"/>
              <a:ext cx="2250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Verdana"/>
                </a:rPr>
                <a:t>(Diciembre de 2000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1670760" y="32004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21,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150280" y="31734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21,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2656800" y="39528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11,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3123360" y="358128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17,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3656880" y="32767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20,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114080" y="23623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80"/>
                  </a:solidFill>
                  <a:latin typeface="Arial"/>
                </a:rPr>
                <a:t>32,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1280" y="37339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15,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5104800" y="39625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12,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5550840" y="384984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13,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6019200" y="39625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12,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6523920" y="386064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13,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7085880" y="411480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9,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7466760" y="358128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16,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7990920" y="321948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80"/>
                  </a:solidFill>
                  <a:latin typeface="Arial"/>
                </a:rPr>
                <a:t>22,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1202040" y="513252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80"/>
                  </a:solidFill>
                  <a:latin typeface="Arial"/>
                </a:rPr>
                <a:t>0,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202040" y="471960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80"/>
                  </a:solidFill>
                  <a:latin typeface="Arial"/>
                </a:rPr>
                <a:t>5,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1112400" y="430848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80"/>
                  </a:solidFill>
                  <a:latin typeface="Arial"/>
                </a:rPr>
                <a:t>10,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1112400" y="389556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80"/>
                  </a:solidFill>
                  <a:latin typeface="Arial"/>
                </a:rPr>
                <a:t>15,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1112400" y="349416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80"/>
                  </a:solidFill>
                  <a:latin typeface="Arial"/>
                </a:rPr>
                <a:t>20,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1112400" y="308304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80"/>
                  </a:solidFill>
                  <a:latin typeface="Arial"/>
                </a:rPr>
                <a:t>25,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1112400" y="26701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80"/>
                  </a:solidFill>
                  <a:latin typeface="Arial"/>
                </a:rPr>
                <a:t>30,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1112400" y="225756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80"/>
                  </a:solidFill>
                  <a:latin typeface="Arial"/>
                </a:rPr>
                <a:t>35,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 rot="16200000">
              <a:off x="1766520" y="524124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 rot="16200000">
              <a:off x="2241000" y="52477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I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 rot="16200000">
              <a:off x="2704680" y="5252400"/>
              <a:ext cx="105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II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 rot="16200000">
              <a:off x="3189960" y="5291280"/>
              <a:ext cx="119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IV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 rot="16200000">
              <a:off x="3688200" y="528516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V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 rot="16200000">
              <a:off x="4111560" y="5307480"/>
              <a:ext cx="197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80"/>
                  </a:solidFill>
                  <a:latin typeface="Arial"/>
                </a:rPr>
                <a:t>R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 rot="16200000">
              <a:off x="4644000" y="5291280"/>
              <a:ext cx="119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V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rot="16200000">
              <a:off x="5105880" y="5294880"/>
              <a:ext cx="15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VI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 rot="16200000">
              <a:off x="5582160" y="5301000"/>
              <a:ext cx="189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VII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 rot="16200000">
              <a:off x="6096600" y="5280120"/>
              <a:ext cx="119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I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 rot="16200000">
              <a:off x="6607800" y="527400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 rot="16200000">
              <a:off x="7069680" y="5280120"/>
              <a:ext cx="119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X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 rot="16200000">
              <a:off x="7533360" y="5283360"/>
              <a:ext cx="15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XI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 rot="16200000">
              <a:off x="7727400" y="5546880"/>
              <a:ext cx="753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80"/>
                  </a:solidFill>
                  <a:latin typeface="Arial"/>
                </a:rPr>
                <a:t>TOTAL PAÍ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4527720" y="5626080"/>
              <a:ext cx="517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80"/>
                  </a:solidFill>
                  <a:latin typeface="Arial"/>
                </a:rPr>
                <a:t>Reg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 rot="16200000">
              <a:off x="-239760" y="3678120"/>
              <a:ext cx="2311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80"/>
                  </a:solidFill>
                  <a:latin typeface="Arial"/>
                </a:rPr>
                <a:t>Nº Líneas en Servicio / 100 Hab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73200" y="1352520"/>
              <a:ext cx="8089920" cy="51325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2125800" y="5773680"/>
              <a:ext cx="3058920" cy="53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2232000" y="5808600"/>
              <a:ext cx="1158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80"/>
                  </a:solidFill>
                  <a:latin typeface="Verdana"/>
                </a:rPr>
                <a:t>Fuente:  SUBT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1523880" y="3429000"/>
              <a:ext cx="693432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1" name=""/>
            <p:cNvGrpSpPr/>
            <p:nvPr/>
          </p:nvGrpSpPr>
          <p:grpSpPr>
            <a:xfrm>
              <a:off x="1676520" y="3462480"/>
              <a:ext cx="218520" cy="1794960"/>
              <a:chOff x="1676520" y="3462480"/>
              <a:chExt cx="218520" cy="1794960"/>
            </a:xfrm>
          </p:grpSpPr>
          <p:sp>
            <p:nvSpPr>
              <p:cNvPr id="832" name=""/>
              <p:cNvSpPr/>
              <p:nvPr/>
            </p:nvSpPr>
            <p:spPr>
              <a:xfrm>
                <a:off x="1676520" y="3462480"/>
                <a:ext cx="23040" cy="1794960"/>
              </a:xfrm>
              <a:prstGeom prst="rect">
                <a:avLst/>
              </a:prstGeom>
              <a:solidFill>
                <a:srgbClr val="7d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1699560" y="3462480"/>
                <a:ext cx="11160" cy="1794960"/>
              </a:xfrm>
              <a:prstGeom prst="rect">
                <a:avLst/>
              </a:prstGeom>
              <a:solidFill>
                <a:srgbClr val="937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1711080" y="3462480"/>
                <a:ext cx="23040" cy="1794960"/>
              </a:xfrm>
              <a:prstGeom prst="rect">
                <a:avLst/>
              </a:prstGeom>
              <a:solidFill>
                <a:srgbClr val="b49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1734120" y="3462480"/>
                <a:ext cx="11160" cy="1794960"/>
              </a:xfrm>
              <a:prstGeom prst="rect">
                <a:avLst/>
              </a:prstGeom>
              <a:solidFill>
                <a:srgbClr val="d7a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1745640" y="3462480"/>
                <a:ext cx="23040" cy="1794960"/>
              </a:xfrm>
              <a:prstGeom prst="rect">
                <a:avLst/>
              </a:prstGeom>
              <a:solidFill>
                <a:srgbClr val="ee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1768680" y="3462480"/>
                <a:ext cx="11160" cy="1794960"/>
              </a:xfrm>
              <a:prstGeom prst="rect">
                <a:avLst/>
              </a:prstGeom>
              <a:solidFill>
                <a:srgbClr val="fbc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1780200" y="3462480"/>
                <a:ext cx="23040" cy="1794960"/>
              </a:xfrm>
              <a:prstGeom prst="rect">
                <a:avLst/>
              </a:prstGeom>
              <a:solidFill>
                <a:srgbClr val="fd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1803240" y="3462480"/>
                <a:ext cx="22680" cy="1794960"/>
              </a:xfrm>
              <a:prstGeom prst="rect">
                <a:avLst/>
              </a:prstGeom>
              <a:solidFill>
                <a:srgbClr val="ee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1825920" y="3462480"/>
                <a:ext cx="11160" cy="1794960"/>
              </a:xfrm>
              <a:prstGeom prst="rect">
                <a:avLst/>
              </a:prstGeom>
              <a:solidFill>
                <a:srgbClr val="d7a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1837440" y="3462480"/>
                <a:ext cx="23040" cy="1794960"/>
              </a:xfrm>
              <a:prstGeom prst="rect">
                <a:avLst/>
              </a:prstGeom>
              <a:solidFill>
                <a:srgbClr val="b49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1860840" y="3462480"/>
                <a:ext cx="11160" cy="1794960"/>
              </a:xfrm>
              <a:prstGeom prst="rect">
                <a:avLst/>
              </a:prstGeom>
              <a:solidFill>
                <a:srgbClr val="937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1872000" y="3462480"/>
                <a:ext cx="23040" cy="1794960"/>
              </a:xfrm>
              <a:prstGeom prst="rect">
                <a:avLst/>
              </a:prstGeom>
              <a:solidFill>
                <a:srgbClr val="7d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4" name=""/>
            <p:cNvGrpSpPr/>
            <p:nvPr/>
          </p:nvGrpSpPr>
          <p:grpSpPr>
            <a:xfrm>
              <a:off x="6562800" y="4114800"/>
              <a:ext cx="218520" cy="1142640"/>
              <a:chOff x="6562800" y="4114800"/>
              <a:chExt cx="218520" cy="1142640"/>
            </a:xfrm>
          </p:grpSpPr>
          <p:sp>
            <p:nvSpPr>
              <p:cNvPr id="845" name=""/>
              <p:cNvSpPr/>
              <p:nvPr/>
            </p:nvSpPr>
            <p:spPr>
              <a:xfrm>
                <a:off x="6562800" y="4114800"/>
                <a:ext cx="23040" cy="1142640"/>
              </a:xfrm>
              <a:prstGeom prst="rect">
                <a:avLst/>
              </a:prstGeom>
              <a:solidFill>
                <a:srgbClr val="7d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6585840" y="4114800"/>
                <a:ext cx="11160" cy="1142640"/>
              </a:xfrm>
              <a:prstGeom prst="rect">
                <a:avLst/>
              </a:prstGeom>
              <a:solidFill>
                <a:srgbClr val="937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6597360" y="4114800"/>
                <a:ext cx="22680" cy="1142640"/>
              </a:xfrm>
              <a:prstGeom prst="rect">
                <a:avLst/>
              </a:prstGeom>
              <a:solidFill>
                <a:srgbClr val="b49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6620400" y="4114800"/>
                <a:ext cx="11520" cy="1142640"/>
              </a:xfrm>
              <a:prstGeom prst="rect">
                <a:avLst/>
              </a:prstGeom>
              <a:solidFill>
                <a:srgbClr val="d7a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6632280" y="4114800"/>
                <a:ext cx="22680" cy="1142640"/>
              </a:xfrm>
              <a:prstGeom prst="rect">
                <a:avLst/>
              </a:prstGeom>
              <a:solidFill>
                <a:srgbClr val="ee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6655320" y="4114800"/>
                <a:ext cx="11520" cy="1142640"/>
              </a:xfrm>
              <a:prstGeom prst="rect">
                <a:avLst/>
              </a:prstGeom>
              <a:solidFill>
                <a:srgbClr val="fbc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6667200" y="4114800"/>
                <a:ext cx="22680" cy="1142640"/>
              </a:xfrm>
              <a:prstGeom prst="rect">
                <a:avLst/>
              </a:prstGeom>
              <a:solidFill>
                <a:srgbClr val="fd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6690240" y="4114800"/>
                <a:ext cx="21600" cy="1142640"/>
              </a:xfrm>
              <a:prstGeom prst="rect">
                <a:avLst/>
              </a:prstGeom>
              <a:solidFill>
                <a:srgbClr val="ee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6711840" y="4114800"/>
                <a:ext cx="11520" cy="1142640"/>
              </a:xfrm>
              <a:prstGeom prst="rect">
                <a:avLst/>
              </a:prstGeom>
              <a:solidFill>
                <a:srgbClr val="d7a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6723720" y="4114800"/>
                <a:ext cx="22680" cy="1142640"/>
              </a:xfrm>
              <a:prstGeom prst="rect">
                <a:avLst/>
              </a:prstGeom>
              <a:solidFill>
                <a:srgbClr val="b49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6746760" y="4114800"/>
                <a:ext cx="11160" cy="1142640"/>
              </a:xfrm>
              <a:prstGeom prst="rect">
                <a:avLst/>
              </a:prstGeom>
              <a:solidFill>
                <a:srgbClr val="937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6758280" y="4114800"/>
                <a:ext cx="23040" cy="1142640"/>
              </a:xfrm>
              <a:prstGeom prst="rect">
                <a:avLst/>
              </a:prstGeom>
              <a:solidFill>
                <a:srgbClr val="7d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7" name="Chile" descr=""/>
          <p:cNvPicPr/>
          <p:nvPr/>
        </p:nvPicPr>
        <p:blipFill>
          <a:blip r:embed="rId1"/>
          <a:stretch/>
        </p:blipFill>
        <p:spPr>
          <a:xfrm>
            <a:off x="1600200" y="1143000"/>
            <a:ext cx="7062840" cy="5438880"/>
          </a:xfrm>
          <a:prstGeom prst="rect">
            <a:avLst/>
          </a:prstGeom>
          <a:ln w="0">
            <a:noFill/>
          </a:ln>
        </p:spPr>
      </p:pic>
      <p:sp>
        <p:nvSpPr>
          <p:cNvPr id="858" name=""/>
          <p:cNvSpPr/>
          <p:nvPr/>
        </p:nvSpPr>
        <p:spPr>
          <a:xfrm>
            <a:off x="0" y="2057400"/>
            <a:ext cx="1676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1" lang="es-ES_tradnl" sz="1200" spc="-1" strike="noStrike" baseline="30000">
                <a:solidFill>
                  <a:srgbClr val="000000"/>
                </a:solidFill>
                <a:latin typeface="Verdana"/>
              </a:rPr>
              <a:t>a </a:t>
            </a: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Región: 52 EB (2.7%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228600" y="2666880"/>
            <a:ext cx="1752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II</a:t>
            </a:r>
            <a:r>
              <a:rPr b="1" lang="es-ES_tradnl" sz="1200" spc="-1" strike="noStrike" baseline="30000">
                <a:solidFill>
                  <a:srgbClr val="000000"/>
                </a:solidFill>
                <a:latin typeface="Verdana"/>
              </a:rPr>
              <a:t>a </a:t>
            </a: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Región: 65 EB (3.3%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990720" y="3886200"/>
            <a:ext cx="182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IV</a:t>
            </a:r>
            <a:r>
              <a:rPr b="1" lang="es-ES_tradnl" sz="1200" spc="-1" strike="noStrike" baseline="30000">
                <a:solidFill>
                  <a:srgbClr val="000000"/>
                </a:solidFill>
                <a:latin typeface="Verdana"/>
              </a:rPr>
              <a:t>a </a:t>
            </a: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Región: 89 EB (4.5%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533520" y="443556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1" lang="en-US" sz="1600" spc="-1" strike="noStrike" baseline="30000">
                <a:solidFill>
                  <a:srgbClr val="000000"/>
                </a:solidFill>
                <a:latin typeface="Verdana"/>
              </a:rPr>
              <a:t>a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Región: 272 EB (13,9%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2209680" y="5791320"/>
            <a:ext cx="19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VI</a:t>
            </a:r>
            <a:r>
              <a:rPr b="1" lang="es-ES_tradnl" sz="1200" spc="-1" strike="noStrike" baseline="30000">
                <a:solidFill>
                  <a:srgbClr val="000000"/>
                </a:solidFill>
                <a:latin typeface="Verdana"/>
              </a:rPr>
              <a:t>a </a:t>
            </a: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Región: 85 EB (4.3%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4876920" y="1143000"/>
            <a:ext cx="204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VII</a:t>
            </a:r>
            <a:r>
              <a:rPr b="1" lang="es-ES_tradnl" sz="1200" spc="-1" strike="noStrike" baseline="30000">
                <a:solidFill>
                  <a:srgbClr val="000000"/>
                </a:solidFill>
                <a:latin typeface="Verdana"/>
              </a:rPr>
              <a:t>a </a:t>
            </a: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Región: 87 EB (4.4%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5818680" y="1704960"/>
            <a:ext cx="211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VIII</a:t>
            </a:r>
            <a:r>
              <a:rPr b="1" lang="es-ES_tradnl" sz="1600" spc="-1" strike="noStrike" baseline="30000">
                <a:solidFill>
                  <a:srgbClr val="000000"/>
                </a:solidFill>
                <a:latin typeface="Verdana"/>
              </a:rPr>
              <a:t>a </a:t>
            </a: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Región: 173 E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(8.8%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6008760" y="2438280"/>
            <a:ext cx="155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IX</a:t>
            </a:r>
            <a:r>
              <a:rPr b="1" lang="es-ES_tradnl" sz="1200" spc="-1" strike="noStrike" baseline="30000">
                <a:solidFill>
                  <a:srgbClr val="000000"/>
                </a:solidFill>
                <a:latin typeface="Verdana"/>
              </a:rPr>
              <a:t>a </a:t>
            </a: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Región: 119 E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(6.1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6540120" y="2997360"/>
            <a:ext cx="1881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s-ES_tradnl" sz="1600" spc="-1" strike="noStrike" baseline="30000">
                <a:solidFill>
                  <a:srgbClr val="000000"/>
                </a:solidFill>
                <a:latin typeface="Verdana"/>
              </a:rPr>
              <a:t>a </a:t>
            </a: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Región: 179 E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(9.1%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6922440" y="3733920"/>
            <a:ext cx="1345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XI</a:t>
            </a:r>
            <a:r>
              <a:rPr b="1" lang="es-ES_tradnl" sz="1200" spc="-1" strike="noStrike" baseline="30000">
                <a:solidFill>
                  <a:srgbClr val="000000"/>
                </a:solidFill>
                <a:latin typeface="Verdana"/>
              </a:rPr>
              <a:t>a </a:t>
            </a: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Región: 6 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(0.3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7374960" y="4343400"/>
            <a:ext cx="1491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XII</a:t>
            </a:r>
            <a:r>
              <a:rPr b="1" lang="es-ES_tradnl" sz="1200" spc="-1" strike="noStrike" baseline="30000">
                <a:solidFill>
                  <a:srgbClr val="000000"/>
                </a:solidFill>
                <a:latin typeface="Verdana"/>
              </a:rPr>
              <a:t>a </a:t>
            </a: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Región: 12 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(0.6%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613080" y="5054760"/>
            <a:ext cx="274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gión Metropolitan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785 EB (40.1%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609480" y="3276720"/>
            <a:ext cx="182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III</a:t>
            </a:r>
            <a:r>
              <a:rPr b="1" lang="es-ES_tradnl" sz="1200" spc="-1" strike="noStrike" baseline="30000">
                <a:solidFill>
                  <a:srgbClr val="000000"/>
                </a:solidFill>
                <a:latin typeface="Verdana"/>
              </a:rPr>
              <a:t>a </a:t>
            </a: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Región: 36 EB (1.8%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 flipH="1">
            <a:off x="1676520" y="1828800"/>
            <a:ext cx="761760" cy="457200"/>
          </a:xfrm>
          <a:prstGeom prst="line">
            <a:avLst/>
          </a:prstGeom>
          <a:ln w="28440">
            <a:solidFill>
              <a:srgbClr val="339933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 flipH="1">
            <a:off x="1981080" y="2286000"/>
            <a:ext cx="1067040" cy="609480"/>
          </a:xfrm>
          <a:prstGeom prst="line">
            <a:avLst/>
          </a:prstGeom>
          <a:ln w="28440">
            <a:solidFill>
              <a:srgbClr val="339933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 flipH="1">
            <a:off x="2438280" y="2819520"/>
            <a:ext cx="1067040" cy="685800"/>
          </a:xfrm>
          <a:prstGeom prst="line">
            <a:avLst/>
          </a:prstGeom>
          <a:ln w="28440">
            <a:solidFill>
              <a:srgbClr val="339933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 flipH="1">
            <a:off x="3048120" y="3581280"/>
            <a:ext cx="1218960" cy="990720"/>
          </a:xfrm>
          <a:prstGeom prst="line">
            <a:avLst/>
          </a:prstGeom>
          <a:ln w="28440">
            <a:solidFill>
              <a:srgbClr val="339933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 flipH="1">
            <a:off x="3505320" y="3581280"/>
            <a:ext cx="914400" cy="1676520"/>
          </a:xfrm>
          <a:prstGeom prst="line">
            <a:avLst/>
          </a:prstGeom>
          <a:ln w="38160">
            <a:solidFill>
              <a:srgbClr val="3399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 flipH="1">
            <a:off x="2819160" y="3352680"/>
            <a:ext cx="1143000" cy="762120"/>
          </a:xfrm>
          <a:prstGeom prst="line">
            <a:avLst/>
          </a:prstGeom>
          <a:ln w="28440">
            <a:solidFill>
              <a:srgbClr val="339933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 flipH="1">
            <a:off x="3885840" y="3733920"/>
            <a:ext cx="609480" cy="2057400"/>
          </a:xfrm>
          <a:prstGeom prst="line">
            <a:avLst/>
          </a:prstGeom>
          <a:ln w="28440">
            <a:solidFill>
              <a:srgbClr val="339933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 flipH="1">
            <a:off x="4800600" y="1600200"/>
            <a:ext cx="457200" cy="2209680"/>
          </a:xfrm>
          <a:prstGeom prst="line">
            <a:avLst/>
          </a:prstGeom>
          <a:ln w="28440">
            <a:solidFill>
              <a:srgbClr val="339933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 flipH="1">
            <a:off x="4952520" y="2209680"/>
            <a:ext cx="685800" cy="1905120"/>
          </a:xfrm>
          <a:prstGeom prst="line">
            <a:avLst/>
          </a:prstGeom>
          <a:ln w="28440">
            <a:solidFill>
              <a:srgbClr val="339933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5181120" y="2895480"/>
            <a:ext cx="762120" cy="1371600"/>
          </a:xfrm>
          <a:prstGeom prst="line">
            <a:avLst/>
          </a:prstGeom>
          <a:ln w="28440">
            <a:solidFill>
              <a:srgbClr val="339933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 flipH="1">
            <a:off x="5486400" y="3352680"/>
            <a:ext cx="914400" cy="1219320"/>
          </a:xfrm>
          <a:prstGeom prst="line">
            <a:avLst/>
          </a:prstGeom>
          <a:ln w="28440">
            <a:solidFill>
              <a:srgbClr val="339933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 flipH="1">
            <a:off x="6248520" y="4191120"/>
            <a:ext cx="761760" cy="990360"/>
          </a:xfrm>
          <a:prstGeom prst="line">
            <a:avLst/>
          </a:prstGeom>
          <a:ln w="28440">
            <a:solidFill>
              <a:srgbClr val="339933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 flipH="1">
            <a:off x="7543800" y="4800600"/>
            <a:ext cx="1440" cy="1143000"/>
          </a:xfrm>
          <a:prstGeom prst="line">
            <a:avLst/>
          </a:prstGeom>
          <a:ln w="28440">
            <a:solidFill>
              <a:srgbClr val="339933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878760" y="6308640"/>
            <a:ext cx="516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Verdana"/>
              </a:rPr>
              <a:t>TOTAL = 1.964 Estaciones Base / 35 CC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5" name="Logo%20SUBTEL" descr=""/>
          <p:cNvPicPr/>
          <p:nvPr/>
        </p:nvPicPr>
        <p:blipFill>
          <a:blip r:embed="rId2"/>
          <a:stretch/>
        </p:blipFill>
        <p:spPr>
          <a:xfrm>
            <a:off x="7924680" y="252360"/>
            <a:ext cx="1067040" cy="1044720"/>
          </a:xfrm>
          <a:prstGeom prst="rect">
            <a:avLst/>
          </a:prstGeom>
          <a:ln w="0">
            <a:noFill/>
          </a:ln>
        </p:spPr>
      </p:pic>
      <p:sp>
        <p:nvSpPr>
          <p:cNvPr id="886" name=""/>
          <p:cNvSpPr/>
          <p:nvPr/>
        </p:nvSpPr>
        <p:spPr>
          <a:xfrm>
            <a:off x="1295280" y="762120"/>
            <a:ext cx="65534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3399"/>
                </a:solidFill>
                <a:uFillTx/>
                <a:latin typeface="Verdana"/>
              </a:rPr>
              <a:t>TELEFONÍA  MÓVIL - Estaciones 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492480" y="152280"/>
            <a:ext cx="2623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99"/>
                </a:solidFill>
                <a:uFillTx/>
                <a:latin typeface="Verdana"/>
              </a:rPr>
              <a:t>Medios de Acce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8" name="Logo%20SUBTEL" descr=""/>
          <p:cNvPicPr/>
          <p:nvPr/>
        </p:nvPicPr>
        <p:blipFill>
          <a:blip r:embed="rId1"/>
          <a:stretch/>
        </p:blipFill>
        <p:spPr>
          <a:xfrm>
            <a:off x="7924680" y="252360"/>
            <a:ext cx="1067040" cy="1044720"/>
          </a:xfrm>
          <a:prstGeom prst="rect">
            <a:avLst/>
          </a:prstGeom>
          <a:ln w="0">
            <a:noFill/>
          </a:ln>
        </p:spPr>
      </p:pic>
      <p:sp>
        <p:nvSpPr>
          <p:cNvPr id="889" name=""/>
          <p:cNvSpPr/>
          <p:nvPr/>
        </p:nvSpPr>
        <p:spPr>
          <a:xfrm>
            <a:off x="2666880" y="990720"/>
            <a:ext cx="38102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3399"/>
                </a:solidFill>
                <a:uFillTx/>
                <a:latin typeface="Verdana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492480" y="152280"/>
            <a:ext cx="2623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99"/>
                </a:solidFill>
                <a:uFillTx/>
                <a:latin typeface="Verdana"/>
              </a:rPr>
              <a:t>Medios de Acce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Verdana"/>
              </a:rPr>
              <a:t>El total de conexiones a internet en Chile (conmutadas y dedicadas), son del orden de las 650.000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Verdana"/>
              </a:rPr>
              <a:t>Aproximadamente el 75% se generan en la Región Metropolita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962520" y="2895480"/>
            <a:ext cx="914400" cy="1067040"/>
          </a:xfrm>
          <a:prstGeom prst="downArrow">
            <a:avLst>
              <a:gd name="adj1" fmla="val 50000"/>
              <a:gd name="adj2" fmla="val 2917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3" name=""/>
          <p:cNvGrpSpPr/>
          <p:nvPr/>
        </p:nvGrpSpPr>
        <p:grpSpPr>
          <a:xfrm>
            <a:off x="380880" y="914400"/>
            <a:ext cx="2971800" cy="5715000"/>
            <a:chOff x="380880" y="914400"/>
            <a:chExt cx="2971800" cy="5715000"/>
          </a:xfrm>
        </p:grpSpPr>
        <p:graphicFrame>
          <p:nvGraphicFramePr>
            <p:cNvPr id="894" name=""/>
            <p:cNvGraphicFramePr/>
            <p:nvPr/>
          </p:nvGraphicFramePr>
          <p:xfrm>
            <a:off x="1981080" y="914400"/>
            <a:ext cx="1371600" cy="5562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9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981080" y="914400"/>
                      <a:ext cx="1371600" cy="5562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96" name=""/>
            <p:cNvSpPr/>
            <p:nvPr/>
          </p:nvSpPr>
          <p:spPr>
            <a:xfrm>
              <a:off x="457200" y="914400"/>
              <a:ext cx="1828800" cy="556272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97" name="Red%20FO%20-%20001" descr=""/>
            <p:cNvPicPr/>
            <p:nvPr/>
          </p:nvPicPr>
          <p:blipFill>
            <a:blip r:embed="rId3"/>
            <a:stretch/>
          </p:blipFill>
          <p:spPr>
            <a:xfrm>
              <a:off x="838080" y="914400"/>
              <a:ext cx="2417760" cy="266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8" name="Red%20FO%20-%20003" descr=""/>
            <p:cNvPicPr/>
            <p:nvPr/>
          </p:nvPicPr>
          <p:blipFill>
            <a:blip r:embed="rId4"/>
            <a:stretch/>
          </p:blipFill>
          <p:spPr>
            <a:xfrm>
              <a:off x="457200" y="5486400"/>
              <a:ext cx="2438280" cy="92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9" name="Red%20FO%20-%20002" descr=""/>
            <p:cNvPicPr/>
            <p:nvPr/>
          </p:nvPicPr>
          <p:blipFill>
            <a:blip r:embed="rId5"/>
            <a:stretch/>
          </p:blipFill>
          <p:spPr>
            <a:xfrm>
              <a:off x="682560" y="3276720"/>
              <a:ext cx="2365200" cy="25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0" name=""/>
            <p:cNvSpPr/>
            <p:nvPr/>
          </p:nvSpPr>
          <p:spPr>
            <a:xfrm>
              <a:off x="380880" y="6477120"/>
              <a:ext cx="28954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01" name="Logo%20SUBTEL" descr=""/>
          <p:cNvPicPr/>
          <p:nvPr/>
        </p:nvPicPr>
        <p:blipFill>
          <a:blip r:embed="rId6"/>
          <a:stretch/>
        </p:blipFill>
        <p:spPr>
          <a:xfrm>
            <a:off x="7924680" y="252360"/>
            <a:ext cx="1067040" cy="1044720"/>
          </a:xfrm>
          <a:prstGeom prst="rect">
            <a:avLst/>
          </a:prstGeom>
          <a:ln w="0">
            <a:noFill/>
          </a:ln>
        </p:spPr>
      </p:pic>
      <p:sp>
        <p:nvSpPr>
          <p:cNvPr id="902" name=""/>
          <p:cNvSpPr/>
          <p:nvPr/>
        </p:nvSpPr>
        <p:spPr>
          <a:xfrm>
            <a:off x="3276720" y="1212840"/>
            <a:ext cx="48765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</a:rPr>
              <a:t>RED NACIONAL DE FIBRA OPT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3657600" y="2292480"/>
            <a:ext cx="5334120" cy="23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Consta de un tendido de casi 6.000 Km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Cobertura desde Arica a Puerto Mont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Respaldada en un 100% mediante varios anillos de fibra ópt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Capacidad redundan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Procedimientos de restauración a lo largo del paí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860280" y="1744560"/>
            <a:ext cx="32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Características Principal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3917520" y="4952880"/>
            <a:ext cx="363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99"/>
                </a:solidFill>
                <a:uFillTx/>
                <a:latin typeface="Verdana"/>
              </a:rPr>
              <a:t>Ancho de Banda </a:t>
            </a:r>
            <a:r>
              <a:rPr b="1" lang="es-ES_tradnl" sz="1800" spc="-1" strike="noStrike" u="sng">
                <a:solidFill>
                  <a:srgbClr val="000099"/>
                </a:solidFill>
                <a:uFillTx/>
                <a:latin typeface="Verdana"/>
              </a:rPr>
              <a:t>(FFOO Nac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4894560" y="5322960"/>
            <a:ext cx="32331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5,0 Gbps.</a:t>
            </a: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Verdana"/>
              </a:rPr>
              <a:t>Entre Arica y Puerto Mont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457200" y="763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Conectividad Nacional e Intern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8" name="map_so_am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3529080" cy="5638680"/>
          </a:xfrm>
          <a:prstGeom prst="rect">
            <a:avLst/>
          </a:prstGeom>
          <a:ln w="0">
            <a:noFill/>
          </a:ln>
        </p:spPr>
      </p:pic>
      <p:sp>
        <p:nvSpPr>
          <p:cNvPr id="909" name=""/>
          <p:cNvSpPr/>
          <p:nvPr/>
        </p:nvSpPr>
        <p:spPr>
          <a:xfrm>
            <a:off x="4038480" y="2057400"/>
            <a:ext cx="48006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anamericano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, opera desde 02-1998. Punto de conexión: Arica. (2.5 Gbp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mergia: SAM-I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, En operación. Punto de conexión: Arica, Valparaiso. (40 Gbps, futuro 1.28 Tbp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Global Crossing: SAC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e IMPSAT.  En operación. Puntos de conexión Conexión en Valparaíso, Stgo. y Los Andes. (40 Gbps, futuro 1.28 Tbp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royectos: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mericas-3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mericas-8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Magalla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457200" y="609480"/>
            <a:ext cx="358128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3886200" y="958680"/>
            <a:ext cx="4419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99"/>
                </a:solidFill>
                <a:latin typeface="Arial"/>
              </a:rPr>
              <a:t>ANCHO BANDA PAI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99"/>
                </a:solidFill>
                <a:latin typeface="Arial"/>
              </a:rPr>
              <a:t>(FFOO Submarin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2" name="Logo%20SUBTEL" descr=""/>
          <p:cNvPicPr/>
          <p:nvPr/>
        </p:nvPicPr>
        <p:blipFill>
          <a:blip r:embed="rId2"/>
          <a:stretch/>
        </p:blipFill>
        <p:spPr>
          <a:xfrm>
            <a:off x="7924680" y="252360"/>
            <a:ext cx="1067040" cy="1044720"/>
          </a:xfrm>
          <a:prstGeom prst="rect">
            <a:avLst/>
          </a:prstGeom>
          <a:ln w="0">
            <a:noFill/>
          </a:ln>
        </p:spPr>
      </p:pic>
      <p:sp>
        <p:nvSpPr>
          <p:cNvPr id="913" name=""/>
          <p:cNvSpPr/>
          <p:nvPr/>
        </p:nvSpPr>
        <p:spPr>
          <a:xfrm>
            <a:off x="4168800" y="5440320"/>
            <a:ext cx="4594320" cy="9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99"/>
                </a:solidFill>
                <a:uFillTx/>
                <a:latin typeface="Verdana"/>
              </a:rPr>
              <a:t>Ancho de Banda</a:t>
            </a:r>
            <a:r>
              <a:rPr b="1" lang="es-ES" sz="1600" spc="-1" strike="noStrike" u="sng">
                <a:solidFill>
                  <a:srgbClr val="000099"/>
                </a:solidFill>
                <a:uFillTx/>
                <a:latin typeface="Arial"/>
              </a:rPr>
              <a:t> (FFOO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s-ES" sz="3200" spc="-1" strike="noStrike">
                <a:solidFill>
                  <a:srgbClr val="000099"/>
                </a:solidFill>
                <a:latin typeface="Arial"/>
              </a:rPr>
              <a:t>40 Gb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4120200" y="1658880"/>
            <a:ext cx="245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ables internacional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457200" y="152280"/>
            <a:ext cx="6858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Conectividad Nacional e Intern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/>
          <p:nvPr/>
        </p:nvSpPr>
        <p:spPr>
          <a:xfrm>
            <a:off x="228600" y="228600"/>
            <a:ext cx="7238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99"/>
                </a:solidFill>
                <a:uFillTx/>
                <a:latin typeface="Verdana"/>
              </a:rPr>
              <a:t>Tecnologías disponibles de acceso al usuari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2666880" y="2590920"/>
            <a:ext cx="1524240" cy="60948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CCE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IJ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4952880" y="2590920"/>
            <a:ext cx="1524240" cy="609480"/>
          </a:xfrm>
          <a:prstGeom prst="roundRect">
            <a:avLst>
              <a:gd name="adj" fmla="val 16667"/>
            </a:avLst>
          </a:prstGeom>
          <a:solidFill>
            <a:srgbClr val="bfbf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CCE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OV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4876920" y="1752480"/>
            <a:ext cx="685800" cy="83844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 flipH="1">
            <a:off x="3504960" y="1676520"/>
            <a:ext cx="609480" cy="91440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685800" y="2971800"/>
            <a:ext cx="990720" cy="609480"/>
          </a:xfrm>
          <a:prstGeom prst="roundRect">
            <a:avLst>
              <a:gd name="adj" fmla="val 16667"/>
            </a:avLst>
          </a:prstGeom>
          <a:solidFill>
            <a:srgbClr val="ffe8bb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D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1066680" y="3657600"/>
            <a:ext cx="990720" cy="609480"/>
          </a:xfrm>
          <a:prstGeom prst="roundRect">
            <a:avLst>
              <a:gd name="adj" fmla="val 16667"/>
            </a:avLst>
          </a:prstGeom>
          <a:solidFill>
            <a:srgbClr val="ffe8bb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C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Mod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1371600" y="4343400"/>
            <a:ext cx="990720" cy="609480"/>
          </a:xfrm>
          <a:prstGeom prst="roundRect">
            <a:avLst>
              <a:gd name="adj" fmla="val 16667"/>
            </a:avLst>
          </a:prstGeom>
          <a:solidFill>
            <a:srgbClr val="ffe8bb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W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1676520" y="5029200"/>
            <a:ext cx="990360" cy="609480"/>
          </a:xfrm>
          <a:prstGeom prst="roundRect">
            <a:avLst>
              <a:gd name="adj" fmla="val 16667"/>
            </a:avLst>
          </a:prstGeom>
          <a:solidFill>
            <a:srgbClr val="ffe8bb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LM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8001000" y="2514600"/>
            <a:ext cx="990720" cy="609480"/>
          </a:xfrm>
          <a:prstGeom prst="roundRect">
            <a:avLst>
              <a:gd name="adj" fmla="val 16667"/>
            </a:avLst>
          </a:prstGeom>
          <a:solidFill>
            <a:srgbClr val="e1e1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2.5 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7391520" y="3581280"/>
            <a:ext cx="990360" cy="609840"/>
          </a:xfrm>
          <a:prstGeom prst="roundRect">
            <a:avLst>
              <a:gd name="adj" fmla="val 16667"/>
            </a:avLst>
          </a:prstGeom>
          <a:solidFill>
            <a:srgbClr val="e1e1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3 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6248520" y="4724280"/>
            <a:ext cx="990360" cy="609840"/>
          </a:xfrm>
          <a:prstGeom prst="roundRect">
            <a:avLst>
              <a:gd name="adj" fmla="val 16667"/>
            </a:avLst>
          </a:prstGeom>
          <a:solidFill>
            <a:srgbClr val="e1e1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Handhel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y Otr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200400" y="5943600"/>
            <a:ext cx="990720" cy="609480"/>
          </a:xfrm>
          <a:prstGeom prst="roundRect">
            <a:avLst>
              <a:gd name="adj" fmla="val 16667"/>
            </a:avLst>
          </a:prstGeom>
          <a:solidFill>
            <a:srgbClr val="ffe8bb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P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457200" y="2286000"/>
            <a:ext cx="990720" cy="609480"/>
          </a:xfrm>
          <a:prstGeom prst="roundRect">
            <a:avLst>
              <a:gd name="adj" fmla="val 16667"/>
            </a:avLst>
          </a:prstGeom>
          <a:solidFill>
            <a:srgbClr val="ffe8bb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Par C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4267080" y="5943600"/>
            <a:ext cx="990720" cy="609480"/>
          </a:xfrm>
          <a:prstGeom prst="roundRect">
            <a:avLst>
              <a:gd name="adj" fmla="val 16667"/>
            </a:avLst>
          </a:prstGeom>
          <a:solidFill>
            <a:srgbClr val="ffe8bb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TV Di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 flipH="1">
            <a:off x="2133360" y="3200400"/>
            <a:ext cx="685800" cy="609480"/>
          </a:xfrm>
          <a:prstGeom prst="line">
            <a:avLst/>
          </a:prstGeom>
          <a:ln w="381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 flipH="1">
            <a:off x="2362320" y="3276720"/>
            <a:ext cx="761760" cy="1066680"/>
          </a:xfrm>
          <a:prstGeom prst="line">
            <a:avLst/>
          </a:prstGeom>
          <a:ln w="381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 flipH="1">
            <a:off x="2742840" y="3276720"/>
            <a:ext cx="685800" cy="1752480"/>
          </a:xfrm>
          <a:prstGeom prst="line">
            <a:avLst/>
          </a:prstGeom>
          <a:ln w="381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 flipH="1">
            <a:off x="2057040" y="2819520"/>
            <a:ext cx="609480" cy="0"/>
          </a:xfrm>
          <a:prstGeom prst="line">
            <a:avLst/>
          </a:prstGeom>
          <a:ln w="3816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 flipH="1">
            <a:off x="1676520" y="2819520"/>
            <a:ext cx="380880" cy="38088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 flipH="1" flipV="1">
            <a:off x="1447560" y="2666880"/>
            <a:ext cx="609480" cy="15264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3886200" y="3276720"/>
            <a:ext cx="838080" cy="2666880"/>
          </a:xfrm>
          <a:prstGeom prst="line">
            <a:avLst/>
          </a:prstGeom>
          <a:ln w="38160">
            <a:solidFill>
              <a:srgbClr val="80808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3657600" y="3276720"/>
            <a:ext cx="76320" cy="2590560"/>
          </a:xfrm>
          <a:prstGeom prst="line">
            <a:avLst/>
          </a:prstGeom>
          <a:ln w="38160">
            <a:solidFill>
              <a:srgbClr val="80808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5791320" y="3200400"/>
            <a:ext cx="838080" cy="1523880"/>
          </a:xfrm>
          <a:prstGeom prst="line">
            <a:avLst/>
          </a:prstGeom>
          <a:ln w="381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 flipV="1">
            <a:off x="6468840" y="2766600"/>
            <a:ext cx="1540440" cy="28440"/>
          </a:xfrm>
          <a:prstGeom prst="line">
            <a:avLst/>
          </a:prstGeom>
          <a:ln w="381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6400800" y="3200400"/>
            <a:ext cx="990720" cy="609480"/>
          </a:xfrm>
          <a:prstGeom prst="line">
            <a:avLst/>
          </a:prstGeom>
          <a:ln w="381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1066680" y="1143000"/>
            <a:ext cx="6934320" cy="914400"/>
          </a:xfrm>
          <a:prstGeom prst="irregularSeal1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3" name="Logo%20SUBTEL" descr=""/>
          <p:cNvPicPr/>
          <p:nvPr/>
        </p:nvPicPr>
        <p:blipFill>
          <a:blip r:embed="rId1"/>
          <a:stretch/>
        </p:blipFill>
        <p:spPr>
          <a:xfrm>
            <a:off x="7924680" y="152280"/>
            <a:ext cx="1067040" cy="1044720"/>
          </a:xfrm>
          <a:prstGeom prst="rect">
            <a:avLst/>
          </a:prstGeom>
          <a:ln w="0">
            <a:noFill/>
          </a:ln>
        </p:spPr>
      </p:pic>
      <p:sp>
        <p:nvSpPr>
          <p:cNvPr id="944" name=""/>
          <p:cNvSpPr/>
          <p:nvPr/>
        </p:nvSpPr>
        <p:spPr>
          <a:xfrm>
            <a:off x="4239720" y="3278880"/>
            <a:ext cx="1502640" cy="2357640"/>
          </a:xfrm>
          <a:prstGeom prst="line">
            <a:avLst/>
          </a:prstGeom>
          <a:ln w="38160">
            <a:solidFill>
              <a:srgbClr val="80808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5562720" y="5715000"/>
            <a:ext cx="1371600" cy="609480"/>
          </a:xfrm>
          <a:prstGeom prst="roundRect">
            <a:avLst>
              <a:gd name="adj" fmla="val 16667"/>
            </a:avLst>
          </a:prstGeom>
          <a:solidFill>
            <a:srgbClr val="ffe8bb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Infocent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7696080" y="1676520"/>
            <a:ext cx="1295640" cy="609480"/>
          </a:xfrm>
          <a:prstGeom prst="roundRect">
            <a:avLst>
              <a:gd name="adj" fmla="val 16667"/>
            </a:avLst>
          </a:prstGeom>
          <a:solidFill>
            <a:srgbClr val="e1e1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2 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MS, W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flipV="1">
            <a:off x="6476760" y="2043720"/>
            <a:ext cx="1152720" cy="634320"/>
          </a:xfrm>
          <a:prstGeom prst="line">
            <a:avLst/>
          </a:prstGeom>
          <a:ln w="381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0" y="259092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Verdana"/>
              </a:rPr>
              <a:t>ho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152280" y="315432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Verdana"/>
              </a:rPr>
              <a:t>ho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380880" y="388620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Verdana"/>
              </a:rPr>
              <a:t>ho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685800" y="449568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Verdana"/>
              </a:rPr>
              <a:t>2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1066680" y="521172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Verdana"/>
              </a:rPr>
              <a:t>2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2057400" y="6172200"/>
            <a:ext cx="12952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Verdana"/>
              </a:rPr>
              <a:t>2001 - 2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Verdana"/>
              </a:rPr>
              <a:t>pruebas pilo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6934320" y="597384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Verdana"/>
              </a:rPr>
              <a:t>2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257800" y="640080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Verdana"/>
              </a:rPr>
              <a:t>2003 - 20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7620120" y="426708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Verdana"/>
              </a:rPr>
              <a:t>2002 -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7467480" y="228600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Verdana"/>
              </a:rPr>
              <a:t>ho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7772400" y="3154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Verdana"/>
              </a:rPr>
              <a:t>2001 - 2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7238880" y="49831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Verdana"/>
              </a:rPr>
              <a:t>2002 -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0" name="Logo%20SUBTEL" descr=""/>
          <p:cNvPicPr/>
          <p:nvPr/>
        </p:nvPicPr>
        <p:blipFill>
          <a:blip r:embed="rId1"/>
          <a:stretch/>
        </p:blipFill>
        <p:spPr>
          <a:xfrm>
            <a:off x="7924680" y="252360"/>
            <a:ext cx="1067040" cy="1044720"/>
          </a:xfrm>
          <a:prstGeom prst="rect">
            <a:avLst/>
          </a:prstGeom>
          <a:ln w="0">
            <a:noFill/>
          </a:ln>
        </p:spPr>
      </p:pic>
      <p:sp>
        <p:nvSpPr>
          <p:cNvPr id="961" name=""/>
          <p:cNvSpPr/>
          <p:nvPr/>
        </p:nvSpPr>
        <p:spPr>
          <a:xfrm>
            <a:off x="1066680" y="2438280"/>
            <a:ext cx="6934320" cy="2057400"/>
          </a:xfrm>
          <a:prstGeom prst="foldedCorner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1295280" y="2666880"/>
            <a:ext cx="64771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99"/>
                </a:solidFill>
                <a:latin typeface="Verdana"/>
              </a:rPr>
              <a:t>Estimular la disponibilidad de medios informáticos, mediante soluciones comunitarias o individuales, de modo que las personas y empresas puedan interactuar en las redes de inform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1066320" y="761760"/>
            <a:ext cx="670572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99"/>
                </a:solidFill>
                <a:uFillTx/>
                <a:latin typeface="Verdana"/>
              </a:rPr>
              <a:t>DÉFICIT DE SOLUCIONES COMUNITAR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925040" cy="19051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Verdana"/>
              </a:rPr>
              <a:t>Según estadísticas (Dic 2000) , los déficits de conectividad:2,4 millones de familias. Requieren soluciones de tipo comunitari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Verdana"/>
              </a:rPr>
              <a:t>96% corresponde a hogares, urbanos y rurales, de ingresos inferiores a $500 mil/mes; sin conexión telefónica. Los que si la tienen, no poseen dispositivos de conex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5" name="Logo%20SUBTEL" descr=""/>
          <p:cNvPicPr/>
          <p:nvPr/>
        </p:nvPicPr>
        <p:blipFill>
          <a:blip r:embed="rId1"/>
          <a:stretch/>
        </p:blipFill>
        <p:spPr>
          <a:xfrm>
            <a:off x="7924680" y="252360"/>
            <a:ext cx="1067040" cy="1044720"/>
          </a:xfrm>
          <a:prstGeom prst="rect">
            <a:avLst/>
          </a:prstGeom>
          <a:ln w="0">
            <a:noFill/>
          </a:ln>
        </p:spPr>
      </p:pic>
      <p:sp>
        <p:nvSpPr>
          <p:cNvPr id="966" name=""/>
          <p:cNvSpPr/>
          <p:nvPr/>
        </p:nvSpPr>
        <p:spPr>
          <a:xfrm>
            <a:off x="609480" y="3505320"/>
            <a:ext cx="7925040" cy="1523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Verdana"/>
              </a:rPr>
              <a:t>300 mil hogares (8% del total de hogares) con ingreso entre $500 mil y un millón por mes, no disponen de P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Verdana"/>
              </a:rPr>
              <a:t>Si tienen acceso a la infraestructura básica de telecomunicaciones (potenciales familias conectada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609480" y="5257800"/>
            <a:ext cx="7925040" cy="11430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Verdana"/>
              </a:rPr>
              <a:t>450 mil hogares (12% del total) con ingresos familiares superiores a $1.000.000 sin conexión a Internet, a pesar de que la mitad tiene P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1219320" y="304920"/>
            <a:ext cx="6705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Brecha Digi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67053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99"/>
                </a:solidFill>
                <a:uFillTx/>
                <a:latin typeface="Verdana"/>
              </a:rPr>
              <a:t>PROGRAMA NACIONAL DE  INFOCEN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0" name="Logo%20SUBTEL" descr=""/>
          <p:cNvPicPr/>
          <p:nvPr/>
        </p:nvPicPr>
        <p:blipFill>
          <a:blip r:embed="rId1"/>
          <a:stretch/>
        </p:blipFill>
        <p:spPr>
          <a:xfrm>
            <a:off x="7924680" y="252360"/>
            <a:ext cx="1067040" cy="1044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71" name=""/>
          <p:cNvGraphicFramePr/>
          <p:nvPr/>
        </p:nvGraphicFramePr>
        <p:xfrm>
          <a:off x="152280" y="693720"/>
          <a:ext cx="8680680" cy="61642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7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693720"/>
                    <a:ext cx="8680680" cy="616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3" name=""/>
          <p:cNvSpPr/>
          <p:nvPr/>
        </p:nvSpPr>
        <p:spPr>
          <a:xfrm>
            <a:off x="5105520" y="6156360"/>
            <a:ext cx="39621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500" spc="-1" strike="noStrike">
                <a:solidFill>
                  <a:srgbClr val="000000"/>
                </a:solidFill>
                <a:latin typeface="Verdana"/>
              </a:rPr>
              <a:t>Fuente:  SUBTEL   (Sept 2001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762120" y="3200400"/>
            <a:ext cx="7772400" cy="24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66880" y="304200"/>
            <a:ext cx="37339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ema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Logo%20SUBTEL" descr=""/>
          <p:cNvPicPr/>
          <p:nvPr/>
        </p:nvPicPr>
        <p:blipFill>
          <a:blip r:embed="rId1"/>
          <a:stretch/>
        </p:blipFill>
        <p:spPr>
          <a:xfrm>
            <a:off x="7924680" y="252360"/>
            <a:ext cx="1067040" cy="10447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914400" y="1342440"/>
            <a:ext cx="7315200" cy="41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spcBef>
                <a:spcPts val="15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Intro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15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Medios de Acc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oluciones Comunitar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15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spectos de Calidad de las Re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15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Evolución de 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onsideraciones Fi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67053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99"/>
                </a:solidFill>
                <a:uFillTx/>
                <a:latin typeface="Verdana"/>
              </a:rPr>
              <a:t>PROGRAMA NACIONAL DE TELECENTR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5" name="Logo%20SUBTEL" descr=""/>
          <p:cNvPicPr/>
          <p:nvPr/>
        </p:nvPicPr>
        <p:blipFill>
          <a:blip r:embed="rId1"/>
          <a:stretch/>
        </p:blipFill>
        <p:spPr>
          <a:xfrm>
            <a:off x="7924680" y="252360"/>
            <a:ext cx="1067040" cy="1044720"/>
          </a:xfrm>
          <a:prstGeom prst="rect">
            <a:avLst/>
          </a:prstGeom>
          <a:ln w="0">
            <a:noFill/>
          </a:ln>
        </p:spPr>
      </p:pic>
      <p:pic>
        <p:nvPicPr>
          <p:cNvPr id="976" name="" descr=""/>
          <p:cNvPicPr/>
          <p:nvPr/>
        </p:nvPicPr>
        <p:blipFill>
          <a:blip r:embed="rId2"/>
          <a:stretch/>
        </p:blipFill>
        <p:spPr>
          <a:xfrm>
            <a:off x="2666880" y="838080"/>
            <a:ext cx="3248280" cy="5181840"/>
          </a:xfrm>
          <a:prstGeom prst="rect">
            <a:avLst/>
          </a:prstGeom>
          <a:ln w="0">
            <a:noFill/>
          </a:ln>
        </p:spPr>
      </p:pic>
      <p:sp>
        <p:nvSpPr>
          <p:cNvPr id="977" name=""/>
          <p:cNvSpPr/>
          <p:nvPr/>
        </p:nvSpPr>
        <p:spPr>
          <a:xfrm>
            <a:off x="304920" y="914400"/>
            <a:ext cx="990360" cy="4608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-Arica 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-Iquique 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1295280" y="1143000"/>
            <a:ext cx="2362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304920" y="1523880"/>
            <a:ext cx="1447560" cy="4608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-Antogagasta 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-Calama 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1752480" y="1752480"/>
            <a:ext cx="18288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304920" y="2133720"/>
            <a:ext cx="990360" cy="182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-Copiapó 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1295280" y="2209680"/>
            <a:ext cx="2286000" cy="1038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304920" y="2438280"/>
            <a:ext cx="1218960" cy="4608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-Coquimbo 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-La Serena 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2209680" y="2819520"/>
            <a:ext cx="114300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304920" y="3048120"/>
            <a:ext cx="914400" cy="9781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t">
            <a:spAutoFit/>
          </a:bodyPr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Cabildo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La Calera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La Ligua (3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Petorca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Pucuncaví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Putaendo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2286000" y="3429000"/>
            <a:ext cx="106668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1219320" y="3048120"/>
            <a:ext cx="1066680" cy="9781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t">
            <a:spAutoFit/>
          </a:bodyPr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Quillota 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Quilpué 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San Antonio (3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San Felipe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Valparíso 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Viña del Mar (4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 flipH="1" flipV="1">
            <a:off x="1523520" y="26668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52280" y="4267080"/>
            <a:ext cx="1219320" cy="16462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t">
            <a:spAutoFit/>
          </a:bodyPr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Cerrillos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Cerro Navia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Colina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Estación Central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Huechuraba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La Florida (15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La Reina 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Melipilla 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P.A. Cerda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Peñalolén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1371600" y="4267080"/>
            <a:ext cx="1143000" cy="16462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t">
            <a:spAutoFit/>
          </a:bodyPr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Providencia 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Quinta Normal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Recoleta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San Bernardo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San Joaquín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San Miguel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Santiago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Talagante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Tiltil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Puente Alto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3048120" y="6172200"/>
            <a:ext cx="914400" cy="4770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t">
            <a:spAutoFit/>
          </a:bodyPr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Cauquenes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Curepto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Linares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6705720" y="762120"/>
            <a:ext cx="990360" cy="1312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t">
            <a:spAutoFit/>
          </a:bodyPr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Cañete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Chillán (7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Concepción (4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Contulmo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Curanilahue 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Lebu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Los Álamos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Lota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2514600" y="4952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1066680" y="6019920"/>
            <a:ext cx="1447920" cy="4608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-Rancagua 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-San Fernando 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 flipV="1">
            <a:off x="2514600" y="5257800"/>
            <a:ext cx="8380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3962520" y="6172200"/>
            <a:ext cx="1143000" cy="4770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t">
            <a:spAutoFit/>
          </a:bodyPr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-Río Claro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-San Clemente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-Talca (3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 flipH="1" flipV="1">
            <a:off x="3352680" y="5562360"/>
            <a:ext cx="5335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6629400" y="2165400"/>
            <a:ext cx="914400" cy="11451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t">
            <a:spAutoFit/>
          </a:bodyPr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Angol (3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Carahue 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Collipulli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Cunco 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Curacautín (9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Galvarino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Lautaro 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7543800" y="2165400"/>
            <a:ext cx="1219320" cy="11451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t">
            <a:spAutoFit/>
          </a:bodyPr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P. De las Casas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Pitrufquén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Pto. Saavedra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Purén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Renaico (3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Villarrica (3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 flipH="1" flipV="1">
            <a:off x="5257800" y="990360"/>
            <a:ext cx="144792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 flipH="1" flipV="1">
            <a:off x="5409720" y="1447920"/>
            <a:ext cx="1219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6477120" y="3429000"/>
            <a:ext cx="1066680" cy="8110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t">
            <a:spAutoFit/>
          </a:bodyPr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Ancud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Osorno 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Panguipulli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Puerto Montt (3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Valdivia 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 flipH="1" flipV="1">
            <a:off x="5181120" y="1981080"/>
            <a:ext cx="129564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6705720" y="5638680"/>
            <a:ext cx="1447560" cy="182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-Punta Arenas 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 flipH="1" flipV="1">
            <a:off x="5562360" y="52578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6324480" y="4419720"/>
            <a:ext cx="1447920" cy="7387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-Chile Chico 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-Cochrane 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-Coyhaique 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 flipH="1" flipV="1">
            <a:off x="5257440" y="3200400"/>
            <a:ext cx="106668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5486400" y="6248520"/>
            <a:ext cx="380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Verdana"/>
              </a:rPr>
              <a:t>Fuente:  SUBTEL (Sept 200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67053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99"/>
                </a:solidFill>
                <a:uFillTx/>
                <a:latin typeface="Verdana"/>
              </a:rPr>
              <a:t>PROGRAMA NACIONAL DE TELECENTR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0" name="Logo%20SUBTEL" descr=""/>
          <p:cNvPicPr/>
          <p:nvPr/>
        </p:nvPicPr>
        <p:blipFill>
          <a:blip r:embed="rId1"/>
          <a:stretch/>
        </p:blipFill>
        <p:spPr>
          <a:xfrm>
            <a:off x="7924680" y="252360"/>
            <a:ext cx="1067040" cy="1044720"/>
          </a:xfrm>
          <a:prstGeom prst="rect">
            <a:avLst/>
          </a:prstGeom>
          <a:ln w="0">
            <a:noFill/>
          </a:ln>
        </p:spPr>
      </p:pic>
      <p:sp>
        <p:nvSpPr>
          <p:cNvPr id="1011" name=""/>
          <p:cNvSpPr/>
          <p:nvPr/>
        </p:nvSpPr>
        <p:spPr>
          <a:xfrm>
            <a:off x="609480" y="914400"/>
            <a:ext cx="7925040" cy="48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99"/>
                </a:solidFill>
                <a:uFillTx/>
                <a:latin typeface="Verdana"/>
              </a:rPr>
              <a:t>Para fines del 2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Nuevos Infocentros MINECON, SERCOTEC, FOSIS y Bco. Esta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Nuevos Infocentros del MINV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99"/>
                </a:solidFill>
                <a:uFillTx/>
                <a:latin typeface="Verdana"/>
              </a:rPr>
              <a:t>Para el 20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DIBAM: 330 Infocentros en Bibliotecas (1 en cada comuna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e proyectan 70 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TELECENTROS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vía subsidios del FDT-II (Subtel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A través del Proyecto Enlaces se está evaluando el establecer un Infocentro en cada establecimiento educacional del país. (5.335 establecimiento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ENCE: 107 Oficinas Municipales de Información Laboral (OMIL) que servirán como Infocentr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1828800" y="380880"/>
            <a:ext cx="55627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99"/>
                </a:solidFill>
                <a:uFillTx/>
                <a:latin typeface="Verdana"/>
              </a:rPr>
              <a:t>VALOR DE INTERNE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3" name="Logo%20SUBTEL" descr=""/>
          <p:cNvPicPr/>
          <p:nvPr/>
        </p:nvPicPr>
        <p:blipFill>
          <a:blip r:embed="rId1"/>
          <a:stretch/>
        </p:blipFill>
        <p:spPr>
          <a:xfrm>
            <a:off x="7924680" y="252360"/>
            <a:ext cx="1067040" cy="1044720"/>
          </a:xfrm>
          <a:prstGeom prst="rect">
            <a:avLst/>
          </a:prstGeom>
          <a:ln w="0">
            <a:noFill/>
          </a:ln>
        </p:spPr>
      </p:pic>
      <p:sp>
        <p:nvSpPr>
          <p:cNvPr id="1014" name=""/>
          <p:cNvSpPr/>
          <p:nvPr/>
        </p:nvSpPr>
        <p:spPr>
          <a:xfrm>
            <a:off x="457200" y="1820880"/>
            <a:ext cx="7848720" cy="36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Verdana"/>
              </a:rPr>
              <a:t>Percepción del valor de las 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Las TI no son un sector económico. Son un instrumento para la acción del hombre. Las TI no reemplazan las necesidades cotidianas de la gente. Solamente las ayudan a satisfacerlas de mejor modo, tanto desde el cómo se producen los bienes y servicios y cómo se accede a ell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Las TI reducen significativamente los costos de transacción. En términos económicos, implica más eficiencia, más competencia, y más uso del mercado como mecanismo de coordinació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ts val="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828800" y="380880"/>
            <a:ext cx="55627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99"/>
                </a:solidFill>
                <a:uFillTx/>
                <a:latin typeface="Verdana"/>
              </a:rPr>
              <a:t>VALOR DE INTERNE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6" name="Logo%20SUBTEL" descr=""/>
          <p:cNvPicPr/>
          <p:nvPr/>
        </p:nvPicPr>
        <p:blipFill>
          <a:blip r:embed="rId1"/>
          <a:stretch/>
        </p:blipFill>
        <p:spPr>
          <a:xfrm>
            <a:off x="7924680" y="252360"/>
            <a:ext cx="1067040" cy="1044720"/>
          </a:xfrm>
          <a:prstGeom prst="rect">
            <a:avLst/>
          </a:prstGeom>
          <a:ln w="0">
            <a:noFill/>
          </a:ln>
        </p:spPr>
      </p:pic>
      <p:sp>
        <p:nvSpPr>
          <p:cNvPr id="1017" name=""/>
          <p:cNvSpPr/>
          <p:nvPr/>
        </p:nvSpPr>
        <p:spPr>
          <a:xfrm>
            <a:off x="762120" y="1927080"/>
            <a:ext cx="7543800" cy="30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Verdana"/>
              </a:rPr>
              <a:t>Conectividad sufici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Se tienen excelentes valores de anchos de banda al interior del país y de salida internacional. Además, se tienen normativas de calidad del servici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Verdana"/>
              </a:rPr>
              <a:t>Estímulo para la oferta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El Gobierno ha tomado un rol promotor generando las condiciones para que los privados inviertan y desarrollen negocios en TI. Alianza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Verdana"/>
              </a:rPr>
              <a:t>Difusión para impulsar la demanda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Es necesario abundar en iniciativas que difundan conocimientos acerca de las TI e infoalfabeticen a ciudadanos y microempresari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8" name=""/>
          <p:cNvGraphicFramePr/>
          <p:nvPr/>
        </p:nvGraphicFramePr>
        <p:xfrm>
          <a:off x="1185840" y="2189160"/>
          <a:ext cx="6724800" cy="370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5840" y="2189160"/>
                    <a:ext cx="6724800" cy="370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0" name=""/>
          <p:cNvSpPr/>
          <p:nvPr/>
        </p:nvSpPr>
        <p:spPr>
          <a:xfrm>
            <a:off x="380880" y="914400"/>
            <a:ext cx="7315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Importancia para el Gobiern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Para abordar el mejor tratamiento de los grandes temas, el Comité los organizó en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Verdana"/>
              </a:rPr>
              <a:t>cinco áreas o ejes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, que s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990720" y="304920"/>
            <a:ext cx="71625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99"/>
                </a:solidFill>
                <a:uFillTx/>
                <a:latin typeface="Verdana"/>
              </a:rPr>
              <a:t>CGNT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2" name="Logo%20SUBTEL" descr=""/>
          <p:cNvPicPr/>
          <p:nvPr/>
        </p:nvPicPr>
        <p:blipFill>
          <a:blip r:embed="rId3"/>
          <a:stretch/>
        </p:blipFill>
        <p:spPr>
          <a:xfrm>
            <a:off x="7924680" y="252360"/>
            <a:ext cx="1067040" cy="1044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837720" y="6094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99"/>
                </a:solidFill>
                <a:uFillTx/>
                <a:latin typeface="Verdana"/>
              </a:rPr>
              <a:t>Un aporte al Acceso y a la Formación en Tecnologías de Información en el paí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4" name="Logo%20SUBTEL" descr=""/>
          <p:cNvPicPr/>
          <p:nvPr/>
        </p:nvPicPr>
        <p:blipFill>
          <a:blip r:embed="rId1"/>
          <a:stretch/>
        </p:blipFill>
        <p:spPr>
          <a:xfrm>
            <a:off x="7924680" y="252360"/>
            <a:ext cx="1067040" cy="1044720"/>
          </a:xfrm>
          <a:prstGeom prst="rect">
            <a:avLst/>
          </a:prstGeom>
          <a:ln w="0">
            <a:noFill/>
          </a:ln>
        </p:spPr>
      </p:pic>
      <p:sp>
        <p:nvSpPr>
          <p:cNvPr id="1025" name=""/>
          <p:cNvSpPr/>
          <p:nvPr/>
        </p:nvSpPr>
        <p:spPr>
          <a:xfrm>
            <a:off x="685800" y="1600200"/>
            <a:ext cx="7620120" cy="40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os 5 ejes estratégicos del gobierno en su estrategia s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Superar la brecha digital: social y geográf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Promover la educación para la sociedad de la inform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Construir un Gobierno electrónico de Clase Mundial para todos los ciudadan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Desarrollar la industria local de TI (contenidos y servicio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Desarrollar el comercio electrónico y el uso de TI en las medianas y pequeñas empres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837720" y="6094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99"/>
                </a:solidFill>
                <a:uFillTx/>
                <a:latin typeface="Verdana"/>
              </a:rPr>
              <a:t>Un aporte al Acceso y a la Formación en Tecnologías de Información en el paí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7" name="Logo%20SUBTEL" descr=""/>
          <p:cNvPicPr/>
          <p:nvPr/>
        </p:nvPicPr>
        <p:blipFill>
          <a:blip r:embed="rId1"/>
          <a:stretch/>
        </p:blipFill>
        <p:spPr>
          <a:xfrm>
            <a:off x="7924680" y="252360"/>
            <a:ext cx="1067040" cy="1044720"/>
          </a:xfrm>
          <a:prstGeom prst="rect">
            <a:avLst/>
          </a:prstGeom>
          <a:ln w="0">
            <a:noFill/>
          </a:ln>
        </p:spPr>
      </p:pic>
      <p:sp>
        <p:nvSpPr>
          <p:cNvPr id="1028" name=""/>
          <p:cNvSpPr/>
          <p:nvPr/>
        </p:nvSpPr>
        <p:spPr>
          <a:xfrm>
            <a:off x="685800" y="2293920"/>
            <a:ext cx="762012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Verdana"/>
              </a:rPr>
              <a:t>A la subsecretaría le corresponde coordinar los esfuerzos e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Verdana"/>
              </a:rPr>
              <a:t>FOMENTO AL ACCE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Verdana"/>
              </a:rPr>
              <a:t>LA FORMACIÓN DE RECURSOS HUMANOS EN 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9" name="Logo%20SUBTEL" descr=""/>
          <p:cNvPicPr/>
          <p:nvPr/>
        </p:nvPicPr>
        <p:blipFill>
          <a:blip r:embed="rId1"/>
          <a:stretch/>
        </p:blipFill>
        <p:spPr>
          <a:xfrm>
            <a:off x="7924680" y="252360"/>
            <a:ext cx="1067040" cy="1044720"/>
          </a:xfrm>
          <a:prstGeom prst="rect">
            <a:avLst/>
          </a:prstGeom>
          <a:ln w="0">
            <a:noFill/>
          </a:ln>
        </p:spPr>
      </p:pic>
      <p:sp>
        <p:nvSpPr>
          <p:cNvPr id="1030" name=""/>
          <p:cNvSpPr/>
          <p:nvPr/>
        </p:nvSpPr>
        <p:spPr>
          <a:xfrm>
            <a:off x="1066680" y="2819520"/>
            <a:ext cx="6934320" cy="1218960"/>
          </a:xfrm>
          <a:prstGeom prst="foldedCorner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1371600" y="3184560"/>
            <a:ext cx="647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99"/>
                </a:solidFill>
                <a:latin typeface="Verdana"/>
              </a:rPr>
              <a:t>Aspectos de Calidad de las Re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subTitle"/>
          </p:nvPr>
        </p:nvSpPr>
        <p:spPr>
          <a:xfrm>
            <a:off x="3504960" y="1752120"/>
            <a:ext cx="56386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3" name="Logo%20SUBTEL" descr=""/>
          <p:cNvPicPr/>
          <p:nvPr/>
        </p:nvPicPr>
        <p:blipFill>
          <a:blip r:embed="rId1"/>
          <a:stretch/>
        </p:blipFill>
        <p:spPr>
          <a:xfrm>
            <a:off x="7924680" y="252360"/>
            <a:ext cx="1067040" cy="1044720"/>
          </a:xfrm>
          <a:prstGeom prst="rect">
            <a:avLst/>
          </a:prstGeom>
          <a:ln w="0">
            <a:noFill/>
          </a:ln>
        </p:spPr>
      </p:pic>
      <p:sp>
        <p:nvSpPr>
          <p:cNvPr id="1034" name=""/>
          <p:cNvSpPr/>
          <p:nvPr/>
        </p:nvSpPr>
        <p:spPr>
          <a:xfrm>
            <a:off x="1128960" y="304920"/>
            <a:ext cx="5258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99"/>
                </a:solidFill>
                <a:uFillTx/>
                <a:latin typeface="Verdana"/>
              </a:rPr>
              <a:t>ASPECTOS DE CALIDAD DE LAS RED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762120" y="1889280"/>
            <a:ext cx="7696080" cy="36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Tipo de señalización: S7 (Caller ID, llamada en espera, otros servicio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Tasa de pérdida (telefonía): Plan de Encaminamiento. Perdida má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1% entre punto Origen y Destino. Hay competencia donde hay superposición de red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obertura Telefonía Móvil: Disponibilidad del servicio. Ha mejorado. Usuario elige por precio y luego calida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LD: convenio para respaldo de fibra frente a emergencias (fibra oscura). Hoy hay competencia en el transporte de seña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3504960" y="1752120"/>
            <a:ext cx="56386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7" name="Logo%20SUBTEL" descr=""/>
          <p:cNvPicPr/>
          <p:nvPr/>
        </p:nvPicPr>
        <p:blipFill>
          <a:blip r:embed="rId1"/>
          <a:stretch/>
        </p:blipFill>
        <p:spPr>
          <a:xfrm>
            <a:off x="7924680" y="252360"/>
            <a:ext cx="1067040" cy="1044720"/>
          </a:xfrm>
          <a:prstGeom prst="rect">
            <a:avLst/>
          </a:prstGeom>
          <a:ln w="0">
            <a:noFill/>
          </a:ln>
        </p:spPr>
      </p:pic>
      <p:sp>
        <p:nvSpPr>
          <p:cNvPr id="1038" name=""/>
          <p:cNvSpPr/>
          <p:nvPr/>
        </p:nvSpPr>
        <p:spPr>
          <a:xfrm>
            <a:off x="1205280" y="304920"/>
            <a:ext cx="5258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99"/>
                </a:solidFill>
                <a:uFillTx/>
                <a:latin typeface="Verdana"/>
              </a:rPr>
              <a:t>ASPECTOS DE CALIDAD DE LAS RED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1219320" y="2895480"/>
            <a:ext cx="2971800" cy="5335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alidad OFREC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4952880" y="2895480"/>
            <a:ext cx="2971800" cy="5335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alidad ALCANZ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533520" y="4191120"/>
            <a:ext cx="81532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533520" y="6400800"/>
            <a:ext cx="81532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533520" y="2209680"/>
            <a:ext cx="81532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2666880" y="594360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u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2895480" y="228600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ee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6" name=""/>
          <p:cNvCxnSpPr>
            <a:stCxn id="1039" idx="1"/>
          </p:cNvCxnSpPr>
          <p:nvPr/>
        </p:nvCxnSpPr>
        <p:spPr>
          <a:xfrm flipH="1" flipV="1" rot="10800000">
            <a:off x="1218960" y="3161160"/>
            <a:ext cx="2160" cy="2210760"/>
          </a:xfrm>
          <a:prstGeom prst="curvedConnector5">
            <a:avLst>
              <a:gd name="adj1" fmla="val -58100000"/>
              <a:gd name="adj2" fmla="val 50000"/>
              <a:gd name="adj3" fmla="val -5810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7" name=""/>
          <p:cNvCxnSpPr/>
          <p:nvPr/>
        </p:nvCxnSpPr>
        <p:spPr>
          <a:xfrm>
            <a:off x="8001000" y="3200400"/>
            <a:ext cx="2160" cy="2210400"/>
          </a:xfrm>
          <a:prstGeom prst="curvedConnector5">
            <a:avLst>
              <a:gd name="adj1" fmla="val 42280000"/>
              <a:gd name="adj2" fmla="val 49991"/>
              <a:gd name="adj3" fmla="val 4228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8" name=""/>
          <p:cNvCxnSpPr>
            <a:stCxn id="1040" idx="0"/>
            <a:endCxn id="1039" idx="0"/>
          </p:cNvCxnSpPr>
          <p:nvPr/>
        </p:nvCxnSpPr>
        <p:spPr>
          <a:xfrm rot="5400000">
            <a:off x="4570560" y="1028520"/>
            <a:ext cx="2520" cy="3734640"/>
          </a:xfrm>
          <a:prstGeom prst="curvedConnector5">
            <a:avLst>
              <a:gd name="adj1" fmla="val -104800000"/>
              <a:gd name="adj2" fmla="val 49995"/>
              <a:gd name="adj3" fmla="val -10480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9" name=""/>
          <p:cNvCxnSpPr/>
          <p:nvPr/>
        </p:nvCxnSpPr>
        <p:spPr>
          <a:xfrm flipH="1" rot="16200000">
            <a:off x="4570920" y="3772080"/>
            <a:ext cx="2520" cy="3734640"/>
          </a:xfrm>
          <a:prstGeom prst="curvedConnector5">
            <a:avLst>
              <a:gd name="adj1" fmla="val 58683333"/>
              <a:gd name="adj2" fmla="val 49995"/>
              <a:gd name="adj3" fmla="val 58683333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50" name=""/>
          <p:cNvSpPr/>
          <p:nvPr/>
        </p:nvSpPr>
        <p:spPr>
          <a:xfrm>
            <a:off x="4191120" y="563868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G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533520" y="365760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G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7772400" y="426708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G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4191120" y="137160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G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838080" y="114300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cc"/>
                </a:solidFill>
                <a:uFillTx/>
                <a:latin typeface="Verdana"/>
              </a:rPr>
              <a:t>Mode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1219320" y="5105520"/>
            <a:ext cx="2971800" cy="5331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alidad ESPER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5029200" y="5105520"/>
            <a:ext cx="2971800" cy="5331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alidad PERCIB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Logo%20SUBTEL" descr=""/>
          <p:cNvPicPr/>
          <p:nvPr/>
        </p:nvPicPr>
        <p:blipFill>
          <a:blip r:embed="rId1"/>
          <a:stretch/>
        </p:blipFill>
        <p:spPr>
          <a:xfrm>
            <a:off x="7924680" y="252360"/>
            <a:ext cx="1067040" cy="10447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286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99"/>
                </a:solidFill>
                <a:uFillTx/>
                <a:latin typeface="Verdana"/>
              </a:rPr>
              <a:t>REDES DE TELECOMUNICACIONES Y T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3429000"/>
            <a:ext cx="7848720" cy="0"/>
          </a:xfrm>
          <a:prstGeom prst="line">
            <a:avLst/>
          </a:prstGeom>
          <a:ln w="237960">
            <a:solidFill>
              <a:srgbClr val="9933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3200400"/>
            <a:ext cx="0" cy="457200"/>
          </a:xfrm>
          <a:prstGeom prst="line">
            <a:avLst/>
          </a:prstGeom>
          <a:ln w="139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981080" y="3200400"/>
            <a:ext cx="0" cy="457200"/>
          </a:xfrm>
          <a:prstGeom prst="line">
            <a:avLst/>
          </a:prstGeom>
          <a:ln w="139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352680" y="3200400"/>
            <a:ext cx="0" cy="457200"/>
          </a:xfrm>
          <a:prstGeom prst="line">
            <a:avLst/>
          </a:prstGeom>
          <a:ln w="139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800600" y="3200400"/>
            <a:ext cx="0" cy="457200"/>
          </a:xfrm>
          <a:prstGeom prst="line">
            <a:avLst/>
          </a:prstGeom>
          <a:ln w="139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248520" y="3200400"/>
            <a:ext cx="0" cy="457200"/>
          </a:xfrm>
          <a:prstGeom prst="line">
            <a:avLst/>
          </a:prstGeom>
          <a:ln w="139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772400" y="3200400"/>
            <a:ext cx="0" cy="457200"/>
          </a:xfrm>
          <a:prstGeom prst="line">
            <a:avLst/>
          </a:prstGeom>
          <a:ln w="139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66680" y="1447920"/>
            <a:ext cx="7086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Verdana"/>
              </a:rPr>
              <a:t>Medios de Comunicación más usados durante los conflictos bélic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114800" y="2590920"/>
            <a:ext cx="12952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Verdana"/>
              </a:rPr>
              <a:t>TV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Verdana"/>
              </a:rPr>
              <a:t>(Diferid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523880" y="281952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95480" y="2438280"/>
            <a:ext cx="9907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Verdana"/>
              </a:rPr>
              <a:t>Cin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638680" y="2590920"/>
            <a:ext cx="12956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Verdana"/>
              </a:rPr>
              <a:t>TV</a:t>
            </a:r>
            <a:br>
              <a:rPr sz="1800"/>
            </a:br>
            <a:r>
              <a:rPr b="0" lang="es-ES_tradnl" sz="1800" spc="-1" strike="noStrike">
                <a:solidFill>
                  <a:srgbClr val="000099"/>
                </a:solidFill>
                <a:latin typeface="Verdana"/>
              </a:rPr>
              <a:t>(satelit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162920" y="2362320"/>
            <a:ext cx="1295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Verdana"/>
              </a:rPr>
              <a:t>Multimed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3733920"/>
            <a:ext cx="990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I Guerra Mund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819520" y="3733920"/>
            <a:ext cx="990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II Guerra Mund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343400" y="3733920"/>
            <a:ext cx="990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Viet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791320" y="3733920"/>
            <a:ext cx="990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Golfo Pérs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315200" y="3733920"/>
            <a:ext cx="1219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Verdana"/>
              </a:rPr>
              <a:t>Sep 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4419720"/>
            <a:ext cx="8305920" cy="21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Según Harris Interactive, sondeando a 4.610 internautas de USA entre el día 11 y 12 de septiembre, el </a:t>
            </a: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64%</a:t>
            </a: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 de los encuestados dijo que </a:t>
            </a: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Internet</a:t>
            </a: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 fue su principal fuente de información. </a:t>
            </a:r>
            <a:br>
              <a:rPr sz="1400"/>
            </a:br>
            <a:br>
              <a:rPr sz="1400"/>
            </a:b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Ademá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-48% señaló que Internet les fue útil para enfrentarse a la tragedi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-47% discutieron Online los atentados a través de foro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-36% escogieron la red como medio de información ya que en ella encontraban noticias más detalladas.                      </a:t>
            </a:r>
            <a:r>
              <a:rPr b="1" i="1" lang="es-ES_tradnl" sz="1400" spc="-1" strike="noStrike">
                <a:solidFill>
                  <a:srgbClr val="000000"/>
                </a:solidFill>
                <a:latin typeface="Verdana"/>
              </a:rPr>
              <a:t>Fuente: Grupo Intercom España (www.noticias.co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7" name="Logo%20SUBTEL" descr=""/>
          <p:cNvPicPr/>
          <p:nvPr/>
        </p:nvPicPr>
        <p:blipFill>
          <a:blip r:embed="rId1"/>
          <a:stretch/>
        </p:blipFill>
        <p:spPr>
          <a:xfrm>
            <a:off x="8077320" y="0"/>
            <a:ext cx="1066680" cy="1044720"/>
          </a:xfrm>
          <a:prstGeom prst="rect">
            <a:avLst/>
          </a:prstGeom>
          <a:ln w="0">
            <a:noFill/>
          </a:ln>
        </p:spPr>
      </p:pic>
      <p:sp>
        <p:nvSpPr>
          <p:cNvPr id="1058" name=""/>
          <p:cNvSpPr/>
          <p:nvPr/>
        </p:nvSpPr>
        <p:spPr>
          <a:xfrm>
            <a:off x="1232280" y="304920"/>
            <a:ext cx="5258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99"/>
                </a:solidFill>
                <a:uFillTx/>
                <a:latin typeface="Verdana"/>
              </a:rPr>
              <a:t>ASPECTOS DE CALIDAD DE LAS RED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762120" y="2041560"/>
            <a:ext cx="7467480" cy="258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Gap entre Calidad ofrecida y alcanzada: Será una medida de la manera en que los lineamientos estratégico-comerciales bajan hacia el nivel de oper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Gap entre Calidad esperada y percibida: Será una medida del grado en que el servicio es lo que el usuario estaba esperando. Nivel de satisfacción del usuar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0" name="Logo%20SUBTEL" descr=""/>
          <p:cNvPicPr/>
          <p:nvPr/>
        </p:nvPicPr>
        <p:blipFill>
          <a:blip r:embed="rId1"/>
          <a:stretch/>
        </p:blipFill>
        <p:spPr>
          <a:xfrm>
            <a:off x="8077320" y="0"/>
            <a:ext cx="1066680" cy="1044720"/>
          </a:xfrm>
          <a:prstGeom prst="rect">
            <a:avLst/>
          </a:prstGeom>
          <a:ln w="0">
            <a:noFill/>
          </a:ln>
        </p:spPr>
      </p:pic>
      <p:sp>
        <p:nvSpPr>
          <p:cNvPr id="1061" name=""/>
          <p:cNvSpPr/>
          <p:nvPr/>
        </p:nvSpPr>
        <p:spPr>
          <a:xfrm>
            <a:off x="1232280" y="304920"/>
            <a:ext cx="5258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99"/>
                </a:solidFill>
                <a:uFillTx/>
                <a:latin typeface="Verdana"/>
              </a:rPr>
              <a:t>ASPECTOS DE CALIDAD DE LAS RED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762120" y="1144440"/>
            <a:ext cx="7696080" cy="465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Gap entre Calidad alcanzada y percibida: La calidad alcanzada induce la calidad percibida. El gap se produce por diferencias de interpretación entre usuario y proveedor (debiese tender a cero con adecuadas funciones post-venta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Gap entre calidad esperada y ofrecida: La calidad esperada induce la calidad ofrecida. El gap se produce por diferencias de interpretación entre usuario y proveedor (debiese tender a cero con adecuados estudios de demanda, focus group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Modelo funciona de manera que reduciendo un Gap, se reducen los demás y vicevers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3" name="Logo%20SUBTEL" descr=""/>
          <p:cNvPicPr/>
          <p:nvPr/>
        </p:nvPicPr>
        <p:blipFill>
          <a:blip r:embed="rId1"/>
          <a:stretch/>
        </p:blipFill>
        <p:spPr>
          <a:xfrm>
            <a:off x="8077320" y="0"/>
            <a:ext cx="1066680" cy="1044720"/>
          </a:xfrm>
          <a:prstGeom prst="rect">
            <a:avLst/>
          </a:prstGeom>
          <a:ln w="0">
            <a:noFill/>
          </a:ln>
        </p:spPr>
      </p:pic>
      <p:sp>
        <p:nvSpPr>
          <p:cNvPr id="1064" name=""/>
          <p:cNvSpPr/>
          <p:nvPr/>
        </p:nvSpPr>
        <p:spPr>
          <a:xfrm>
            <a:off x="1662480" y="304920"/>
            <a:ext cx="5258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99"/>
                </a:solidFill>
                <a:uFillTx/>
                <a:latin typeface="Verdana"/>
              </a:rPr>
              <a:t>ASPECTOS DE CALIDAD DE LAS RED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533520" y="1523880"/>
            <a:ext cx="8153280" cy="42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Normativas Técnicas de Inter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Norma de Calidad de los Enlaces de Tráfico de Inter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Norma de Calidad del Servicio de Acceso a Inter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Normativas elaboradas en colaboración con la Asociación de Proveedores de Internet (API A.G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Normativas con enfoque de autorregulación, vale decir, no se fijan estándares mínimos de calidad para los indicadores, sino que se deben medir y publicar en sitios web, siendo el mercado el que debe oper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Mayor transparencia para los usuarios e introducción de criterios precio - calidad del servic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6" name="Logo%20SUBTEL" descr=""/>
          <p:cNvPicPr/>
          <p:nvPr/>
        </p:nvPicPr>
        <p:blipFill>
          <a:blip r:embed="rId1"/>
          <a:stretch/>
        </p:blipFill>
        <p:spPr>
          <a:xfrm>
            <a:off x="7924680" y="252360"/>
            <a:ext cx="1067040" cy="1044720"/>
          </a:xfrm>
          <a:prstGeom prst="rect">
            <a:avLst/>
          </a:prstGeom>
          <a:ln w="0">
            <a:noFill/>
          </a:ln>
        </p:spPr>
      </p:pic>
      <p:sp>
        <p:nvSpPr>
          <p:cNvPr id="1067" name=""/>
          <p:cNvSpPr/>
          <p:nvPr/>
        </p:nvSpPr>
        <p:spPr>
          <a:xfrm>
            <a:off x="304920" y="1447920"/>
            <a:ext cx="2971800" cy="161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 algn="just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Norma 1483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struye a aceptar y solicitar conexión con otros ISPs (elimina distorsión en el mercad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01880" algn="just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 flipV="1">
            <a:off x="7794720" y="2725560"/>
            <a:ext cx="0" cy="15264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 flipH="1" flipV="1">
            <a:off x="7794360" y="3182760"/>
            <a:ext cx="3240" cy="15264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 flipH="1">
            <a:off x="7946640" y="2878200"/>
            <a:ext cx="152280" cy="10152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7947000" y="3106800"/>
            <a:ext cx="152280" cy="7596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3618000" y="2540160"/>
            <a:ext cx="175248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Backbone Chile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9"/>
                </a:solidFill>
                <a:latin typeface="Arial"/>
              </a:rPr>
              <a:t>Norma 6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 flipH="1" flipV="1">
            <a:off x="6970320" y="2116080"/>
            <a:ext cx="685800" cy="838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 flipH="1" flipV="1">
            <a:off x="7351200" y="2039760"/>
            <a:ext cx="304920" cy="457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5" name=""/>
          <p:cNvGrpSpPr/>
          <p:nvPr/>
        </p:nvGrpSpPr>
        <p:grpSpPr>
          <a:xfrm>
            <a:off x="7475400" y="2421000"/>
            <a:ext cx="547560" cy="361800"/>
            <a:chOff x="7475400" y="2421000"/>
            <a:chExt cx="547560" cy="361800"/>
          </a:xfrm>
        </p:grpSpPr>
        <p:sp>
          <p:nvSpPr>
            <p:cNvPr id="1076" name="">
              <a:hlinkClick r:id="rId2"/>
            </p:cNvPr>
            <p:cNvSpPr/>
            <p:nvPr/>
          </p:nvSpPr>
          <p:spPr>
            <a:xfrm>
              <a:off x="7475400" y="2421000"/>
              <a:ext cx="547560" cy="361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7489440" y="2477880"/>
              <a:ext cx="533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ISP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8" name=""/>
          <p:cNvSpPr/>
          <p:nvPr/>
        </p:nvSpPr>
        <p:spPr>
          <a:xfrm>
            <a:off x="5904000" y="3564000"/>
            <a:ext cx="45720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6284880" y="3411360"/>
            <a:ext cx="45720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 flipH="1">
            <a:off x="5827320" y="2116080"/>
            <a:ext cx="30492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 flipH="1">
            <a:off x="5903640" y="2116080"/>
            <a:ext cx="685800" cy="838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 flipH="1">
            <a:off x="7579800" y="3411360"/>
            <a:ext cx="68580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3693960" y="37926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7566120" y="2878200"/>
            <a:ext cx="457200" cy="298440"/>
          </a:xfrm>
          <a:prstGeom prst="ellipse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P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5" name=""/>
          <p:cNvGrpSpPr/>
          <p:nvPr/>
        </p:nvGrpSpPr>
        <p:grpSpPr>
          <a:xfrm>
            <a:off x="8085240" y="2592360"/>
            <a:ext cx="547560" cy="361800"/>
            <a:chOff x="8085240" y="2592360"/>
            <a:chExt cx="547560" cy="361800"/>
          </a:xfrm>
        </p:grpSpPr>
        <p:sp>
          <p:nvSpPr>
            <p:cNvPr id="1086" name="">
              <a:hlinkClick r:id="rId3"/>
            </p:cNvPr>
            <p:cNvSpPr/>
            <p:nvPr/>
          </p:nvSpPr>
          <p:spPr>
            <a:xfrm>
              <a:off x="8085240" y="2592360"/>
              <a:ext cx="547560" cy="361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8099280" y="2649240"/>
              <a:ext cx="533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ISP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8" name=""/>
          <p:cNvGrpSpPr/>
          <p:nvPr/>
        </p:nvGrpSpPr>
        <p:grpSpPr>
          <a:xfrm>
            <a:off x="8099280" y="3049560"/>
            <a:ext cx="547560" cy="361800"/>
            <a:chOff x="8099280" y="3049560"/>
            <a:chExt cx="547560" cy="361800"/>
          </a:xfrm>
        </p:grpSpPr>
        <p:sp>
          <p:nvSpPr>
            <p:cNvPr id="1089" name="">
              <a:hlinkClick r:id="rId4"/>
            </p:cNvPr>
            <p:cNvSpPr/>
            <p:nvPr/>
          </p:nvSpPr>
          <p:spPr>
            <a:xfrm>
              <a:off x="8099280" y="3049560"/>
              <a:ext cx="547560" cy="361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8113320" y="3106440"/>
              <a:ext cx="533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ISP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1" name=""/>
          <p:cNvGrpSpPr/>
          <p:nvPr/>
        </p:nvGrpSpPr>
        <p:grpSpPr>
          <a:xfrm>
            <a:off x="7551720" y="3259080"/>
            <a:ext cx="547560" cy="361800"/>
            <a:chOff x="7551720" y="3259080"/>
            <a:chExt cx="547560" cy="361800"/>
          </a:xfrm>
        </p:grpSpPr>
        <p:sp>
          <p:nvSpPr>
            <p:cNvPr id="1092" name="">
              <a:hlinkClick r:id="rId5"/>
            </p:cNvPr>
            <p:cNvSpPr/>
            <p:nvPr/>
          </p:nvSpPr>
          <p:spPr>
            <a:xfrm>
              <a:off x="7551720" y="3259080"/>
              <a:ext cx="547560" cy="361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7565760" y="3315960"/>
              <a:ext cx="533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ISP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4" name=""/>
          <p:cNvSpPr/>
          <p:nvPr/>
        </p:nvSpPr>
        <p:spPr>
          <a:xfrm flipH="1">
            <a:off x="7489440" y="3106800"/>
            <a:ext cx="152280" cy="10152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4836960" y="1430280"/>
            <a:ext cx="3886200" cy="914400"/>
          </a:xfrm>
          <a:prstGeom prst="irregularSeal1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ERNET MUND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 flipV="1">
            <a:off x="5765760" y="2725560"/>
            <a:ext cx="0" cy="15264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 flipH="1" flipV="1">
            <a:off x="5765400" y="3182760"/>
            <a:ext cx="3240" cy="15264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5918040" y="3106800"/>
            <a:ext cx="152640" cy="7596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9" name=""/>
          <p:cNvGrpSpPr/>
          <p:nvPr/>
        </p:nvGrpSpPr>
        <p:grpSpPr>
          <a:xfrm>
            <a:off x="5446800" y="2421000"/>
            <a:ext cx="547560" cy="361800"/>
            <a:chOff x="5446800" y="2421000"/>
            <a:chExt cx="547560" cy="361800"/>
          </a:xfrm>
        </p:grpSpPr>
        <p:sp>
          <p:nvSpPr>
            <p:cNvPr id="1100" name="">
              <a:hlinkClick r:id="rId6"/>
            </p:cNvPr>
            <p:cNvSpPr/>
            <p:nvPr/>
          </p:nvSpPr>
          <p:spPr>
            <a:xfrm>
              <a:off x="5446800" y="2421000"/>
              <a:ext cx="547560" cy="361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5460840" y="2477880"/>
              <a:ext cx="533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ISP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2" name=""/>
          <p:cNvGrpSpPr/>
          <p:nvPr/>
        </p:nvGrpSpPr>
        <p:grpSpPr>
          <a:xfrm>
            <a:off x="6070680" y="3049560"/>
            <a:ext cx="547560" cy="361800"/>
            <a:chOff x="6070680" y="3049560"/>
            <a:chExt cx="547560" cy="361800"/>
          </a:xfrm>
        </p:grpSpPr>
        <p:sp>
          <p:nvSpPr>
            <p:cNvPr id="1103" name="">
              <a:hlinkClick r:id="rId7"/>
            </p:cNvPr>
            <p:cNvSpPr/>
            <p:nvPr/>
          </p:nvSpPr>
          <p:spPr>
            <a:xfrm>
              <a:off x="6070680" y="3049560"/>
              <a:ext cx="547560" cy="361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6084720" y="3106440"/>
              <a:ext cx="533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ISP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5" name=""/>
          <p:cNvGrpSpPr/>
          <p:nvPr/>
        </p:nvGrpSpPr>
        <p:grpSpPr>
          <a:xfrm>
            <a:off x="5522760" y="3259080"/>
            <a:ext cx="547560" cy="361800"/>
            <a:chOff x="5522760" y="3259080"/>
            <a:chExt cx="547560" cy="361800"/>
          </a:xfrm>
        </p:grpSpPr>
        <p:sp>
          <p:nvSpPr>
            <p:cNvPr id="1106" name="">
              <a:hlinkClick r:id="rId8"/>
            </p:cNvPr>
            <p:cNvSpPr/>
            <p:nvPr/>
          </p:nvSpPr>
          <p:spPr>
            <a:xfrm>
              <a:off x="5522760" y="3259080"/>
              <a:ext cx="547560" cy="361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5536800" y="3315960"/>
              <a:ext cx="533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ISP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8" name=""/>
          <p:cNvSpPr/>
          <p:nvPr/>
        </p:nvSpPr>
        <p:spPr>
          <a:xfrm flipH="1">
            <a:off x="5460840" y="3106800"/>
            <a:ext cx="152640" cy="10152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9" name=""/>
          <p:cNvGrpSpPr/>
          <p:nvPr/>
        </p:nvGrpSpPr>
        <p:grpSpPr>
          <a:xfrm>
            <a:off x="4989600" y="3106800"/>
            <a:ext cx="547560" cy="361800"/>
            <a:chOff x="4989600" y="3106800"/>
            <a:chExt cx="547560" cy="361800"/>
          </a:xfrm>
        </p:grpSpPr>
        <p:sp>
          <p:nvSpPr>
            <p:cNvPr id="1110" name="">
              <a:hlinkClick r:id="rId9"/>
            </p:cNvPr>
            <p:cNvSpPr/>
            <p:nvPr/>
          </p:nvSpPr>
          <p:spPr>
            <a:xfrm>
              <a:off x="4989600" y="3106800"/>
              <a:ext cx="547560" cy="361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5003640" y="3163680"/>
              <a:ext cx="533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ISP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2" name=""/>
          <p:cNvSpPr/>
          <p:nvPr/>
        </p:nvSpPr>
        <p:spPr>
          <a:xfrm>
            <a:off x="5446800" y="2878200"/>
            <a:ext cx="152280" cy="7596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3" name=""/>
          <p:cNvGrpSpPr/>
          <p:nvPr/>
        </p:nvGrpSpPr>
        <p:grpSpPr>
          <a:xfrm>
            <a:off x="4975200" y="2649600"/>
            <a:ext cx="547560" cy="361800"/>
            <a:chOff x="4975200" y="2649600"/>
            <a:chExt cx="547560" cy="361800"/>
          </a:xfrm>
        </p:grpSpPr>
        <p:sp>
          <p:nvSpPr>
            <p:cNvPr id="1114" name="">
              <a:hlinkClick r:id="rId10"/>
            </p:cNvPr>
            <p:cNvSpPr/>
            <p:nvPr/>
          </p:nvSpPr>
          <p:spPr>
            <a:xfrm>
              <a:off x="4975200" y="2649600"/>
              <a:ext cx="547560" cy="361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4989240" y="2706480"/>
              <a:ext cx="533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ISP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6" name=""/>
          <p:cNvSpPr/>
          <p:nvPr/>
        </p:nvSpPr>
        <p:spPr>
          <a:xfrm rot="18870000">
            <a:off x="5506920" y="2657520"/>
            <a:ext cx="2481840" cy="2357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1987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19878"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5537160" y="2878200"/>
            <a:ext cx="457200" cy="298440"/>
          </a:xfrm>
          <a:prstGeom prst="ellipse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P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3618000" y="2344680"/>
            <a:ext cx="510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 flipH="1">
            <a:off x="7122960" y="3411360"/>
            <a:ext cx="15264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0" name=""/>
          <p:cNvGrpSpPr/>
          <p:nvPr/>
        </p:nvGrpSpPr>
        <p:grpSpPr>
          <a:xfrm>
            <a:off x="7018200" y="3106800"/>
            <a:ext cx="547560" cy="361800"/>
            <a:chOff x="7018200" y="3106800"/>
            <a:chExt cx="547560" cy="361800"/>
          </a:xfrm>
        </p:grpSpPr>
        <p:sp>
          <p:nvSpPr>
            <p:cNvPr id="1121" name="">
              <a:hlinkClick r:id="rId11"/>
            </p:cNvPr>
            <p:cNvSpPr/>
            <p:nvPr/>
          </p:nvSpPr>
          <p:spPr>
            <a:xfrm>
              <a:off x="7018200" y="3106800"/>
              <a:ext cx="547560" cy="361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7032240" y="3163680"/>
              <a:ext cx="533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ISP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3" name=""/>
          <p:cNvSpPr/>
          <p:nvPr/>
        </p:nvSpPr>
        <p:spPr>
          <a:xfrm>
            <a:off x="5410080" y="4114800"/>
            <a:ext cx="2590920" cy="457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SUARI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-228600" y="2876400"/>
            <a:ext cx="3505320" cy="20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73200" indent="-216000" algn="just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Norma 698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Instruye a los PITs (Puntos de Intercambio de Tráfico) e ISPs a medir y publicar Indicadores de calidad de los enlaces de tráfico internet existentes entre ello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3505320" y="4648320"/>
            <a:ext cx="5105160" cy="6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73200" indent="-216000" algn="just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Norma 669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Fija indicadores de calidad del servicio de acceso a Interne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3699360" y="3944880"/>
            <a:ext cx="131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ltima mil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Norma 66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6858000" y="3581280"/>
            <a:ext cx="1244520" cy="554040"/>
          </a:xfrm>
          <a:prstGeom prst="irregularSeal2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PT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2666880" y="914400"/>
            <a:ext cx="487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Normativas Técnicas de Inter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6120" y="5049720"/>
            <a:ext cx="373752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10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99"/>
                </a:solidFill>
                <a:latin typeface="Arial"/>
              </a:rPr>
              <a:t>Tasa de Ocupación del Enla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0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99"/>
                </a:solidFill>
                <a:latin typeface="Arial"/>
              </a:rPr>
              <a:t>Latencia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0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99"/>
                </a:solidFill>
                <a:latin typeface="Arial"/>
              </a:rPr>
              <a:t>Tasa de Pérdida de Paque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3733920" y="5257800"/>
            <a:ext cx="533376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876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Tasa de éxito de los intentos de conexió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876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Tiempo promedio de establecimiento de la conex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876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Tasa de transferencia de dat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876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Porcentaje de Modems disponib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1052640" y="304920"/>
            <a:ext cx="5258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99"/>
                </a:solidFill>
                <a:uFillTx/>
                <a:latin typeface="Verdana"/>
              </a:rPr>
              <a:t>ASPECTOS DE CALIDAD DE LAS RED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2" name="Logo%20SUBTEL" descr=""/>
          <p:cNvPicPr/>
          <p:nvPr/>
        </p:nvPicPr>
        <p:blipFill>
          <a:blip r:embed="rId1"/>
          <a:stretch/>
        </p:blipFill>
        <p:spPr>
          <a:xfrm>
            <a:off x="8077320" y="0"/>
            <a:ext cx="1066680" cy="1044720"/>
          </a:xfrm>
          <a:prstGeom prst="rect">
            <a:avLst/>
          </a:prstGeom>
          <a:ln w="0">
            <a:noFill/>
          </a:ln>
        </p:spPr>
      </p:pic>
      <p:sp>
        <p:nvSpPr>
          <p:cNvPr id="1133" name=""/>
          <p:cNvSpPr/>
          <p:nvPr/>
        </p:nvSpPr>
        <p:spPr>
          <a:xfrm>
            <a:off x="1052640" y="304920"/>
            <a:ext cx="5258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99"/>
                </a:solidFill>
                <a:uFillTx/>
                <a:latin typeface="Verdana"/>
              </a:rPr>
              <a:t>ASPECTOS DE CALIDAD DE LAS RED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380880" y="838080"/>
            <a:ext cx="754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Verdana"/>
              </a:rPr>
              <a:t>Norma de Calidad de los Enlaces de Tráfico de Internet (Res. Ex. N°699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5" name="" descr=""/>
          <p:cNvPicPr/>
          <p:nvPr/>
        </p:nvPicPr>
        <p:blipFill>
          <a:blip r:embed="rId2"/>
          <a:stretch/>
        </p:blipFill>
        <p:spPr>
          <a:xfrm>
            <a:off x="4992840" y="141444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1136" name="" descr=""/>
          <p:cNvPicPr/>
          <p:nvPr/>
        </p:nvPicPr>
        <p:blipFill>
          <a:blip r:embed="rId3"/>
          <a:stretch/>
        </p:blipFill>
        <p:spPr>
          <a:xfrm>
            <a:off x="304920" y="1981080"/>
            <a:ext cx="4190760" cy="1397160"/>
          </a:xfrm>
          <a:prstGeom prst="rect">
            <a:avLst/>
          </a:prstGeom>
          <a:ln w="0">
            <a:noFill/>
          </a:ln>
        </p:spPr>
      </p:pic>
      <p:sp>
        <p:nvSpPr>
          <p:cNvPr id="1137" name=""/>
          <p:cNvSpPr/>
          <p:nvPr/>
        </p:nvSpPr>
        <p:spPr>
          <a:xfrm>
            <a:off x="533520" y="1371600"/>
            <a:ext cx="3809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asa de Ocupación del Enlace (Subida y Bajada) (25.06.0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304920" y="3429000"/>
            <a:ext cx="4190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Subida: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Max: 7276.0 (71%) Kbps Promedio: 3859.4 (37%) Kbps Actual: 4992.0 (48%) Kbps </a:t>
            </a: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Bajada: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Max: 6368.8 (62%) Kbps Promedio: 3520.4 (34%) Kbps Actual: 5432.0 (53%) Kb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9" name="" descr=""/>
          <p:cNvPicPr/>
          <p:nvPr/>
        </p:nvPicPr>
        <p:blipFill>
          <a:blip r:embed="rId4"/>
          <a:stretch/>
        </p:blipFill>
        <p:spPr>
          <a:xfrm>
            <a:off x="380880" y="4495680"/>
            <a:ext cx="3926160" cy="1308240"/>
          </a:xfrm>
          <a:prstGeom prst="rect">
            <a:avLst/>
          </a:prstGeom>
          <a:ln w="0">
            <a:noFill/>
          </a:ln>
        </p:spPr>
      </p:pic>
      <p:sp>
        <p:nvSpPr>
          <p:cNvPr id="1140" name=""/>
          <p:cNvSpPr/>
          <p:nvPr/>
        </p:nvSpPr>
        <p:spPr>
          <a:xfrm>
            <a:off x="609480" y="4191120"/>
            <a:ext cx="381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atencia del Enlace (25.06.0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609480" y="5791320"/>
            <a:ext cx="3733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Latencia:</a:t>
            </a: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Max:</a:t>
            </a: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6.4 ms</a:t>
            </a: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Promedio:</a:t>
            </a: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2.2 ms</a:t>
            </a: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Actual:</a:t>
            </a: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4.0 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2" name="" descr=""/>
          <p:cNvPicPr/>
          <p:nvPr/>
        </p:nvPicPr>
        <p:blipFill>
          <a:blip r:embed="rId5"/>
          <a:stretch/>
        </p:blipFill>
        <p:spPr>
          <a:xfrm>
            <a:off x="4724280" y="4800600"/>
            <a:ext cx="4000680" cy="1333440"/>
          </a:xfrm>
          <a:prstGeom prst="rect">
            <a:avLst/>
          </a:prstGeom>
          <a:ln w="0">
            <a:noFill/>
          </a:ln>
        </p:spPr>
      </p:pic>
      <p:sp>
        <p:nvSpPr>
          <p:cNvPr id="1143" name=""/>
          <p:cNvSpPr/>
          <p:nvPr/>
        </p:nvSpPr>
        <p:spPr>
          <a:xfrm>
            <a:off x="4800600" y="4191120"/>
            <a:ext cx="4038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asa de pérdida de paquetes del Enlace (25.06.0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5110920" y="6095880"/>
            <a:ext cx="333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Pérdida: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Max: 3.1% Promedio: 0.9% Actual: 0.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1636200" y="6415200"/>
            <a:ext cx="55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99"/>
                </a:solidFill>
                <a:latin typeface="Verdana"/>
              </a:rPr>
              <a:t>www.subtel.cl/marco_legal/normas/indice.ht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6" name="Logo%20SUBTEL" descr=""/>
          <p:cNvPicPr/>
          <p:nvPr/>
        </p:nvPicPr>
        <p:blipFill>
          <a:blip r:embed="rId1"/>
          <a:stretch/>
        </p:blipFill>
        <p:spPr>
          <a:xfrm>
            <a:off x="7924680" y="252360"/>
            <a:ext cx="1067040" cy="1044720"/>
          </a:xfrm>
          <a:prstGeom prst="rect">
            <a:avLst/>
          </a:prstGeom>
          <a:ln w="0">
            <a:noFill/>
          </a:ln>
        </p:spPr>
      </p:pic>
      <p:sp>
        <p:nvSpPr>
          <p:cNvPr id="1147" name=""/>
          <p:cNvSpPr/>
          <p:nvPr/>
        </p:nvSpPr>
        <p:spPr>
          <a:xfrm>
            <a:off x="1066680" y="2819520"/>
            <a:ext cx="6934320" cy="1218960"/>
          </a:xfrm>
          <a:prstGeom prst="foldedCorner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1371600" y="3184560"/>
            <a:ext cx="647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99"/>
                </a:solidFill>
                <a:latin typeface="Verdana"/>
              </a:rPr>
              <a:t>Evolución de Inter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"/>
          <p:cNvSpPr/>
          <p:nvPr/>
        </p:nvSpPr>
        <p:spPr>
          <a:xfrm>
            <a:off x="2209680" y="838080"/>
            <a:ext cx="49532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Gasto en Tecnologías de Inform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0" name=""/>
          <p:cNvGraphicFramePr/>
          <p:nvPr/>
        </p:nvGraphicFramePr>
        <p:xfrm>
          <a:off x="228600" y="1523880"/>
          <a:ext cx="8699400" cy="1460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23880"/>
                    <a:ext cx="8699400" cy="14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2" name=""/>
          <p:cNvSpPr/>
          <p:nvPr/>
        </p:nvSpPr>
        <p:spPr>
          <a:xfrm>
            <a:off x="304920" y="3092400"/>
            <a:ext cx="662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Fuente: International Data Corporation Chile y CNC (Feb 200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457200" y="3657600"/>
            <a:ext cx="8001000" cy="25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Aún cuando ha crecido el Gasto en TI, este crecimiento no es sufici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La tasa de crecimiento de latinoamérica es mayor. Colombia se proyecta con un 1.9% del PIB para este añ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hile debiese llegar, a juicio de los analistas, a un gasto en TI de 2.39% del PIB para seguir manteniendo el liderazgo en latinoaméric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4" name="Logo%20SUBTEL" descr=""/>
          <p:cNvPicPr/>
          <p:nvPr/>
        </p:nvPicPr>
        <p:blipFill>
          <a:blip r:embed="rId3"/>
          <a:stretch/>
        </p:blipFill>
        <p:spPr>
          <a:xfrm>
            <a:off x="7924680" y="152280"/>
            <a:ext cx="1067040" cy="1044720"/>
          </a:xfrm>
          <a:prstGeom prst="rect">
            <a:avLst/>
          </a:prstGeom>
          <a:ln w="0">
            <a:noFill/>
          </a:ln>
        </p:spPr>
      </p:pic>
      <p:sp>
        <p:nvSpPr>
          <p:cNvPr id="1155" name=""/>
          <p:cNvSpPr/>
          <p:nvPr/>
        </p:nvSpPr>
        <p:spPr>
          <a:xfrm>
            <a:off x="1147680" y="120600"/>
            <a:ext cx="4863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 u="sng">
                <a:solidFill>
                  <a:srgbClr val="333399"/>
                </a:solidFill>
                <a:uFillTx/>
                <a:latin typeface="Verdana"/>
              </a:rPr>
              <a:t>Evolución de Internet en Chi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6" name=""/>
          <p:cNvGraphicFramePr/>
          <p:nvPr/>
        </p:nvGraphicFramePr>
        <p:xfrm>
          <a:off x="228600" y="708120"/>
          <a:ext cx="8229600" cy="553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708120"/>
                    <a:ext cx="8229600" cy="553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8" name=""/>
          <p:cNvSpPr/>
          <p:nvPr/>
        </p:nvSpPr>
        <p:spPr>
          <a:xfrm>
            <a:off x="5105520" y="1523880"/>
            <a:ext cx="2743200" cy="457200"/>
          </a:xfrm>
          <a:prstGeom prst="wedgeRectCallout">
            <a:avLst>
              <a:gd name="adj1" fmla="val 35416"/>
              <a:gd name="adj2" fmla="val 10798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usuarios/100 Habitan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2133720" y="6095880"/>
            <a:ext cx="5638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Fuente: SUBTEL / CCS (2006 (e); 5 MM usuarios; 30 usuarios por cada 100 ha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0" name="Logo%20SUBTEL" descr=""/>
          <p:cNvPicPr/>
          <p:nvPr/>
        </p:nvPicPr>
        <p:blipFill>
          <a:blip r:embed="rId3"/>
          <a:stretch/>
        </p:blipFill>
        <p:spPr>
          <a:xfrm>
            <a:off x="7924680" y="152280"/>
            <a:ext cx="1067040" cy="1044720"/>
          </a:xfrm>
          <a:prstGeom prst="rect">
            <a:avLst/>
          </a:prstGeom>
          <a:ln w="0">
            <a:noFill/>
          </a:ln>
        </p:spPr>
      </p:pic>
      <p:sp>
        <p:nvSpPr>
          <p:cNvPr id="1161" name=""/>
          <p:cNvSpPr/>
          <p:nvPr/>
        </p:nvSpPr>
        <p:spPr>
          <a:xfrm>
            <a:off x="1300320" y="120600"/>
            <a:ext cx="4863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 u="sng">
                <a:solidFill>
                  <a:srgbClr val="333399"/>
                </a:solidFill>
                <a:uFillTx/>
                <a:latin typeface="Verdana"/>
              </a:rPr>
              <a:t>Evolución de Internet en Chi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2" name="Logo%20SUBTEL" descr=""/>
          <p:cNvPicPr/>
          <p:nvPr/>
        </p:nvPicPr>
        <p:blipFill>
          <a:blip r:embed="rId1"/>
          <a:stretch/>
        </p:blipFill>
        <p:spPr>
          <a:xfrm>
            <a:off x="7924680" y="252360"/>
            <a:ext cx="1067040" cy="1044720"/>
          </a:xfrm>
          <a:prstGeom prst="rect">
            <a:avLst/>
          </a:prstGeom>
          <a:ln w="0">
            <a:noFill/>
          </a:ln>
        </p:spPr>
      </p:pic>
      <p:sp>
        <p:nvSpPr>
          <p:cNvPr id="1163" name=""/>
          <p:cNvSpPr/>
          <p:nvPr/>
        </p:nvSpPr>
        <p:spPr>
          <a:xfrm>
            <a:off x="1066680" y="2819520"/>
            <a:ext cx="6934320" cy="1218960"/>
          </a:xfrm>
          <a:prstGeom prst="foldedCorner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1371600" y="3184560"/>
            <a:ext cx="647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99"/>
                </a:solidFill>
                <a:latin typeface="Verdana"/>
              </a:rPr>
              <a:t>Perspectiv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ortunidades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hile todavía está lejos de las penetraciones en los países desarrollad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hile (aun en el contexto actual) presenta un bajo riesgo lo que incentiva la inversiò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sarrollo de penetración en estratos rurales y/o de menores ingres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es-MX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200" spc="-1" strike="noStrike">
                <a:solidFill>
                  <a:srgbClr val="000000"/>
                </a:solidFill>
                <a:latin typeface="Verdana"/>
              </a:rPr>
              <a:t>Disponer de medios de acceso a lo largo de todo el territorio nacional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s-MX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200" spc="-1" strike="noStrike">
                <a:solidFill>
                  <a:srgbClr val="000000"/>
                </a:solidFill>
                <a:latin typeface="Verdana"/>
              </a:rPr>
              <a:t>Estimular la disponibilidad de medios informáticos, mediante soluciones comunitarias o individuales, de modo que las personas y empresas puedan interactuar en las redes de información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Desarrollo de la Infraestructura de seguridad para la operación de red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Logo%20SUBTEL" descr=""/>
          <p:cNvPicPr/>
          <p:nvPr/>
        </p:nvPicPr>
        <p:blipFill>
          <a:blip r:embed="rId1"/>
          <a:stretch/>
        </p:blipFill>
        <p:spPr>
          <a:xfrm>
            <a:off x="7924680" y="252360"/>
            <a:ext cx="1067040" cy="10447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308240" y="380880"/>
            <a:ext cx="5177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 u="sng">
                <a:solidFill>
                  <a:srgbClr val="000099"/>
                </a:solidFill>
                <a:uFillTx/>
                <a:latin typeface="Verdana"/>
              </a:rPr>
              <a:t>POLÍTICAS PARA EL ACCESO A LAS T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ortunidades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Mercado objetivo pequeño lo que facilita la implementación de proyectos reales a bajo cos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Recursos humanos loca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nsumidores potenciales aún no satisfechos en la intensidad del uso de nuevas tecnologí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9" name="Logo%20SUBTEL" descr=""/>
          <p:cNvPicPr/>
          <p:nvPr/>
        </p:nvPicPr>
        <p:blipFill>
          <a:blip r:embed="rId1"/>
          <a:stretch/>
        </p:blipFill>
        <p:spPr>
          <a:xfrm>
            <a:off x="7924680" y="252360"/>
            <a:ext cx="1067040" cy="1044720"/>
          </a:xfrm>
          <a:prstGeom prst="rect">
            <a:avLst/>
          </a:prstGeom>
          <a:ln w="0">
            <a:noFill/>
          </a:ln>
        </p:spPr>
      </p:pic>
      <p:sp>
        <p:nvSpPr>
          <p:cNvPr id="1170" name=""/>
          <p:cNvSpPr/>
          <p:nvPr/>
        </p:nvSpPr>
        <p:spPr>
          <a:xfrm>
            <a:off x="1066680" y="2819520"/>
            <a:ext cx="6934320" cy="1218960"/>
          </a:xfrm>
          <a:prstGeom prst="foldedCorner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1371600" y="3184560"/>
            <a:ext cx="647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99"/>
                </a:solidFill>
                <a:latin typeface="Verdana"/>
              </a:rPr>
              <a:t>Consideraciones Fin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2" name="Logo%20SUBTEL" descr=""/>
          <p:cNvPicPr/>
          <p:nvPr/>
        </p:nvPicPr>
        <p:blipFill>
          <a:blip r:embed="rId1"/>
          <a:stretch/>
        </p:blipFill>
        <p:spPr>
          <a:xfrm>
            <a:off x="7924680" y="252360"/>
            <a:ext cx="1067040" cy="1044720"/>
          </a:xfrm>
          <a:prstGeom prst="rect">
            <a:avLst/>
          </a:prstGeom>
          <a:ln w="0">
            <a:noFill/>
          </a:ln>
        </p:spPr>
      </p:pic>
      <p:sp>
        <p:nvSpPr>
          <p:cNvPr id="1173" name=""/>
          <p:cNvSpPr/>
          <p:nvPr/>
        </p:nvSpPr>
        <p:spPr>
          <a:xfrm>
            <a:off x="838080" y="1295280"/>
            <a:ext cx="777240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1.- Fomento a la Competencia.</a:t>
            </a:r>
            <a:br>
              <a:rPr sz="2000"/>
            </a:br>
            <a:br>
              <a:rPr sz="2000"/>
            </a:b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2.- Normas que evolucionan de acuerdo a las Nuevas       Tecnologías (no significa cambio de reglas del juego).</a:t>
            </a:r>
            <a:br>
              <a:rPr sz="2000"/>
            </a:br>
            <a:br>
              <a:rPr sz="2000"/>
            </a:b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3.- Participación de los actores en la generación de la normativas.</a:t>
            </a:r>
            <a:br>
              <a:rPr sz="2000"/>
            </a:br>
            <a:br>
              <a:rPr sz="2000"/>
            </a:b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4.- Confianza de Operadores para avanzar en la adecuación del marco regulatorio.</a:t>
            </a:r>
            <a:br>
              <a:rPr sz="2000"/>
            </a:br>
            <a:br>
              <a:rPr sz="2000"/>
            </a:b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5.- Fiscalización coherente con las premisas anteriores.</a:t>
            </a:r>
            <a:br>
              <a:rPr sz="2000"/>
            </a:br>
            <a:br>
              <a:rPr sz="2000"/>
            </a:b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6.- Incentivos hacia la autoregulación en los diferentes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mercados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838080" y="304920"/>
            <a:ext cx="6858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Consideraciones Fi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2666880" y="92880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En lo que a Subtel respec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838080" y="2057040"/>
            <a:ext cx="74678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ELECOMUNICACIONES Y TECNOLOGÍAS DE LA INFORMACIÓN: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stado Actual y Perspecti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 type="subTitle"/>
          </p:nvPr>
        </p:nvSpPr>
        <p:spPr>
          <a:xfrm>
            <a:off x="762120" y="3200400"/>
            <a:ext cx="7772400" cy="24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1219320" y="4950000"/>
            <a:ext cx="6737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hristian Nicola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ubsecretario de Telecomunica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3717000" y="6172200"/>
            <a:ext cx="17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ctubre - 20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0" name="Logo%20SUBTEL" descr=""/>
          <p:cNvPicPr/>
          <p:nvPr/>
        </p:nvPicPr>
        <p:blipFill>
          <a:blip r:embed="rId1"/>
          <a:stretch/>
        </p:blipFill>
        <p:spPr>
          <a:xfrm>
            <a:off x="7924680" y="252360"/>
            <a:ext cx="1067040" cy="10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Logo%20SUBTEL" descr=""/>
          <p:cNvPicPr/>
          <p:nvPr/>
        </p:nvPicPr>
        <p:blipFill>
          <a:blip r:embed="rId1"/>
          <a:stretch/>
        </p:blipFill>
        <p:spPr>
          <a:xfrm>
            <a:off x="7924680" y="252360"/>
            <a:ext cx="1067040" cy="10447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219320" y="2743200"/>
            <a:ext cx="6933960" cy="1371600"/>
          </a:xfrm>
          <a:prstGeom prst="foldedCorner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523880" y="3048120"/>
            <a:ext cx="6477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33cc"/>
                </a:solidFill>
                <a:latin typeface="Verdana"/>
              </a:rPr>
              <a:t>Disponer de medios de acceso a lo largo de todo el territorio nacion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6858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99"/>
                </a:solidFill>
                <a:uFillTx/>
                <a:latin typeface="Verdana"/>
              </a:rPr>
              <a:t>OPERADORES DE TELECOMUNIC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3504960" y="1752120"/>
            <a:ext cx="56386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Logo%20SUBTEL" descr=""/>
          <p:cNvPicPr/>
          <p:nvPr/>
        </p:nvPicPr>
        <p:blipFill>
          <a:blip r:embed="rId1"/>
          <a:stretch/>
        </p:blipFill>
        <p:spPr>
          <a:xfrm>
            <a:off x="7924680" y="252360"/>
            <a:ext cx="1067040" cy="10447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304920" y="1066680"/>
            <a:ext cx="2209680" cy="6858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19 Opera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elefonía fi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962520" y="914400"/>
            <a:ext cx="2590560" cy="68580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14 Opera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ncesión “normal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962520" y="1752480"/>
            <a:ext cx="3276360" cy="6858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5 Opera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ncesión “FDT” (rur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4114800"/>
            <a:ext cx="3581280" cy="6858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25 Opera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elefonía de larga dista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04920" y="3200400"/>
            <a:ext cx="3276360" cy="6858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6 Opera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elefonía móv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029200" y="4267080"/>
            <a:ext cx="3276720" cy="6858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1 Operador Sateli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Verdana"/>
              </a:rPr>
              <a:t>1610-1621.35 Mh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Verdana"/>
              </a:rPr>
              <a:t>2483.5-2500 Mh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029200" y="3429000"/>
            <a:ext cx="3276720" cy="6858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3 Opera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Banda 1900 M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029200" y="2590920"/>
            <a:ext cx="3276720" cy="6858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2 Opera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Banda 800 M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4920" y="5029200"/>
            <a:ext cx="4419360" cy="6858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38 Opera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Proveedores de acceso a inter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514600" y="121932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514600" y="1219320"/>
            <a:ext cx="144792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3581280" y="2895120"/>
            <a:ext cx="1447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581280" y="358128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581280" y="3581280"/>
            <a:ext cx="144792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04920" y="5943600"/>
            <a:ext cx="4419360" cy="6858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2 Grandes Opera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V C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666880" y="762120"/>
            <a:ext cx="38102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3399"/>
                </a:solidFill>
                <a:uFillTx/>
                <a:latin typeface="Verdana"/>
              </a:rPr>
              <a:t>TELEFONÍA  FIJ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92480" y="152280"/>
            <a:ext cx="2623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99"/>
                </a:solidFill>
                <a:uFillTx/>
                <a:latin typeface="Verdana"/>
              </a:rPr>
              <a:t>Medios de Acce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Logo%20SUBTEL" descr=""/>
          <p:cNvPicPr/>
          <p:nvPr/>
        </p:nvPicPr>
        <p:blipFill>
          <a:blip r:embed="rId1"/>
          <a:stretch/>
        </p:blipFill>
        <p:spPr>
          <a:xfrm>
            <a:off x="7924680" y="152280"/>
            <a:ext cx="1067040" cy="1044720"/>
          </a:xfrm>
          <a:prstGeom prst="rect">
            <a:avLst/>
          </a:prstGeom>
          <a:ln w="0">
            <a:noFill/>
          </a:ln>
        </p:spPr>
      </p:pic>
      <p:grpSp>
        <p:nvGrpSpPr>
          <p:cNvPr id="98" name=""/>
          <p:cNvGrpSpPr/>
          <p:nvPr/>
        </p:nvGrpSpPr>
        <p:grpSpPr>
          <a:xfrm>
            <a:off x="744480" y="1353960"/>
            <a:ext cx="7631280" cy="5186520"/>
            <a:chOff x="744480" y="1353960"/>
            <a:chExt cx="7631280" cy="5186520"/>
          </a:xfrm>
        </p:grpSpPr>
        <p:sp>
          <p:nvSpPr>
            <p:cNvPr id="99" name=""/>
            <p:cNvSpPr/>
            <p:nvPr/>
          </p:nvSpPr>
          <p:spPr>
            <a:xfrm>
              <a:off x="744480" y="1353960"/>
              <a:ext cx="7631280" cy="51865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370400" y="3390840"/>
              <a:ext cx="190440" cy="687600"/>
            </a:xfrm>
            <a:custGeom>
              <a:avLst/>
              <a:gdLst/>
              <a:ahLst/>
              <a:rect l="l" t="t" r="r" b="b"/>
              <a:pathLst>
                <a:path w="120" h="433">
                  <a:moveTo>
                    <a:pt x="0" y="0"/>
                  </a:moveTo>
                  <a:lnTo>
                    <a:pt x="30" y="0"/>
                  </a:lnTo>
                  <a:lnTo>
                    <a:pt x="90" y="0"/>
                  </a:lnTo>
                  <a:lnTo>
                    <a:pt x="120" y="0"/>
                  </a:lnTo>
                  <a:lnTo>
                    <a:pt x="120" y="4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465800" y="2976480"/>
              <a:ext cx="164880" cy="414360"/>
            </a:xfrm>
            <a:custGeom>
              <a:avLst/>
              <a:gdLst/>
              <a:ahLst/>
              <a:rect l="l" t="t" r="r" b="b"/>
              <a:pathLst>
                <a:path w="14" h="35">
                  <a:moveTo>
                    <a:pt x="14" y="0"/>
                  </a:moveTo>
                  <a:lnTo>
                    <a:pt x="14" y="13"/>
                  </a:lnTo>
                  <a:lnTo>
                    <a:pt x="0" y="35"/>
                  </a:lnTo>
                </a:path>
              </a:pathLst>
            </a:custGeom>
            <a:noFill/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275000" y="3390840"/>
              <a:ext cx="285840" cy="687600"/>
            </a:xfrm>
            <a:custGeom>
              <a:avLst/>
              <a:gdLst/>
              <a:ahLst/>
              <a:rect l="l" t="t" r="r" b="b"/>
              <a:pathLst>
                <a:path w="180" h="433">
                  <a:moveTo>
                    <a:pt x="0" y="0"/>
                  </a:moveTo>
                  <a:lnTo>
                    <a:pt x="30" y="0"/>
                  </a:lnTo>
                  <a:lnTo>
                    <a:pt x="30" y="0"/>
                  </a:lnTo>
                  <a:lnTo>
                    <a:pt x="60" y="0"/>
                  </a:lnTo>
                  <a:lnTo>
                    <a:pt x="180" y="4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133880" y="2846520"/>
              <a:ext cx="201600" cy="544320"/>
            </a:xfrm>
            <a:custGeom>
              <a:avLst/>
              <a:gdLst/>
              <a:ahLst/>
              <a:rect l="l" t="t" r="r" b="b"/>
              <a:pathLst>
                <a:path w="17" h="46">
                  <a:moveTo>
                    <a:pt x="0" y="0"/>
                  </a:moveTo>
                  <a:lnTo>
                    <a:pt x="13" y="0"/>
                  </a:lnTo>
                  <a:lnTo>
                    <a:pt x="17" y="46"/>
                  </a:lnTo>
                </a:path>
              </a:pathLst>
            </a:custGeom>
            <a:noFill/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560840" y="3390840"/>
              <a:ext cx="414360" cy="687600"/>
            </a:xfrm>
            <a:custGeom>
              <a:avLst/>
              <a:gdLst/>
              <a:ahLst/>
              <a:rect l="l" t="t" r="r" b="b"/>
              <a:pathLst>
                <a:path w="261" h="433">
                  <a:moveTo>
                    <a:pt x="0" y="0"/>
                  </a:moveTo>
                  <a:lnTo>
                    <a:pt x="29" y="0"/>
                  </a:lnTo>
                  <a:lnTo>
                    <a:pt x="59" y="0"/>
                  </a:lnTo>
                  <a:lnTo>
                    <a:pt x="82" y="0"/>
                  </a:lnTo>
                  <a:lnTo>
                    <a:pt x="111" y="0"/>
                  </a:lnTo>
                  <a:lnTo>
                    <a:pt x="141" y="0"/>
                  </a:lnTo>
                  <a:lnTo>
                    <a:pt x="171" y="0"/>
                  </a:lnTo>
                  <a:lnTo>
                    <a:pt x="201" y="0"/>
                  </a:lnTo>
                  <a:lnTo>
                    <a:pt x="231" y="0"/>
                  </a:lnTo>
                  <a:lnTo>
                    <a:pt x="261" y="0"/>
                  </a:lnTo>
                  <a:lnTo>
                    <a:pt x="0" y="4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749840" y="3024360"/>
              <a:ext cx="297000" cy="366480"/>
            </a:xfrm>
            <a:custGeom>
              <a:avLst/>
              <a:gdLst/>
              <a:ahLst/>
              <a:rect l="l" t="t" r="r" b="b"/>
              <a:pathLst>
                <a:path w="25" h="31">
                  <a:moveTo>
                    <a:pt x="25" y="0"/>
                  </a:moveTo>
                  <a:lnTo>
                    <a:pt x="25" y="13"/>
                  </a:lnTo>
                  <a:lnTo>
                    <a:pt x="0" y="31"/>
                  </a:lnTo>
                </a:path>
              </a:pathLst>
            </a:custGeom>
            <a:noFill/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560840" y="3390840"/>
              <a:ext cx="900000" cy="687600"/>
            </a:xfrm>
            <a:custGeom>
              <a:avLst/>
              <a:gdLst/>
              <a:ahLst/>
              <a:rect l="l" t="t" r="r" b="b"/>
              <a:pathLst>
                <a:path w="567" h="433">
                  <a:moveTo>
                    <a:pt x="261" y="0"/>
                  </a:moveTo>
                  <a:lnTo>
                    <a:pt x="283" y="8"/>
                  </a:lnTo>
                  <a:lnTo>
                    <a:pt x="313" y="8"/>
                  </a:lnTo>
                  <a:lnTo>
                    <a:pt x="373" y="8"/>
                  </a:lnTo>
                  <a:lnTo>
                    <a:pt x="403" y="8"/>
                  </a:lnTo>
                  <a:lnTo>
                    <a:pt x="425" y="15"/>
                  </a:lnTo>
                  <a:lnTo>
                    <a:pt x="455" y="15"/>
                  </a:lnTo>
                  <a:lnTo>
                    <a:pt x="515" y="23"/>
                  </a:lnTo>
                  <a:lnTo>
                    <a:pt x="537" y="23"/>
                  </a:lnTo>
                  <a:lnTo>
                    <a:pt x="567" y="23"/>
                  </a:lnTo>
                  <a:lnTo>
                    <a:pt x="0" y="433"/>
                  </a:lnTo>
                  <a:lnTo>
                    <a:pt x="261" y="0"/>
                  </a:lnTo>
                  <a:close/>
                </a:path>
              </a:pathLst>
            </a:cu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200560" y="3013200"/>
              <a:ext cx="284400" cy="401400"/>
            </a:xfrm>
            <a:custGeom>
              <a:avLst/>
              <a:gdLst/>
              <a:ahLst/>
              <a:rect l="l" t="t" r="r" b="b"/>
              <a:pathLst>
                <a:path w="24" h="34">
                  <a:moveTo>
                    <a:pt x="24" y="0"/>
                  </a:moveTo>
                  <a:lnTo>
                    <a:pt x="24" y="13"/>
                  </a:lnTo>
                  <a:lnTo>
                    <a:pt x="0" y="34"/>
                  </a:lnTo>
                </a:path>
              </a:pathLst>
            </a:custGeom>
            <a:noFill/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565440" y="3390840"/>
              <a:ext cx="995400" cy="687600"/>
            </a:xfrm>
            <a:custGeom>
              <a:avLst/>
              <a:gdLst/>
              <a:ahLst/>
              <a:rect l="l" t="t" r="r" b="b"/>
              <a:pathLst>
                <a:path w="627" h="433">
                  <a:moveTo>
                    <a:pt x="0" y="30"/>
                  </a:moveTo>
                  <a:lnTo>
                    <a:pt x="29" y="30"/>
                  </a:lnTo>
                  <a:lnTo>
                    <a:pt x="82" y="23"/>
                  </a:lnTo>
                  <a:lnTo>
                    <a:pt x="112" y="23"/>
                  </a:lnTo>
                  <a:lnTo>
                    <a:pt x="141" y="15"/>
                  </a:lnTo>
                  <a:lnTo>
                    <a:pt x="194" y="15"/>
                  </a:lnTo>
                  <a:lnTo>
                    <a:pt x="224" y="8"/>
                  </a:lnTo>
                  <a:lnTo>
                    <a:pt x="253" y="8"/>
                  </a:lnTo>
                  <a:lnTo>
                    <a:pt x="306" y="8"/>
                  </a:lnTo>
                  <a:lnTo>
                    <a:pt x="335" y="8"/>
                  </a:lnTo>
                  <a:lnTo>
                    <a:pt x="365" y="0"/>
                  </a:lnTo>
                  <a:lnTo>
                    <a:pt x="425" y="0"/>
                  </a:lnTo>
                  <a:lnTo>
                    <a:pt x="447" y="0"/>
                  </a:lnTo>
                  <a:lnTo>
                    <a:pt x="627" y="433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505320" y="2894040"/>
              <a:ext cx="415800" cy="520560"/>
            </a:xfrm>
            <a:custGeom>
              <a:avLst/>
              <a:gdLst/>
              <a:ahLst/>
              <a:rect l="l" t="t" r="r" b="b"/>
              <a:pathLst>
                <a:path w="35" h="44">
                  <a:moveTo>
                    <a:pt x="0" y="0"/>
                  </a:moveTo>
                  <a:lnTo>
                    <a:pt x="13" y="0"/>
                  </a:lnTo>
                  <a:lnTo>
                    <a:pt x="35" y="44"/>
                  </a:lnTo>
                </a:path>
              </a:pathLst>
            </a:custGeom>
            <a:noFill/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60840" y="3427560"/>
              <a:ext cx="1065240" cy="650880"/>
            </a:xfrm>
            <a:custGeom>
              <a:avLst/>
              <a:gdLst/>
              <a:ahLst/>
              <a:rect l="l" t="t" r="r" b="b"/>
              <a:pathLst>
                <a:path w="671" h="410">
                  <a:moveTo>
                    <a:pt x="567" y="0"/>
                  </a:moveTo>
                  <a:lnTo>
                    <a:pt x="597" y="7"/>
                  </a:lnTo>
                  <a:lnTo>
                    <a:pt x="649" y="7"/>
                  </a:lnTo>
                  <a:lnTo>
                    <a:pt x="671" y="15"/>
                  </a:lnTo>
                  <a:lnTo>
                    <a:pt x="0" y="410"/>
                  </a:lnTo>
                  <a:lnTo>
                    <a:pt x="567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554800" y="3083040"/>
              <a:ext cx="309600" cy="355320"/>
            </a:xfrm>
            <a:custGeom>
              <a:avLst/>
              <a:gdLst/>
              <a:ahLst/>
              <a:rect l="l" t="t" r="r" b="b"/>
              <a:pathLst>
                <a:path w="26" h="30">
                  <a:moveTo>
                    <a:pt x="26" y="0"/>
                  </a:moveTo>
                  <a:lnTo>
                    <a:pt x="26" y="13"/>
                  </a:lnTo>
                  <a:lnTo>
                    <a:pt x="0" y="30"/>
                  </a:lnTo>
                </a:path>
              </a:pathLst>
            </a:custGeom>
            <a:noFill/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560840" y="3451320"/>
              <a:ext cx="1397160" cy="627120"/>
            </a:xfrm>
            <a:custGeom>
              <a:avLst/>
              <a:gdLst/>
              <a:ahLst/>
              <a:rect l="l" t="t" r="r" b="b"/>
              <a:pathLst>
                <a:path w="880" h="395">
                  <a:moveTo>
                    <a:pt x="671" y="0"/>
                  </a:moveTo>
                  <a:lnTo>
                    <a:pt x="701" y="0"/>
                  </a:lnTo>
                  <a:lnTo>
                    <a:pt x="753" y="7"/>
                  </a:lnTo>
                  <a:lnTo>
                    <a:pt x="776" y="14"/>
                  </a:lnTo>
                  <a:lnTo>
                    <a:pt x="806" y="14"/>
                  </a:lnTo>
                  <a:lnTo>
                    <a:pt x="858" y="22"/>
                  </a:lnTo>
                  <a:lnTo>
                    <a:pt x="880" y="29"/>
                  </a:lnTo>
                  <a:lnTo>
                    <a:pt x="0" y="395"/>
                  </a:lnTo>
                  <a:lnTo>
                    <a:pt x="671" y="0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803920" y="3048120"/>
              <a:ext cx="509400" cy="425160"/>
            </a:xfrm>
            <a:custGeom>
              <a:avLst/>
              <a:gdLst/>
              <a:ahLst/>
              <a:rect l="l" t="t" r="r" b="b"/>
              <a:pathLst>
                <a:path w="43" h="36">
                  <a:moveTo>
                    <a:pt x="43" y="0"/>
                  </a:moveTo>
                  <a:lnTo>
                    <a:pt x="30" y="0"/>
                  </a:lnTo>
                  <a:lnTo>
                    <a:pt x="0" y="36"/>
                  </a:lnTo>
                </a:path>
              </a:pathLst>
            </a:custGeom>
            <a:noFill/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14720" y="3438360"/>
              <a:ext cx="1446120" cy="640080"/>
            </a:xfrm>
            <a:custGeom>
              <a:avLst/>
              <a:gdLst/>
              <a:ahLst/>
              <a:rect l="l" t="t" r="r" b="b"/>
              <a:pathLst>
                <a:path w="911" h="403">
                  <a:moveTo>
                    <a:pt x="0" y="37"/>
                  </a:moveTo>
                  <a:lnTo>
                    <a:pt x="30" y="37"/>
                  </a:lnTo>
                  <a:lnTo>
                    <a:pt x="52" y="30"/>
                  </a:lnTo>
                  <a:lnTo>
                    <a:pt x="104" y="22"/>
                  </a:lnTo>
                  <a:lnTo>
                    <a:pt x="127" y="22"/>
                  </a:lnTo>
                  <a:lnTo>
                    <a:pt x="157" y="15"/>
                  </a:lnTo>
                  <a:lnTo>
                    <a:pt x="179" y="15"/>
                  </a:lnTo>
                  <a:lnTo>
                    <a:pt x="231" y="8"/>
                  </a:lnTo>
                  <a:lnTo>
                    <a:pt x="261" y="0"/>
                  </a:lnTo>
                  <a:lnTo>
                    <a:pt x="284" y="0"/>
                  </a:lnTo>
                  <a:lnTo>
                    <a:pt x="911" y="403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913120" y="3024360"/>
              <a:ext cx="403200" cy="448920"/>
            </a:xfrm>
            <a:custGeom>
              <a:avLst/>
              <a:gdLst/>
              <a:ahLst/>
              <a:rect l="l" t="t" r="r" b="b"/>
              <a:pathLst>
                <a:path w="34" h="38">
                  <a:moveTo>
                    <a:pt x="0" y="0"/>
                  </a:moveTo>
                  <a:lnTo>
                    <a:pt x="13" y="0"/>
                  </a:lnTo>
                  <a:lnTo>
                    <a:pt x="34" y="38"/>
                  </a:lnTo>
                </a:path>
              </a:pathLst>
            </a:custGeom>
            <a:noFill/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225520" y="3497400"/>
              <a:ext cx="2335320" cy="581040"/>
            </a:xfrm>
            <a:custGeom>
              <a:avLst/>
              <a:gdLst/>
              <a:ahLst/>
              <a:rect l="l" t="t" r="r" b="b"/>
              <a:pathLst>
                <a:path w="1471" h="366">
                  <a:moveTo>
                    <a:pt x="0" y="164"/>
                  </a:moveTo>
                  <a:lnTo>
                    <a:pt x="15" y="157"/>
                  </a:lnTo>
                  <a:lnTo>
                    <a:pt x="30" y="150"/>
                  </a:lnTo>
                  <a:lnTo>
                    <a:pt x="60" y="135"/>
                  </a:lnTo>
                  <a:lnTo>
                    <a:pt x="75" y="127"/>
                  </a:lnTo>
                  <a:lnTo>
                    <a:pt x="90" y="120"/>
                  </a:lnTo>
                  <a:lnTo>
                    <a:pt x="105" y="112"/>
                  </a:lnTo>
                  <a:lnTo>
                    <a:pt x="120" y="112"/>
                  </a:lnTo>
                  <a:lnTo>
                    <a:pt x="157" y="97"/>
                  </a:lnTo>
                  <a:lnTo>
                    <a:pt x="172" y="90"/>
                  </a:lnTo>
                  <a:lnTo>
                    <a:pt x="194" y="82"/>
                  </a:lnTo>
                  <a:lnTo>
                    <a:pt x="209" y="82"/>
                  </a:lnTo>
                  <a:lnTo>
                    <a:pt x="254" y="67"/>
                  </a:lnTo>
                  <a:lnTo>
                    <a:pt x="269" y="60"/>
                  </a:lnTo>
                  <a:lnTo>
                    <a:pt x="291" y="60"/>
                  </a:lnTo>
                  <a:lnTo>
                    <a:pt x="314" y="53"/>
                  </a:lnTo>
                  <a:lnTo>
                    <a:pt x="336" y="45"/>
                  </a:lnTo>
                  <a:lnTo>
                    <a:pt x="373" y="38"/>
                  </a:lnTo>
                  <a:lnTo>
                    <a:pt x="396" y="30"/>
                  </a:lnTo>
                  <a:lnTo>
                    <a:pt x="418" y="30"/>
                  </a:lnTo>
                  <a:lnTo>
                    <a:pt x="441" y="23"/>
                  </a:lnTo>
                  <a:lnTo>
                    <a:pt x="470" y="15"/>
                  </a:lnTo>
                  <a:lnTo>
                    <a:pt x="515" y="8"/>
                  </a:lnTo>
                  <a:lnTo>
                    <a:pt x="538" y="8"/>
                  </a:lnTo>
                  <a:lnTo>
                    <a:pt x="560" y="0"/>
                  </a:lnTo>
                  <a:lnTo>
                    <a:pt x="1471" y="366"/>
                  </a:lnTo>
                  <a:lnTo>
                    <a:pt x="0" y="16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308320" y="3189240"/>
              <a:ext cx="285480" cy="426960"/>
            </a:xfrm>
            <a:custGeom>
              <a:avLst/>
              <a:gdLst/>
              <a:ahLst/>
              <a:rect l="l" t="t" r="r" b="b"/>
              <a:pathLst>
                <a:path w="24" h="36">
                  <a:moveTo>
                    <a:pt x="0" y="0"/>
                  </a:moveTo>
                  <a:lnTo>
                    <a:pt x="13" y="0"/>
                  </a:lnTo>
                  <a:lnTo>
                    <a:pt x="24" y="36"/>
                  </a:lnTo>
                </a:path>
              </a:pathLst>
            </a:custGeom>
            <a:noFill/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60840" y="3497400"/>
              <a:ext cx="2511360" cy="581040"/>
            </a:xfrm>
            <a:custGeom>
              <a:avLst/>
              <a:gdLst/>
              <a:ahLst/>
              <a:rect l="l" t="t" r="r" b="b"/>
              <a:pathLst>
                <a:path w="1582" h="366">
                  <a:moveTo>
                    <a:pt x="880" y="0"/>
                  </a:moveTo>
                  <a:lnTo>
                    <a:pt x="903" y="0"/>
                  </a:lnTo>
                  <a:lnTo>
                    <a:pt x="955" y="8"/>
                  </a:lnTo>
                  <a:lnTo>
                    <a:pt x="977" y="15"/>
                  </a:lnTo>
                  <a:lnTo>
                    <a:pt x="1000" y="15"/>
                  </a:lnTo>
                  <a:lnTo>
                    <a:pt x="1044" y="30"/>
                  </a:lnTo>
                  <a:lnTo>
                    <a:pt x="1067" y="30"/>
                  </a:lnTo>
                  <a:lnTo>
                    <a:pt x="1089" y="38"/>
                  </a:lnTo>
                  <a:lnTo>
                    <a:pt x="1134" y="45"/>
                  </a:lnTo>
                  <a:lnTo>
                    <a:pt x="1156" y="53"/>
                  </a:lnTo>
                  <a:lnTo>
                    <a:pt x="1171" y="60"/>
                  </a:lnTo>
                  <a:lnTo>
                    <a:pt x="1216" y="67"/>
                  </a:lnTo>
                  <a:lnTo>
                    <a:pt x="1231" y="75"/>
                  </a:lnTo>
                  <a:lnTo>
                    <a:pt x="1253" y="82"/>
                  </a:lnTo>
                  <a:lnTo>
                    <a:pt x="1291" y="90"/>
                  </a:lnTo>
                  <a:lnTo>
                    <a:pt x="1306" y="97"/>
                  </a:lnTo>
                  <a:lnTo>
                    <a:pt x="1328" y="105"/>
                  </a:lnTo>
                  <a:lnTo>
                    <a:pt x="1358" y="112"/>
                  </a:lnTo>
                  <a:lnTo>
                    <a:pt x="1380" y="120"/>
                  </a:lnTo>
                  <a:lnTo>
                    <a:pt x="1395" y="127"/>
                  </a:lnTo>
                  <a:lnTo>
                    <a:pt x="1425" y="142"/>
                  </a:lnTo>
                  <a:lnTo>
                    <a:pt x="1440" y="150"/>
                  </a:lnTo>
                  <a:lnTo>
                    <a:pt x="1455" y="157"/>
                  </a:lnTo>
                  <a:lnTo>
                    <a:pt x="1477" y="164"/>
                  </a:lnTo>
                  <a:lnTo>
                    <a:pt x="1492" y="172"/>
                  </a:lnTo>
                  <a:lnTo>
                    <a:pt x="1507" y="179"/>
                  </a:lnTo>
                  <a:lnTo>
                    <a:pt x="1530" y="194"/>
                  </a:lnTo>
                  <a:lnTo>
                    <a:pt x="1544" y="202"/>
                  </a:lnTo>
                  <a:lnTo>
                    <a:pt x="1552" y="209"/>
                  </a:lnTo>
                  <a:lnTo>
                    <a:pt x="1574" y="224"/>
                  </a:lnTo>
                  <a:lnTo>
                    <a:pt x="1582" y="232"/>
                  </a:lnTo>
                  <a:lnTo>
                    <a:pt x="0" y="366"/>
                  </a:lnTo>
                  <a:lnTo>
                    <a:pt x="880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645240" y="3308400"/>
              <a:ext cx="212760" cy="342720"/>
            </a:xfrm>
            <a:custGeom>
              <a:avLst/>
              <a:gdLst/>
              <a:ahLst/>
              <a:rect l="l" t="t" r="r" b="b"/>
              <a:pathLst>
                <a:path w="18" h="29">
                  <a:moveTo>
                    <a:pt x="18" y="0"/>
                  </a:moveTo>
                  <a:lnTo>
                    <a:pt x="5" y="0"/>
                  </a:lnTo>
                  <a:lnTo>
                    <a:pt x="0" y="29"/>
                  </a:lnTo>
                </a:path>
              </a:pathLst>
            </a:custGeom>
            <a:noFill/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048040" y="3757680"/>
              <a:ext cx="2512800" cy="320760"/>
            </a:xfrm>
            <a:custGeom>
              <a:avLst/>
              <a:gdLst/>
              <a:ahLst/>
              <a:rect l="l" t="t" r="r" b="b"/>
              <a:pathLst>
                <a:path w="1583" h="202">
                  <a:moveTo>
                    <a:pt x="0" y="68"/>
                  </a:moveTo>
                  <a:lnTo>
                    <a:pt x="8" y="60"/>
                  </a:lnTo>
                  <a:lnTo>
                    <a:pt x="15" y="53"/>
                  </a:lnTo>
                  <a:lnTo>
                    <a:pt x="30" y="45"/>
                  </a:lnTo>
                  <a:lnTo>
                    <a:pt x="38" y="38"/>
                  </a:lnTo>
                  <a:lnTo>
                    <a:pt x="60" y="23"/>
                  </a:lnTo>
                  <a:lnTo>
                    <a:pt x="75" y="15"/>
                  </a:lnTo>
                  <a:lnTo>
                    <a:pt x="82" y="8"/>
                  </a:lnTo>
                  <a:lnTo>
                    <a:pt x="97" y="0"/>
                  </a:lnTo>
                  <a:lnTo>
                    <a:pt x="112" y="0"/>
                  </a:lnTo>
                  <a:lnTo>
                    <a:pt x="1583" y="202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811160" y="3403440"/>
              <a:ext cx="320760" cy="401760"/>
            </a:xfrm>
            <a:custGeom>
              <a:avLst/>
              <a:gdLst/>
              <a:ahLst/>
              <a:rect l="l" t="t" r="r" b="b"/>
              <a:pathLst>
                <a:path w="27" h="34">
                  <a:moveTo>
                    <a:pt x="0" y="0"/>
                  </a:moveTo>
                  <a:lnTo>
                    <a:pt x="13" y="0"/>
                  </a:lnTo>
                  <a:lnTo>
                    <a:pt x="27" y="34"/>
                  </a:lnTo>
                </a:path>
              </a:pathLst>
            </a:custGeom>
            <a:noFill/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930320" y="3865680"/>
              <a:ext cx="2630520" cy="212760"/>
            </a:xfrm>
            <a:custGeom>
              <a:avLst/>
              <a:gdLst/>
              <a:ahLst/>
              <a:rect l="l" t="t" r="r" b="b"/>
              <a:pathLst>
                <a:path w="1657" h="134">
                  <a:moveTo>
                    <a:pt x="0" y="82"/>
                  </a:moveTo>
                  <a:lnTo>
                    <a:pt x="7" y="74"/>
                  </a:lnTo>
                  <a:lnTo>
                    <a:pt x="7" y="67"/>
                  </a:lnTo>
                  <a:lnTo>
                    <a:pt x="22" y="52"/>
                  </a:lnTo>
                  <a:lnTo>
                    <a:pt x="30" y="44"/>
                  </a:lnTo>
                  <a:lnTo>
                    <a:pt x="30" y="37"/>
                  </a:lnTo>
                  <a:lnTo>
                    <a:pt x="37" y="29"/>
                  </a:lnTo>
                  <a:lnTo>
                    <a:pt x="52" y="14"/>
                  </a:lnTo>
                  <a:lnTo>
                    <a:pt x="59" y="7"/>
                  </a:lnTo>
                  <a:lnTo>
                    <a:pt x="74" y="0"/>
                  </a:lnTo>
                  <a:lnTo>
                    <a:pt x="1657" y="134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622520" y="3911760"/>
              <a:ext cx="355680" cy="23760"/>
            </a:xfrm>
            <a:custGeom>
              <a:avLst/>
              <a:gdLst/>
              <a:ahLst/>
              <a:rect l="l" t="t" r="r" b="b"/>
              <a:pathLst>
                <a:path w="30" h="2">
                  <a:moveTo>
                    <a:pt x="0" y="0"/>
                  </a:moveTo>
                  <a:lnTo>
                    <a:pt x="13" y="0"/>
                  </a:lnTo>
                  <a:lnTo>
                    <a:pt x="30" y="2"/>
                  </a:lnTo>
                </a:path>
              </a:pathLst>
            </a:custGeom>
            <a:noFill/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917720" y="4065480"/>
              <a:ext cx="5284800" cy="1420920"/>
            </a:xfrm>
            <a:custGeom>
              <a:avLst/>
              <a:gdLst/>
              <a:ahLst/>
              <a:rect l="l" t="t" r="r" b="b"/>
              <a:pathLst>
                <a:path w="3329" h="895">
                  <a:moveTo>
                    <a:pt x="3329" y="0"/>
                  </a:moveTo>
                  <a:lnTo>
                    <a:pt x="3329" y="8"/>
                  </a:lnTo>
                  <a:lnTo>
                    <a:pt x="3321" y="23"/>
                  </a:lnTo>
                  <a:lnTo>
                    <a:pt x="3321" y="30"/>
                  </a:lnTo>
                  <a:lnTo>
                    <a:pt x="3321" y="38"/>
                  </a:lnTo>
                  <a:lnTo>
                    <a:pt x="3314" y="53"/>
                  </a:lnTo>
                  <a:lnTo>
                    <a:pt x="3314" y="60"/>
                  </a:lnTo>
                  <a:lnTo>
                    <a:pt x="3306" y="67"/>
                  </a:lnTo>
                  <a:lnTo>
                    <a:pt x="3299" y="82"/>
                  </a:lnTo>
                  <a:lnTo>
                    <a:pt x="3292" y="90"/>
                  </a:lnTo>
                  <a:lnTo>
                    <a:pt x="3284" y="97"/>
                  </a:lnTo>
                  <a:lnTo>
                    <a:pt x="3269" y="112"/>
                  </a:lnTo>
                  <a:lnTo>
                    <a:pt x="3262" y="120"/>
                  </a:lnTo>
                  <a:lnTo>
                    <a:pt x="3254" y="127"/>
                  </a:lnTo>
                  <a:lnTo>
                    <a:pt x="3239" y="142"/>
                  </a:lnTo>
                  <a:lnTo>
                    <a:pt x="3224" y="150"/>
                  </a:lnTo>
                  <a:lnTo>
                    <a:pt x="3217" y="157"/>
                  </a:lnTo>
                  <a:lnTo>
                    <a:pt x="3195" y="172"/>
                  </a:lnTo>
                  <a:lnTo>
                    <a:pt x="3180" y="179"/>
                  </a:lnTo>
                  <a:lnTo>
                    <a:pt x="3172" y="187"/>
                  </a:lnTo>
                  <a:lnTo>
                    <a:pt x="3142" y="194"/>
                  </a:lnTo>
                  <a:lnTo>
                    <a:pt x="3135" y="202"/>
                  </a:lnTo>
                  <a:lnTo>
                    <a:pt x="3120" y="209"/>
                  </a:lnTo>
                  <a:lnTo>
                    <a:pt x="3090" y="224"/>
                  </a:lnTo>
                  <a:lnTo>
                    <a:pt x="3075" y="232"/>
                  </a:lnTo>
                  <a:lnTo>
                    <a:pt x="3060" y="239"/>
                  </a:lnTo>
                  <a:lnTo>
                    <a:pt x="3023" y="246"/>
                  </a:lnTo>
                  <a:lnTo>
                    <a:pt x="3008" y="254"/>
                  </a:lnTo>
                  <a:lnTo>
                    <a:pt x="2993" y="261"/>
                  </a:lnTo>
                  <a:lnTo>
                    <a:pt x="2956" y="269"/>
                  </a:lnTo>
                  <a:lnTo>
                    <a:pt x="2941" y="276"/>
                  </a:lnTo>
                  <a:lnTo>
                    <a:pt x="2918" y="284"/>
                  </a:lnTo>
                  <a:lnTo>
                    <a:pt x="2881" y="291"/>
                  </a:lnTo>
                  <a:lnTo>
                    <a:pt x="2859" y="299"/>
                  </a:lnTo>
                  <a:lnTo>
                    <a:pt x="2836" y="306"/>
                  </a:lnTo>
                  <a:lnTo>
                    <a:pt x="2799" y="314"/>
                  </a:lnTo>
                  <a:lnTo>
                    <a:pt x="2777" y="321"/>
                  </a:lnTo>
                  <a:lnTo>
                    <a:pt x="2754" y="329"/>
                  </a:lnTo>
                  <a:lnTo>
                    <a:pt x="2709" y="336"/>
                  </a:lnTo>
                  <a:lnTo>
                    <a:pt x="2687" y="343"/>
                  </a:lnTo>
                  <a:lnTo>
                    <a:pt x="2665" y="343"/>
                  </a:lnTo>
                  <a:lnTo>
                    <a:pt x="2620" y="351"/>
                  </a:lnTo>
                  <a:lnTo>
                    <a:pt x="2590" y="358"/>
                  </a:lnTo>
                  <a:lnTo>
                    <a:pt x="2568" y="358"/>
                  </a:lnTo>
                  <a:lnTo>
                    <a:pt x="2523" y="373"/>
                  </a:lnTo>
                  <a:lnTo>
                    <a:pt x="2493" y="373"/>
                  </a:lnTo>
                  <a:lnTo>
                    <a:pt x="2471" y="381"/>
                  </a:lnTo>
                  <a:lnTo>
                    <a:pt x="2418" y="381"/>
                  </a:lnTo>
                  <a:lnTo>
                    <a:pt x="2396" y="388"/>
                  </a:lnTo>
                  <a:lnTo>
                    <a:pt x="2366" y="388"/>
                  </a:lnTo>
                  <a:lnTo>
                    <a:pt x="2314" y="396"/>
                  </a:lnTo>
                  <a:lnTo>
                    <a:pt x="2284" y="403"/>
                  </a:lnTo>
                  <a:lnTo>
                    <a:pt x="2262" y="403"/>
                  </a:lnTo>
                  <a:lnTo>
                    <a:pt x="2202" y="411"/>
                  </a:lnTo>
                  <a:lnTo>
                    <a:pt x="2180" y="411"/>
                  </a:lnTo>
                  <a:lnTo>
                    <a:pt x="2150" y="411"/>
                  </a:lnTo>
                  <a:lnTo>
                    <a:pt x="2090" y="418"/>
                  </a:lnTo>
                  <a:lnTo>
                    <a:pt x="2068" y="418"/>
                  </a:lnTo>
                  <a:lnTo>
                    <a:pt x="2038" y="418"/>
                  </a:lnTo>
                  <a:lnTo>
                    <a:pt x="1978" y="426"/>
                  </a:lnTo>
                  <a:lnTo>
                    <a:pt x="1948" y="426"/>
                  </a:lnTo>
                  <a:lnTo>
                    <a:pt x="1926" y="426"/>
                  </a:lnTo>
                  <a:lnTo>
                    <a:pt x="1866" y="426"/>
                  </a:lnTo>
                  <a:lnTo>
                    <a:pt x="1836" y="426"/>
                  </a:lnTo>
                  <a:lnTo>
                    <a:pt x="1806" y="433"/>
                  </a:lnTo>
                  <a:lnTo>
                    <a:pt x="1747" y="433"/>
                  </a:lnTo>
                  <a:lnTo>
                    <a:pt x="1724" y="433"/>
                  </a:lnTo>
                  <a:lnTo>
                    <a:pt x="1694" y="433"/>
                  </a:lnTo>
                  <a:lnTo>
                    <a:pt x="1635" y="433"/>
                  </a:lnTo>
                  <a:lnTo>
                    <a:pt x="1605" y="433"/>
                  </a:lnTo>
                  <a:lnTo>
                    <a:pt x="1575" y="433"/>
                  </a:lnTo>
                  <a:lnTo>
                    <a:pt x="1515" y="433"/>
                  </a:lnTo>
                  <a:lnTo>
                    <a:pt x="1485" y="426"/>
                  </a:lnTo>
                  <a:lnTo>
                    <a:pt x="1463" y="426"/>
                  </a:lnTo>
                  <a:lnTo>
                    <a:pt x="1403" y="426"/>
                  </a:lnTo>
                  <a:lnTo>
                    <a:pt x="1373" y="426"/>
                  </a:lnTo>
                  <a:lnTo>
                    <a:pt x="1344" y="426"/>
                  </a:lnTo>
                  <a:lnTo>
                    <a:pt x="1291" y="418"/>
                  </a:lnTo>
                  <a:lnTo>
                    <a:pt x="1262" y="418"/>
                  </a:lnTo>
                  <a:lnTo>
                    <a:pt x="1232" y="418"/>
                  </a:lnTo>
                  <a:lnTo>
                    <a:pt x="1179" y="411"/>
                  </a:lnTo>
                  <a:lnTo>
                    <a:pt x="1150" y="411"/>
                  </a:lnTo>
                  <a:lnTo>
                    <a:pt x="1120" y="411"/>
                  </a:lnTo>
                  <a:lnTo>
                    <a:pt x="1067" y="403"/>
                  </a:lnTo>
                  <a:lnTo>
                    <a:pt x="1038" y="403"/>
                  </a:lnTo>
                  <a:lnTo>
                    <a:pt x="1015" y="396"/>
                  </a:lnTo>
                  <a:lnTo>
                    <a:pt x="963" y="388"/>
                  </a:lnTo>
                  <a:lnTo>
                    <a:pt x="933" y="388"/>
                  </a:lnTo>
                  <a:lnTo>
                    <a:pt x="911" y="381"/>
                  </a:lnTo>
                  <a:lnTo>
                    <a:pt x="858" y="381"/>
                  </a:lnTo>
                  <a:lnTo>
                    <a:pt x="829" y="373"/>
                  </a:lnTo>
                  <a:lnTo>
                    <a:pt x="806" y="373"/>
                  </a:lnTo>
                  <a:lnTo>
                    <a:pt x="754" y="358"/>
                  </a:lnTo>
                  <a:lnTo>
                    <a:pt x="732" y="358"/>
                  </a:lnTo>
                  <a:lnTo>
                    <a:pt x="709" y="351"/>
                  </a:lnTo>
                  <a:lnTo>
                    <a:pt x="664" y="343"/>
                  </a:lnTo>
                  <a:lnTo>
                    <a:pt x="635" y="343"/>
                  </a:lnTo>
                  <a:lnTo>
                    <a:pt x="612" y="336"/>
                  </a:lnTo>
                  <a:lnTo>
                    <a:pt x="567" y="329"/>
                  </a:lnTo>
                  <a:lnTo>
                    <a:pt x="552" y="321"/>
                  </a:lnTo>
                  <a:lnTo>
                    <a:pt x="530" y="314"/>
                  </a:lnTo>
                  <a:lnTo>
                    <a:pt x="485" y="306"/>
                  </a:lnTo>
                  <a:lnTo>
                    <a:pt x="463" y="299"/>
                  </a:lnTo>
                  <a:lnTo>
                    <a:pt x="448" y="291"/>
                  </a:lnTo>
                  <a:lnTo>
                    <a:pt x="403" y="284"/>
                  </a:lnTo>
                  <a:lnTo>
                    <a:pt x="388" y="276"/>
                  </a:lnTo>
                  <a:lnTo>
                    <a:pt x="366" y="269"/>
                  </a:lnTo>
                  <a:lnTo>
                    <a:pt x="336" y="261"/>
                  </a:lnTo>
                  <a:lnTo>
                    <a:pt x="314" y="254"/>
                  </a:lnTo>
                  <a:lnTo>
                    <a:pt x="299" y="246"/>
                  </a:lnTo>
                  <a:lnTo>
                    <a:pt x="269" y="239"/>
                  </a:lnTo>
                  <a:lnTo>
                    <a:pt x="254" y="232"/>
                  </a:lnTo>
                  <a:lnTo>
                    <a:pt x="239" y="224"/>
                  </a:lnTo>
                  <a:lnTo>
                    <a:pt x="209" y="209"/>
                  </a:lnTo>
                  <a:lnTo>
                    <a:pt x="194" y="202"/>
                  </a:lnTo>
                  <a:lnTo>
                    <a:pt x="179" y="194"/>
                  </a:lnTo>
                  <a:lnTo>
                    <a:pt x="157" y="187"/>
                  </a:lnTo>
                  <a:lnTo>
                    <a:pt x="142" y="179"/>
                  </a:lnTo>
                  <a:lnTo>
                    <a:pt x="127" y="172"/>
                  </a:lnTo>
                  <a:lnTo>
                    <a:pt x="112" y="157"/>
                  </a:lnTo>
                  <a:lnTo>
                    <a:pt x="97" y="150"/>
                  </a:lnTo>
                  <a:lnTo>
                    <a:pt x="90" y="142"/>
                  </a:lnTo>
                  <a:lnTo>
                    <a:pt x="67" y="127"/>
                  </a:lnTo>
                  <a:lnTo>
                    <a:pt x="60" y="120"/>
                  </a:lnTo>
                  <a:lnTo>
                    <a:pt x="52" y="112"/>
                  </a:lnTo>
                  <a:lnTo>
                    <a:pt x="38" y="97"/>
                  </a:lnTo>
                  <a:lnTo>
                    <a:pt x="38" y="90"/>
                  </a:lnTo>
                  <a:lnTo>
                    <a:pt x="30" y="82"/>
                  </a:lnTo>
                  <a:lnTo>
                    <a:pt x="15" y="67"/>
                  </a:lnTo>
                  <a:lnTo>
                    <a:pt x="15" y="60"/>
                  </a:lnTo>
                  <a:lnTo>
                    <a:pt x="8" y="53"/>
                  </a:lnTo>
                  <a:lnTo>
                    <a:pt x="8" y="38"/>
                  </a:lnTo>
                  <a:lnTo>
                    <a:pt x="0" y="30"/>
                  </a:lnTo>
                  <a:lnTo>
                    <a:pt x="0" y="23"/>
                  </a:lnTo>
                  <a:lnTo>
                    <a:pt x="0" y="8"/>
                  </a:lnTo>
                  <a:lnTo>
                    <a:pt x="0" y="0"/>
                  </a:lnTo>
                  <a:lnTo>
                    <a:pt x="0" y="463"/>
                  </a:lnTo>
                  <a:lnTo>
                    <a:pt x="0" y="470"/>
                  </a:lnTo>
                  <a:lnTo>
                    <a:pt x="0" y="485"/>
                  </a:lnTo>
                  <a:lnTo>
                    <a:pt x="0" y="493"/>
                  </a:lnTo>
                  <a:lnTo>
                    <a:pt x="8" y="500"/>
                  </a:lnTo>
                  <a:lnTo>
                    <a:pt x="8" y="515"/>
                  </a:lnTo>
                  <a:lnTo>
                    <a:pt x="15" y="522"/>
                  </a:lnTo>
                  <a:lnTo>
                    <a:pt x="15" y="530"/>
                  </a:lnTo>
                  <a:lnTo>
                    <a:pt x="30" y="545"/>
                  </a:lnTo>
                  <a:lnTo>
                    <a:pt x="38" y="552"/>
                  </a:lnTo>
                  <a:lnTo>
                    <a:pt x="38" y="560"/>
                  </a:lnTo>
                  <a:lnTo>
                    <a:pt x="52" y="575"/>
                  </a:lnTo>
                  <a:lnTo>
                    <a:pt x="60" y="582"/>
                  </a:lnTo>
                  <a:lnTo>
                    <a:pt x="67" y="590"/>
                  </a:lnTo>
                  <a:lnTo>
                    <a:pt x="90" y="605"/>
                  </a:lnTo>
                  <a:lnTo>
                    <a:pt x="97" y="612"/>
                  </a:lnTo>
                  <a:lnTo>
                    <a:pt x="112" y="619"/>
                  </a:lnTo>
                  <a:lnTo>
                    <a:pt x="127" y="634"/>
                  </a:lnTo>
                  <a:lnTo>
                    <a:pt x="142" y="642"/>
                  </a:lnTo>
                  <a:lnTo>
                    <a:pt x="157" y="649"/>
                  </a:lnTo>
                  <a:lnTo>
                    <a:pt x="179" y="657"/>
                  </a:lnTo>
                  <a:lnTo>
                    <a:pt x="194" y="664"/>
                  </a:lnTo>
                  <a:lnTo>
                    <a:pt x="209" y="672"/>
                  </a:lnTo>
                  <a:lnTo>
                    <a:pt x="239" y="687"/>
                  </a:lnTo>
                  <a:lnTo>
                    <a:pt x="254" y="694"/>
                  </a:lnTo>
                  <a:lnTo>
                    <a:pt x="269" y="701"/>
                  </a:lnTo>
                  <a:lnTo>
                    <a:pt x="299" y="709"/>
                  </a:lnTo>
                  <a:lnTo>
                    <a:pt x="314" y="716"/>
                  </a:lnTo>
                  <a:lnTo>
                    <a:pt x="336" y="724"/>
                  </a:lnTo>
                  <a:lnTo>
                    <a:pt x="366" y="731"/>
                  </a:lnTo>
                  <a:lnTo>
                    <a:pt x="388" y="739"/>
                  </a:lnTo>
                  <a:lnTo>
                    <a:pt x="403" y="746"/>
                  </a:lnTo>
                  <a:lnTo>
                    <a:pt x="448" y="754"/>
                  </a:lnTo>
                  <a:lnTo>
                    <a:pt x="463" y="761"/>
                  </a:lnTo>
                  <a:lnTo>
                    <a:pt x="485" y="769"/>
                  </a:lnTo>
                  <a:lnTo>
                    <a:pt x="530" y="776"/>
                  </a:lnTo>
                  <a:lnTo>
                    <a:pt x="552" y="784"/>
                  </a:lnTo>
                  <a:lnTo>
                    <a:pt x="567" y="791"/>
                  </a:lnTo>
                  <a:lnTo>
                    <a:pt x="612" y="798"/>
                  </a:lnTo>
                  <a:lnTo>
                    <a:pt x="635" y="806"/>
                  </a:lnTo>
                  <a:lnTo>
                    <a:pt x="664" y="806"/>
                  </a:lnTo>
                  <a:lnTo>
                    <a:pt x="709" y="813"/>
                  </a:lnTo>
                  <a:lnTo>
                    <a:pt x="732" y="821"/>
                  </a:lnTo>
                  <a:lnTo>
                    <a:pt x="754" y="821"/>
                  </a:lnTo>
                  <a:lnTo>
                    <a:pt x="806" y="836"/>
                  </a:lnTo>
                  <a:lnTo>
                    <a:pt x="829" y="836"/>
                  </a:lnTo>
                  <a:lnTo>
                    <a:pt x="858" y="843"/>
                  </a:lnTo>
                  <a:lnTo>
                    <a:pt x="911" y="843"/>
                  </a:lnTo>
                  <a:lnTo>
                    <a:pt x="933" y="851"/>
                  </a:lnTo>
                  <a:lnTo>
                    <a:pt x="963" y="851"/>
                  </a:lnTo>
                  <a:lnTo>
                    <a:pt x="1015" y="858"/>
                  </a:lnTo>
                  <a:lnTo>
                    <a:pt x="1038" y="866"/>
                  </a:lnTo>
                  <a:lnTo>
                    <a:pt x="1067" y="866"/>
                  </a:lnTo>
                  <a:lnTo>
                    <a:pt x="1120" y="873"/>
                  </a:lnTo>
                  <a:lnTo>
                    <a:pt x="1150" y="873"/>
                  </a:lnTo>
                  <a:lnTo>
                    <a:pt x="1179" y="873"/>
                  </a:lnTo>
                  <a:lnTo>
                    <a:pt x="1232" y="880"/>
                  </a:lnTo>
                  <a:lnTo>
                    <a:pt x="1262" y="880"/>
                  </a:lnTo>
                  <a:lnTo>
                    <a:pt x="1291" y="880"/>
                  </a:lnTo>
                  <a:lnTo>
                    <a:pt x="1344" y="888"/>
                  </a:lnTo>
                  <a:lnTo>
                    <a:pt x="1373" y="888"/>
                  </a:lnTo>
                  <a:lnTo>
                    <a:pt x="1403" y="888"/>
                  </a:lnTo>
                  <a:lnTo>
                    <a:pt x="1463" y="888"/>
                  </a:lnTo>
                  <a:lnTo>
                    <a:pt x="1485" y="888"/>
                  </a:lnTo>
                  <a:lnTo>
                    <a:pt x="1515" y="895"/>
                  </a:lnTo>
                  <a:lnTo>
                    <a:pt x="1575" y="895"/>
                  </a:lnTo>
                  <a:lnTo>
                    <a:pt x="1605" y="895"/>
                  </a:lnTo>
                  <a:lnTo>
                    <a:pt x="1635" y="895"/>
                  </a:lnTo>
                  <a:lnTo>
                    <a:pt x="1694" y="895"/>
                  </a:lnTo>
                  <a:lnTo>
                    <a:pt x="1724" y="895"/>
                  </a:lnTo>
                  <a:lnTo>
                    <a:pt x="1747" y="895"/>
                  </a:lnTo>
                  <a:lnTo>
                    <a:pt x="1806" y="895"/>
                  </a:lnTo>
                  <a:lnTo>
                    <a:pt x="1836" y="888"/>
                  </a:lnTo>
                  <a:lnTo>
                    <a:pt x="1866" y="888"/>
                  </a:lnTo>
                  <a:lnTo>
                    <a:pt x="1926" y="888"/>
                  </a:lnTo>
                  <a:lnTo>
                    <a:pt x="1948" y="888"/>
                  </a:lnTo>
                  <a:lnTo>
                    <a:pt x="1978" y="888"/>
                  </a:lnTo>
                  <a:lnTo>
                    <a:pt x="2038" y="880"/>
                  </a:lnTo>
                  <a:lnTo>
                    <a:pt x="2068" y="880"/>
                  </a:lnTo>
                  <a:lnTo>
                    <a:pt x="2090" y="880"/>
                  </a:lnTo>
                  <a:lnTo>
                    <a:pt x="2150" y="873"/>
                  </a:lnTo>
                  <a:lnTo>
                    <a:pt x="2180" y="873"/>
                  </a:lnTo>
                  <a:lnTo>
                    <a:pt x="2202" y="873"/>
                  </a:lnTo>
                  <a:lnTo>
                    <a:pt x="2262" y="866"/>
                  </a:lnTo>
                  <a:lnTo>
                    <a:pt x="2284" y="866"/>
                  </a:lnTo>
                  <a:lnTo>
                    <a:pt x="2314" y="858"/>
                  </a:lnTo>
                  <a:lnTo>
                    <a:pt x="2366" y="851"/>
                  </a:lnTo>
                  <a:lnTo>
                    <a:pt x="2396" y="851"/>
                  </a:lnTo>
                  <a:lnTo>
                    <a:pt x="2418" y="843"/>
                  </a:lnTo>
                  <a:lnTo>
                    <a:pt x="2471" y="843"/>
                  </a:lnTo>
                  <a:lnTo>
                    <a:pt x="2493" y="836"/>
                  </a:lnTo>
                  <a:lnTo>
                    <a:pt x="2523" y="836"/>
                  </a:lnTo>
                  <a:lnTo>
                    <a:pt x="2568" y="821"/>
                  </a:lnTo>
                  <a:lnTo>
                    <a:pt x="2590" y="821"/>
                  </a:lnTo>
                  <a:lnTo>
                    <a:pt x="2620" y="813"/>
                  </a:lnTo>
                  <a:lnTo>
                    <a:pt x="2665" y="806"/>
                  </a:lnTo>
                  <a:lnTo>
                    <a:pt x="2687" y="806"/>
                  </a:lnTo>
                  <a:lnTo>
                    <a:pt x="2709" y="798"/>
                  </a:lnTo>
                  <a:lnTo>
                    <a:pt x="2754" y="791"/>
                  </a:lnTo>
                  <a:lnTo>
                    <a:pt x="2777" y="784"/>
                  </a:lnTo>
                  <a:lnTo>
                    <a:pt x="2799" y="776"/>
                  </a:lnTo>
                  <a:lnTo>
                    <a:pt x="2836" y="769"/>
                  </a:lnTo>
                  <a:lnTo>
                    <a:pt x="2859" y="761"/>
                  </a:lnTo>
                  <a:lnTo>
                    <a:pt x="2881" y="754"/>
                  </a:lnTo>
                  <a:lnTo>
                    <a:pt x="2918" y="746"/>
                  </a:lnTo>
                  <a:lnTo>
                    <a:pt x="2941" y="739"/>
                  </a:lnTo>
                  <a:lnTo>
                    <a:pt x="2956" y="731"/>
                  </a:lnTo>
                  <a:lnTo>
                    <a:pt x="2993" y="724"/>
                  </a:lnTo>
                  <a:lnTo>
                    <a:pt x="3008" y="716"/>
                  </a:lnTo>
                  <a:lnTo>
                    <a:pt x="3023" y="709"/>
                  </a:lnTo>
                  <a:lnTo>
                    <a:pt x="3060" y="701"/>
                  </a:lnTo>
                  <a:lnTo>
                    <a:pt x="3075" y="694"/>
                  </a:lnTo>
                  <a:lnTo>
                    <a:pt x="3090" y="687"/>
                  </a:lnTo>
                  <a:lnTo>
                    <a:pt x="3120" y="672"/>
                  </a:lnTo>
                  <a:lnTo>
                    <a:pt x="3135" y="664"/>
                  </a:lnTo>
                  <a:lnTo>
                    <a:pt x="3142" y="657"/>
                  </a:lnTo>
                  <a:lnTo>
                    <a:pt x="3172" y="649"/>
                  </a:lnTo>
                  <a:lnTo>
                    <a:pt x="3180" y="642"/>
                  </a:lnTo>
                  <a:lnTo>
                    <a:pt x="3195" y="634"/>
                  </a:lnTo>
                  <a:lnTo>
                    <a:pt x="3217" y="619"/>
                  </a:lnTo>
                  <a:lnTo>
                    <a:pt x="3224" y="612"/>
                  </a:lnTo>
                  <a:lnTo>
                    <a:pt x="3239" y="605"/>
                  </a:lnTo>
                  <a:lnTo>
                    <a:pt x="3254" y="590"/>
                  </a:lnTo>
                  <a:lnTo>
                    <a:pt x="3262" y="582"/>
                  </a:lnTo>
                  <a:lnTo>
                    <a:pt x="3269" y="575"/>
                  </a:lnTo>
                  <a:lnTo>
                    <a:pt x="3284" y="560"/>
                  </a:lnTo>
                  <a:lnTo>
                    <a:pt x="3292" y="552"/>
                  </a:lnTo>
                  <a:lnTo>
                    <a:pt x="3299" y="545"/>
                  </a:lnTo>
                  <a:lnTo>
                    <a:pt x="3306" y="530"/>
                  </a:lnTo>
                  <a:lnTo>
                    <a:pt x="3314" y="522"/>
                  </a:lnTo>
                  <a:lnTo>
                    <a:pt x="3314" y="515"/>
                  </a:lnTo>
                  <a:lnTo>
                    <a:pt x="3321" y="500"/>
                  </a:lnTo>
                  <a:lnTo>
                    <a:pt x="3321" y="493"/>
                  </a:lnTo>
                  <a:lnTo>
                    <a:pt x="3321" y="485"/>
                  </a:lnTo>
                  <a:lnTo>
                    <a:pt x="3329" y="470"/>
                  </a:lnTo>
                  <a:lnTo>
                    <a:pt x="3329" y="463"/>
                  </a:lnTo>
                  <a:lnTo>
                    <a:pt x="3329" y="0"/>
                  </a:lnTo>
                  <a:close/>
                </a:path>
              </a:pathLst>
            </a:custGeom>
            <a:solidFill>
              <a:srgbClr val="8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917720" y="3865680"/>
              <a:ext cx="5284800" cy="898560"/>
            </a:xfrm>
            <a:custGeom>
              <a:avLst/>
              <a:gdLst/>
              <a:ahLst/>
              <a:rect l="l" t="t" r="r" b="b"/>
              <a:pathLst>
                <a:path w="3329" h="566">
                  <a:moveTo>
                    <a:pt x="3247" y="0"/>
                  </a:moveTo>
                  <a:lnTo>
                    <a:pt x="3254" y="7"/>
                  </a:lnTo>
                  <a:lnTo>
                    <a:pt x="3269" y="22"/>
                  </a:lnTo>
                  <a:lnTo>
                    <a:pt x="3277" y="29"/>
                  </a:lnTo>
                  <a:lnTo>
                    <a:pt x="3284" y="37"/>
                  </a:lnTo>
                  <a:lnTo>
                    <a:pt x="3299" y="52"/>
                  </a:lnTo>
                  <a:lnTo>
                    <a:pt x="3299" y="59"/>
                  </a:lnTo>
                  <a:lnTo>
                    <a:pt x="3306" y="67"/>
                  </a:lnTo>
                  <a:lnTo>
                    <a:pt x="3314" y="82"/>
                  </a:lnTo>
                  <a:lnTo>
                    <a:pt x="3321" y="89"/>
                  </a:lnTo>
                  <a:lnTo>
                    <a:pt x="3321" y="97"/>
                  </a:lnTo>
                  <a:lnTo>
                    <a:pt x="3321" y="104"/>
                  </a:lnTo>
                  <a:lnTo>
                    <a:pt x="3329" y="119"/>
                  </a:lnTo>
                  <a:lnTo>
                    <a:pt x="3329" y="126"/>
                  </a:lnTo>
                  <a:lnTo>
                    <a:pt x="3329" y="134"/>
                  </a:lnTo>
                  <a:lnTo>
                    <a:pt x="3329" y="149"/>
                  </a:lnTo>
                  <a:lnTo>
                    <a:pt x="3321" y="156"/>
                  </a:lnTo>
                  <a:lnTo>
                    <a:pt x="3321" y="164"/>
                  </a:lnTo>
                  <a:lnTo>
                    <a:pt x="3321" y="179"/>
                  </a:lnTo>
                  <a:lnTo>
                    <a:pt x="3314" y="186"/>
                  </a:lnTo>
                  <a:lnTo>
                    <a:pt x="3314" y="193"/>
                  </a:lnTo>
                  <a:lnTo>
                    <a:pt x="3299" y="208"/>
                  </a:lnTo>
                  <a:lnTo>
                    <a:pt x="3299" y="216"/>
                  </a:lnTo>
                  <a:lnTo>
                    <a:pt x="3292" y="223"/>
                  </a:lnTo>
                  <a:lnTo>
                    <a:pt x="3277" y="238"/>
                  </a:lnTo>
                  <a:lnTo>
                    <a:pt x="3269" y="246"/>
                  </a:lnTo>
                  <a:lnTo>
                    <a:pt x="3262" y="253"/>
                  </a:lnTo>
                  <a:lnTo>
                    <a:pt x="3254" y="261"/>
                  </a:lnTo>
                  <a:lnTo>
                    <a:pt x="3239" y="276"/>
                  </a:lnTo>
                  <a:lnTo>
                    <a:pt x="3224" y="283"/>
                  </a:lnTo>
                  <a:lnTo>
                    <a:pt x="3217" y="290"/>
                  </a:lnTo>
                  <a:lnTo>
                    <a:pt x="3195" y="298"/>
                  </a:lnTo>
                  <a:lnTo>
                    <a:pt x="3180" y="305"/>
                  </a:lnTo>
                  <a:lnTo>
                    <a:pt x="3172" y="313"/>
                  </a:lnTo>
                  <a:lnTo>
                    <a:pt x="3142" y="328"/>
                  </a:lnTo>
                  <a:lnTo>
                    <a:pt x="3135" y="335"/>
                  </a:lnTo>
                  <a:lnTo>
                    <a:pt x="3120" y="343"/>
                  </a:lnTo>
                  <a:lnTo>
                    <a:pt x="3090" y="358"/>
                  </a:lnTo>
                  <a:lnTo>
                    <a:pt x="3075" y="358"/>
                  </a:lnTo>
                  <a:lnTo>
                    <a:pt x="3060" y="365"/>
                  </a:lnTo>
                  <a:lnTo>
                    <a:pt x="3023" y="380"/>
                  </a:lnTo>
                  <a:lnTo>
                    <a:pt x="3008" y="387"/>
                  </a:lnTo>
                  <a:lnTo>
                    <a:pt x="2993" y="395"/>
                  </a:lnTo>
                  <a:lnTo>
                    <a:pt x="2956" y="402"/>
                  </a:lnTo>
                  <a:lnTo>
                    <a:pt x="2941" y="410"/>
                  </a:lnTo>
                  <a:lnTo>
                    <a:pt x="2918" y="417"/>
                  </a:lnTo>
                  <a:lnTo>
                    <a:pt x="2896" y="425"/>
                  </a:lnTo>
                  <a:lnTo>
                    <a:pt x="2859" y="432"/>
                  </a:lnTo>
                  <a:lnTo>
                    <a:pt x="2836" y="440"/>
                  </a:lnTo>
                  <a:lnTo>
                    <a:pt x="2821" y="440"/>
                  </a:lnTo>
                  <a:lnTo>
                    <a:pt x="2777" y="455"/>
                  </a:lnTo>
                  <a:lnTo>
                    <a:pt x="2754" y="462"/>
                  </a:lnTo>
                  <a:lnTo>
                    <a:pt x="2732" y="462"/>
                  </a:lnTo>
                  <a:lnTo>
                    <a:pt x="2687" y="469"/>
                  </a:lnTo>
                  <a:lnTo>
                    <a:pt x="2665" y="477"/>
                  </a:lnTo>
                  <a:lnTo>
                    <a:pt x="2642" y="484"/>
                  </a:lnTo>
                  <a:lnTo>
                    <a:pt x="2590" y="492"/>
                  </a:lnTo>
                  <a:lnTo>
                    <a:pt x="2568" y="492"/>
                  </a:lnTo>
                  <a:lnTo>
                    <a:pt x="2545" y="499"/>
                  </a:lnTo>
                  <a:lnTo>
                    <a:pt x="2493" y="507"/>
                  </a:lnTo>
                  <a:lnTo>
                    <a:pt x="2471" y="507"/>
                  </a:lnTo>
                  <a:lnTo>
                    <a:pt x="2441" y="514"/>
                  </a:lnTo>
                  <a:lnTo>
                    <a:pt x="2418" y="514"/>
                  </a:lnTo>
                  <a:lnTo>
                    <a:pt x="2366" y="522"/>
                  </a:lnTo>
                  <a:lnTo>
                    <a:pt x="2336" y="529"/>
                  </a:lnTo>
                  <a:lnTo>
                    <a:pt x="2314" y="529"/>
                  </a:lnTo>
                  <a:lnTo>
                    <a:pt x="2262" y="537"/>
                  </a:lnTo>
                  <a:lnTo>
                    <a:pt x="2232" y="537"/>
                  </a:lnTo>
                  <a:lnTo>
                    <a:pt x="2202" y="544"/>
                  </a:lnTo>
                  <a:lnTo>
                    <a:pt x="2150" y="544"/>
                  </a:lnTo>
                  <a:lnTo>
                    <a:pt x="2120" y="552"/>
                  </a:lnTo>
                  <a:lnTo>
                    <a:pt x="2090" y="552"/>
                  </a:lnTo>
                  <a:lnTo>
                    <a:pt x="2038" y="552"/>
                  </a:lnTo>
                  <a:lnTo>
                    <a:pt x="2008" y="552"/>
                  </a:lnTo>
                  <a:lnTo>
                    <a:pt x="1978" y="559"/>
                  </a:lnTo>
                  <a:lnTo>
                    <a:pt x="1926" y="559"/>
                  </a:lnTo>
                  <a:lnTo>
                    <a:pt x="1896" y="559"/>
                  </a:lnTo>
                  <a:lnTo>
                    <a:pt x="1866" y="559"/>
                  </a:lnTo>
                  <a:lnTo>
                    <a:pt x="1806" y="566"/>
                  </a:lnTo>
                  <a:lnTo>
                    <a:pt x="1776" y="566"/>
                  </a:lnTo>
                  <a:lnTo>
                    <a:pt x="1747" y="566"/>
                  </a:lnTo>
                  <a:lnTo>
                    <a:pt x="1724" y="566"/>
                  </a:lnTo>
                  <a:lnTo>
                    <a:pt x="1665" y="566"/>
                  </a:lnTo>
                  <a:lnTo>
                    <a:pt x="1635" y="566"/>
                  </a:lnTo>
                  <a:lnTo>
                    <a:pt x="1605" y="566"/>
                  </a:lnTo>
                  <a:lnTo>
                    <a:pt x="1545" y="566"/>
                  </a:lnTo>
                  <a:lnTo>
                    <a:pt x="1515" y="566"/>
                  </a:lnTo>
                  <a:lnTo>
                    <a:pt x="1485" y="559"/>
                  </a:lnTo>
                  <a:lnTo>
                    <a:pt x="1433" y="559"/>
                  </a:lnTo>
                  <a:lnTo>
                    <a:pt x="1403" y="559"/>
                  </a:lnTo>
                  <a:lnTo>
                    <a:pt x="1373" y="559"/>
                  </a:lnTo>
                  <a:lnTo>
                    <a:pt x="1314" y="552"/>
                  </a:lnTo>
                  <a:lnTo>
                    <a:pt x="1291" y="552"/>
                  </a:lnTo>
                  <a:lnTo>
                    <a:pt x="1262" y="552"/>
                  </a:lnTo>
                  <a:lnTo>
                    <a:pt x="1202" y="552"/>
                  </a:lnTo>
                  <a:lnTo>
                    <a:pt x="1179" y="544"/>
                  </a:lnTo>
                  <a:lnTo>
                    <a:pt x="1150" y="544"/>
                  </a:lnTo>
                  <a:lnTo>
                    <a:pt x="1120" y="544"/>
                  </a:lnTo>
                  <a:lnTo>
                    <a:pt x="1067" y="537"/>
                  </a:lnTo>
                  <a:lnTo>
                    <a:pt x="1038" y="537"/>
                  </a:lnTo>
                  <a:lnTo>
                    <a:pt x="1015" y="529"/>
                  </a:lnTo>
                  <a:lnTo>
                    <a:pt x="963" y="522"/>
                  </a:lnTo>
                  <a:lnTo>
                    <a:pt x="933" y="522"/>
                  </a:lnTo>
                  <a:lnTo>
                    <a:pt x="911" y="514"/>
                  </a:lnTo>
                  <a:lnTo>
                    <a:pt x="858" y="507"/>
                  </a:lnTo>
                  <a:lnTo>
                    <a:pt x="829" y="507"/>
                  </a:lnTo>
                  <a:lnTo>
                    <a:pt x="806" y="499"/>
                  </a:lnTo>
                  <a:lnTo>
                    <a:pt x="754" y="492"/>
                  </a:lnTo>
                  <a:lnTo>
                    <a:pt x="732" y="492"/>
                  </a:lnTo>
                  <a:lnTo>
                    <a:pt x="709" y="484"/>
                  </a:lnTo>
                  <a:lnTo>
                    <a:pt x="664" y="477"/>
                  </a:lnTo>
                  <a:lnTo>
                    <a:pt x="635" y="469"/>
                  </a:lnTo>
                  <a:lnTo>
                    <a:pt x="612" y="469"/>
                  </a:lnTo>
                  <a:lnTo>
                    <a:pt x="590" y="462"/>
                  </a:lnTo>
                  <a:lnTo>
                    <a:pt x="552" y="455"/>
                  </a:lnTo>
                  <a:lnTo>
                    <a:pt x="530" y="447"/>
                  </a:lnTo>
                  <a:lnTo>
                    <a:pt x="508" y="440"/>
                  </a:lnTo>
                  <a:lnTo>
                    <a:pt x="463" y="432"/>
                  </a:lnTo>
                  <a:lnTo>
                    <a:pt x="448" y="425"/>
                  </a:lnTo>
                  <a:lnTo>
                    <a:pt x="426" y="425"/>
                  </a:lnTo>
                  <a:lnTo>
                    <a:pt x="388" y="410"/>
                  </a:lnTo>
                  <a:lnTo>
                    <a:pt x="366" y="402"/>
                  </a:lnTo>
                  <a:lnTo>
                    <a:pt x="351" y="395"/>
                  </a:lnTo>
                  <a:lnTo>
                    <a:pt x="314" y="387"/>
                  </a:lnTo>
                  <a:lnTo>
                    <a:pt x="299" y="380"/>
                  </a:lnTo>
                  <a:lnTo>
                    <a:pt x="284" y="372"/>
                  </a:lnTo>
                  <a:lnTo>
                    <a:pt x="254" y="358"/>
                  </a:lnTo>
                  <a:lnTo>
                    <a:pt x="239" y="358"/>
                  </a:lnTo>
                  <a:lnTo>
                    <a:pt x="224" y="350"/>
                  </a:lnTo>
                  <a:lnTo>
                    <a:pt x="194" y="335"/>
                  </a:lnTo>
                  <a:lnTo>
                    <a:pt x="179" y="328"/>
                  </a:lnTo>
                  <a:lnTo>
                    <a:pt x="164" y="320"/>
                  </a:lnTo>
                  <a:lnTo>
                    <a:pt x="157" y="313"/>
                  </a:lnTo>
                  <a:lnTo>
                    <a:pt x="127" y="298"/>
                  </a:lnTo>
                  <a:lnTo>
                    <a:pt x="120" y="290"/>
                  </a:lnTo>
                  <a:lnTo>
                    <a:pt x="112" y="290"/>
                  </a:lnTo>
                  <a:lnTo>
                    <a:pt x="90" y="276"/>
                  </a:lnTo>
                  <a:lnTo>
                    <a:pt x="82" y="268"/>
                  </a:lnTo>
                  <a:lnTo>
                    <a:pt x="67" y="261"/>
                  </a:lnTo>
                  <a:lnTo>
                    <a:pt x="52" y="246"/>
                  </a:lnTo>
                  <a:lnTo>
                    <a:pt x="45" y="238"/>
                  </a:lnTo>
                  <a:lnTo>
                    <a:pt x="38" y="231"/>
                  </a:lnTo>
                  <a:lnTo>
                    <a:pt x="30" y="216"/>
                  </a:lnTo>
                  <a:lnTo>
                    <a:pt x="23" y="208"/>
                  </a:lnTo>
                  <a:lnTo>
                    <a:pt x="15" y="201"/>
                  </a:lnTo>
                  <a:lnTo>
                    <a:pt x="8" y="186"/>
                  </a:lnTo>
                  <a:lnTo>
                    <a:pt x="8" y="179"/>
                  </a:lnTo>
                  <a:lnTo>
                    <a:pt x="8" y="171"/>
                  </a:lnTo>
                  <a:lnTo>
                    <a:pt x="0" y="164"/>
                  </a:lnTo>
                  <a:lnTo>
                    <a:pt x="0" y="149"/>
                  </a:lnTo>
                  <a:lnTo>
                    <a:pt x="0" y="141"/>
                  </a:lnTo>
                  <a:lnTo>
                    <a:pt x="0" y="134"/>
                  </a:lnTo>
                  <a:lnTo>
                    <a:pt x="0" y="119"/>
                  </a:lnTo>
                  <a:lnTo>
                    <a:pt x="0" y="111"/>
                  </a:lnTo>
                  <a:lnTo>
                    <a:pt x="0" y="104"/>
                  </a:lnTo>
                  <a:lnTo>
                    <a:pt x="8" y="89"/>
                  </a:lnTo>
                  <a:lnTo>
                    <a:pt x="8" y="82"/>
                  </a:lnTo>
                  <a:lnTo>
                    <a:pt x="1665" y="134"/>
                  </a:lnTo>
                  <a:lnTo>
                    <a:pt x="3247" y="0"/>
                  </a:lnTo>
                  <a:close/>
                </a:path>
              </a:pathLst>
            </a:custGeom>
            <a:solidFill>
              <a:srgbClr val="ff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665000" y="1555920"/>
              <a:ext cx="58467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80"/>
                  </a:solidFill>
                  <a:latin typeface="Verdana"/>
                </a:rPr>
                <a:t>Distribución de Líneas Telefónicas por Región</a:t>
              </a:r>
              <a:r>
                <a:rPr b="1" lang="en-US" sz="2200" spc="-1" strike="noStrike">
                  <a:solidFill>
                    <a:srgbClr val="000080"/>
                  </a:solidFill>
                  <a:latin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329200" y="1898640"/>
              <a:ext cx="4420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80"/>
                  </a:solidFill>
                  <a:latin typeface="Verdana"/>
                </a:rPr>
                <a:t>(Líneas a Diciembre de 2000: 3.365.039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821120" y="5546880"/>
              <a:ext cx="236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80"/>
                  </a:solidFill>
                  <a:latin typeface="Arial"/>
                </a:rPr>
                <a:t>R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712400" y="5735520"/>
              <a:ext cx="435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80"/>
                  </a:solidFill>
                  <a:latin typeface="Arial"/>
                </a:rPr>
                <a:t>57,4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423800" y="3722760"/>
              <a:ext cx="133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V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276560" y="3911760"/>
              <a:ext cx="32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2,8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605600" y="3213000"/>
              <a:ext cx="172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VI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521360" y="3403440"/>
              <a:ext cx="32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2,7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036520" y="3000240"/>
              <a:ext cx="230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80"/>
                  </a:solidFill>
                  <a:latin typeface="Arial"/>
                </a:rPr>
                <a:t>VII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963800" y="3189240"/>
              <a:ext cx="349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80"/>
                  </a:solidFill>
                  <a:latin typeface="Arial"/>
                </a:rPr>
                <a:t>8,3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716200" y="2835360"/>
              <a:ext cx="133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IX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568600" y="3024360"/>
              <a:ext cx="32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3,0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334680" y="270504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X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215160" y="2894040"/>
              <a:ext cx="32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4,4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936960" y="2657520"/>
              <a:ext cx="133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X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842280" y="2846520"/>
              <a:ext cx="32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0,5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604400" y="2575080"/>
              <a:ext cx="172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XI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518720" y="2763720"/>
              <a:ext cx="32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1,2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073120" y="262080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878360" y="2811600"/>
              <a:ext cx="32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2,5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485320" y="2610000"/>
              <a:ext cx="79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I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316840" y="2798640"/>
              <a:ext cx="32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3,1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857560" y="2681280"/>
              <a:ext cx="119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II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750640" y="2870280"/>
              <a:ext cx="32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1,0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483240" y="2859120"/>
              <a:ext cx="133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IV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390360" y="3048120"/>
              <a:ext cx="32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2,4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047720" y="311940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80"/>
                  </a:solidFill>
                  <a:latin typeface="Arial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879240" y="3308400"/>
              <a:ext cx="435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80"/>
                  </a:solidFill>
                  <a:latin typeface="Arial"/>
                </a:rPr>
                <a:t>10,7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44480" y="1353960"/>
              <a:ext cx="7631280" cy="51865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550880" y="5961240"/>
              <a:ext cx="1646280" cy="24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654200" y="5985000"/>
              <a:ext cx="1158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80"/>
                  </a:solidFill>
                  <a:latin typeface="Verdana"/>
                </a:rPr>
                <a:t>Fuente:  SUBT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666880" y="762120"/>
            <a:ext cx="38102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3399"/>
                </a:solidFill>
                <a:uFillTx/>
                <a:latin typeface="Verdana"/>
              </a:rPr>
              <a:t>TELEFONÍA  FIJ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92480" y="152280"/>
            <a:ext cx="2623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99"/>
                </a:solidFill>
                <a:uFillTx/>
                <a:latin typeface="Verdana"/>
              </a:rPr>
              <a:t>Medios de Acce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Logo%20SUBTEL" descr=""/>
          <p:cNvPicPr/>
          <p:nvPr/>
        </p:nvPicPr>
        <p:blipFill>
          <a:blip r:embed="rId1"/>
          <a:stretch/>
        </p:blipFill>
        <p:spPr>
          <a:xfrm>
            <a:off x="7924680" y="152280"/>
            <a:ext cx="1067040" cy="1044720"/>
          </a:xfrm>
          <a:prstGeom prst="rect">
            <a:avLst/>
          </a:prstGeom>
          <a:ln w="0">
            <a:noFill/>
          </a:ln>
        </p:spPr>
      </p:pic>
      <p:grpSp>
        <p:nvGrpSpPr>
          <p:cNvPr id="160" name=""/>
          <p:cNvGrpSpPr/>
          <p:nvPr/>
        </p:nvGrpSpPr>
        <p:grpSpPr>
          <a:xfrm>
            <a:off x="673200" y="1352520"/>
            <a:ext cx="8089920" cy="5132520"/>
            <a:chOff x="673200" y="1352520"/>
            <a:chExt cx="8089920" cy="5132520"/>
          </a:xfrm>
        </p:grpSpPr>
        <p:grpSp>
          <p:nvGrpSpPr>
            <p:cNvPr id="161" name=""/>
            <p:cNvGrpSpPr/>
            <p:nvPr/>
          </p:nvGrpSpPr>
          <p:grpSpPr>
            <a:xfrm>
              <a:off x="1557360" y="2349360"/>
              <a:ext cx="6800760" cy="2874960"/>
              <a:chOff x="1557360" y="2349360"/>
              <a:chExt cx="6800760" cy="2874960"/>
            </a:xfrm>
          </p:grpSpPr>
          <p:sp>
            <p:nvSpPr>
              <p:cNvPr id="162" name=""/>
              <p:cNvSpPr/>
              <p:nvPr/>
            </p:nvSpPr>
            <p:spPr>
              <a:xfrm>
                <a:off x="1557360" y="2349360"/>
                <a:ext cx="6800760" cy="92160"/>
              </a:xfrm>
              <a:prstGeom prst="rect">
                <a:avLst/>
              </a:prstGeom>
              <a:solidFill>
                <a:srgbClr val="98cb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1557360" y="2441520"/>
                <a:ext cx="6800760" cy="90720"/>
              </a:xfrm>
              <a:prstGeom prst="rect">
                <a:avLst/>
              </a:prstGeom>
              <a:solidFill>
                <a:srgbClr val="98cb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557360" y="2532240"/>
                <a:ext cx="6800760" cy="91800"/>
              </a:xfrm>
              <a:prstGeom prst="rect">
                <a:avLst/>
              </a:prstGeom>
              <a:solidFill>
                <a:srgbClr val="98c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557360" y="2624040"/>
                <a:ext cx="6800760" cy="81000"/>
              </a:xfrm>
              <a:prstGeom prst="rect">
                <a:avLst/>
              </a:prstGeom>
              <a:solidFill>
                <a:srgbClr val="97ca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1557360" y="2705040"/>
                <a:ext cx="6800760" cy="90720"/>
              </a:xfrm>
              <a:prstGeom prst="rect">
                <a:avLst/>
              </a:prstGeom>
              <a:solidFill>
                <a:srgbClr val="97ca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1557360" y="2795760"/>
                <a:ext cx="6800760" cy="91800"/>
              </a:xfrm>
              <a:prstGeom prst="rect">
                <a:avLst/>
              </a:prstGeom>
              <a:solidFill>
                <a:srgbClr val="96c9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557360" y="2887560"/>
                <a:ext cx="6800760" cy="92160"/>
              </a:xfrm>
              <a:prstGeom prst="rect">
                <a:avLst/>
              </a:prstGeom>
              <a:solidFill>
                <a:srgbClr val="96c8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1557360" y="2979720"/>
                <a:ext cx="6800760" cy="90360"/>
              </a:xfrm>
              <a:prstGeom prst="rect">
                <a:avLst/>
              </a:prstGeom>
              <a:solidFill>
                <a:srgbClr val="95c7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1557360" y="3070080"/>
                <a:ext cx="6800760" cy="92160"/>
              </a:xfrm>
              <a:prstGeom prst="rect">
                <a:avLst/>
              </a:prstGeom>
              <a:solidFill>
                <a:srgbClr val="94c6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1557360" y="3162240"/>
                <a:ext cx="6800760" cy="81000"/>
              </a:xfrm>
              <a:prstGeom prst="rect">
                <a:avLst/>
              </a:prstGeom>
              <a:solidFill>
                <a:srgbClr val="93c4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1557360" y="3243240"/>
                <a:ext cx="6800760" cy="90360"/>
              </a:xfrm>
              <a:prstGeom prst="rect">
                <a:avLst/>
              </a:prstGeom>
              <a:solidFill>
                <a:srgbClr val="92c3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1557360" y="3333600"/>
                <a:ext cx="6800760" cy="92160"/>
              </a:xfrm>
              <a:prstGeom prst="rect">
                <a:avLst/>
              </a:prstGeom>
              <a:solidFill>
                <a:srgbClr val="91c1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1557360" y="3425760"/>
                <a:ext cx="6800760" cy="92160"/>
              </a:xfrm>
              <a:prstGeom prst="rect">
                <a:avLst/>
              </a:prstGeom>
              <a:solidFill>
                <a:srgbClr val="8fbf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1557360" y="3517920"/>
                <a:ext cx="6800760" cy="92160"/>
              </a:xfrm>
              <a:prstGeom prst="rect">
                <a:avLst/>
              </a:prstGeom>
              <a:solidFill>
                <a:srgbClr val="8ebd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1557360" y="3610080"/>
                <a:ext cx="6800760" cy="90360"/>
              </a:xfrm>
              <a:prstGeom prst="rect">
                <a:avLst/>
              </a:prstGeom>
              <a:solidFill>
                <a:srgbClr val="8cbb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1557360" y="3700440"/>
                <a:ext cx="6800760" cy="81000"/>
              </a:xfrm>
              <a:prstGeom prst="rect">
                <a:avLst/>
              </a:prstGeom>
              <a:solidFill>
                <a:srgbClr val="8bb9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1557360" y="3781440"/>
                <a:ext cx="6800760" cy="92160"/>
              </a:xfrm>
              <a:prstGeom prst="rect">
                <a:avLst/>
              </a:prstGeom>
              <a:solidFill>
                <a:srgbClr val="89b7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1557360" y="3873600"/>
                <a:ext cx="6800760" cy="90360"/>
              </a:xfrm>
              <a:prstGeom prst="rect">
                <a:avLst/>
              </a:prstGeom>
              <a:solidFill>
                <a:srgbClr val="88b5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557360" y="3963960"/>
                <a:ext cx="6800760" cy="92160"/>
              </a:xfrm>
              <a:prstGeom prst="rect">
                <a:avLst/>
              </a:prstGeom>
              <a:solidFill>
                <a:srgbClr val="86b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557360" y="4056120"/>
                <a:ext cx="6800760" cy="92160"/>
              </a:xfrm>
              <a:prstGeom prst="rect">
                <a:avLst/>
              </a:prstGeom>
              <a:solidFill>
                <a:srgbClr val="84b1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557360" y="4148280"/>
                <a:ext cx="6800760" cy="90360"/>
              </a:xfrm>
              <a:prstGeom prst="rect">
                <a:avLst/>
              </a:prstGeom>
              <a:solidFill>
                <a:srgbClr val="83af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557360" y="4238640"/>
                <a:ext cx="6800760" cy="92160"/>
              </a:xfrm>
              <a:prstGeom prst="rect">
                <a:avLst/>
              </a:prstGeom>
              <a:solidFill>
                <a:srgbClr val="81ad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1557360" y="4330800"/>
                <a:ext cx="6800760" cy="81000"/>
              </a:xfrm>
              <a:prstGeom prst="rect">
                <a:avLst/>
              </a:prstGeom>
              <a:solidFill>
                <a:srgbClr val="80ab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1557360" y="4411800"/>
                <a:ext cx="6800760" cy="90360"/>
              </a:xfrm>
              <a:prstGeom prst="rect">
                <a:avLst/>
              </a:prstGeom>
              <a:solidFill>
                <a:srgbClr val="7fa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1557360" y="4502160"/>
                <a:ext cx="6800760" cy="92160"/>
              </a:xfrm>
              <a:prstGeom prst="rect">
                <a:avLst/>
              </a:prstGeom>
              <a:solidFill>
                <a:srgbClr val="7ea8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1557360" y="4594320"/>
                <a:ext cx="6800760" cy="92160"/>
              </a:xfrm>
              <a:prstGeom prst="rect">
                <a:avLst/>
              </a:prstGeom>
              <a:solidFill>
                <a:srgbClr val="7da7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1557360" y="4686480"/>
                <a:ext cx="6800760" cy="91800"/>
              </a:xfrm>
              <a:prstGeom prst="rect">
                <a:avLst/>
              </a:prstGeom>
              <a:solidFill>
                <a:srgbClr val="7ca6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1557360" y="4778280"/>
                <a:ext cx="6800760" cy="90720"/>
              </a:xfrm>
              <a:prstGeom prst="rect">
                <a:avLst/>
              </a:prstGeom>
              <a:solidFill>
                <a:srgbClr val="7ba5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1557360" y="4869000"/>
                <a:ext cx="6800760" cy="81000"/>
              </a:xfrm>
              <a:prstGeom prst="rect">
                <a:avLst/>
              </a:prstGeom>
              <a:solidFill>
                <a:srgbClr val="7ba4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1557360" y="4950000"/>
                <a:ext cx="6800760" cy="91800"/>
              </a:xfrm>
              <a:prstGeom prst="rect">
                <a:avLst/>
              </a:prstGeom>
              <a:solidFill>
                <a:srgbClr val="7aa4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1557360" y="5041800"/>
                <a:ext cx="6800760" cy="90720"/>
              </a:xfrm>
              <a:prstGeom prst="rect">
                <a:avLst/>
              </a:prstGeom>
              <a:solidFill>
                <a:srgbClr val="7aa3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1557360" y="5132520"/>
                <a:ext cx="6800760" cy="91800"/>
              </a:xfrm>
              <a:prstGeom prst="rect">
                <a:avLst/>
              </a:prstGeom>
              <a:solidFill>
                <a:srgbClr val="7aa3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1557360" y="2349360"/>
              <a:ext cx="6800760" cy="287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557360" y="4811760"/>
              <a:ext cx="6800760" cy="144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557360" y="4398840"/>
              <a:ext cx="6800760" cy="180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557360" y="3987720"/>
              <a:ext cx="6800760" cy="180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557360" y="3586320"/>
              <a:ext cx="6800760" cy="144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557360" y="3173400"/>
              <a:ext cx="6800760" cy="144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557360" y="2762280"/>
              <a:ext cx="6800760" cy="144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557360" y="2349360"/>
              <a:ext cx="6800760" cy="180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557360" y="2349360"/>
              <a:ext cx="6800760" cy="2874960"/>
            </a:xfrm>
            <a:prstGeom prst="rect">
              <a:avLst/>
            </a:prstGeom>
            <a:noFill/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3" name=""/>
            <p:cNvGrpSpPr/>
            <p:nvPr/>
          </p:nvGrpSpPr>
          <p:grpSpPr>
            <a:xfrm>
              <a:off x="1684440" y="3567240"/>
              <a:ext cx="220320" cy="1690200"/>
              <a:chOff x="1684440" y="3567240"/>
              <a:chExt cx="220320" cy="1690200"/>
            </a:xfrm>
          </p:grpSpPr>
          <p:sp>
            <p:nvSpPr>
              <p:cNvPr id="204" name=""/>
              <p:cNvSpPr/>
              <p:nvPr/>
            </p:nvSpPr>
            <p:spPr>
              <a:xfrm>
                <a:off x="1684440" y="3567240"/>
                <a:ext cx="12240" cy="1690200"/>
              </a:xfrm>
              <a:prstGeom prst="rect">
                <a:avLst/>
              </a:prstGeom>
              <a:solidFill>
                <a:srgbClr val="79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96680" y="3567240"/>
                <a:ext cx="24840" cy="1690200"/>
              </a:xfrm>
              <a:prstGeom prst="rect">
                <a:avLst/>
              </a:prstGeom>
              <a:solidFill>
                <a:srgbClr val="8c7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1721520" y="3567240"/>
                <a:ext cx="12240" cy="1690200"/>
              </a:xfrm>
              <a:prstGeom prst="rect">
                <a:avLst/>
              </a:prstGeom>
              <a:solidFill>
                <a:srgbClr val="ad8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1733760" y="3567240"/>
                <a:ext cx="24480" cy="1690200"/>
              </a:xfrm>
              <a:prstGeom prst="rect">
                <a:avLst/>
              </a:prstGeom>
              <a:solidFill>
                <a:srgbClr val="d2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1758240" y="3567240"/>
                <a:ext cx="10800" cy="1690200"/>
              </a:xfrm>
              <a:prstGeom prst="rect">
                <a:avLst/>
              </a:prstGeom>
              <a:solidFill>
                <a:srgbClr val="ed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1769040" y="3567240"/>
                <a:ext cx="24840" cy="1690200"/>
              </a:xfrm>
              <a:prstGeom prst="rect">
                <a:avLst/>
              </a:prstGeom>
              <a:solidFill>
                <a:srgbClr val="fb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1793880" y="3567240"/>
                <a:ext cx="12240" cy="1690200"/>
              </a:xfrm>
              <a:prstGeom prst="rect">
                <a:avLst/>
              </a:prstGeom>
              <a:solidFill>
                <a:srgbClr val="fd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1806120" y="3567240"/>
                <a:ext cx="24840" cy="1690200"/>
              </a:xfrm>
              <a:prstGeom prst="rect">
                <a:avLst/>
              </a:prstGeom>
              <a:solidFill>
                <a:srgbClr val="f3c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1830960" y="3567240"/>
                <a:ext cx="12240" cy="1690200"/>
              </a:xfrm>
              <a:prstGeom prst="rect">
                <a:avLst/>
              </a:prstGeom>
              <a:solidFill>
                <a:srgbClr val="dcb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1843200" y="3567240"/>
                <a:ext cx="24480" cy="1690200"/>
              </a:xfrm>
              <a:prstGeom prst="rect">
                <a:avLst/>
              </a:prstGeom>
              <a:solidFill>
                <a:srgbClr val="ba9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1867680" y="3567240"/>
                <a:ext cx="12600" cy="1690200"/>
              </a:xfrm>
              <a:prstGeom prst="rect">
                <a:avLst/>
              </a:prstGeom>
              <a:solidFill>
                <a:srgbClr val="967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880280" y="3567240"/>
                <a:ext cx="24480" cy="1690200"/>
              </a:xfrm>
              <a:prstGeom prst="rect">
                <a:avLst/>
              </a:prstGeom>
              <a:solidFill>
                <a:srgbClr val="7e6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6" name=""/>
            <p:cNvGrpSpPr/>
            <p:nvPr/>
          </p:nvGrpSpPr>
          <p:grpSpPr>
            <a:xfrm>
              <a:off x="2163600" y="3429000"/>
              <a:ext cx="218880" cy="1794960"/>
              <a:chOff x="2163600" y="3429000"/>
              <a:chExt cx="218880" cy="1794960"/>
            </a:xfrm>
          </p:grpSpPr>
          <p:sp>
            <p:nvSpPr>
              <p:cNvPr id="217" name=""/>
              <p:cNvSpPr/>
              <p:nvPr/>
            </p:nvSpPr>
            <p:spPr>
              <a:xfrm>
                <a:off x="2163600" y="3429000"/>
                <a:ext cx="23040" cy="1794960"/>
              </a:xfrm>
              <a:prstGeom prst="rect">
                <a:avLst/>
              </a:prstGeom>
              <a:solidFill>
                <a:srgbClr val="7d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2186640" y="3429000"/>
                <a:ext cx="11160" cy="1794960"/>
              </a:xfrm>
              <a:prstGeom prst="rect">
                <a:avLst/>
              </a:prstGeom>
              <a:solidFill>
                <a:srgbClr val="937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2198160" y="3429000"/>
                <a:ext cx="23040" cy="1794960"/>
              </a:xfrm>
              <a:prstGeom prst="rect">
                <a:avLst/>
              </a:prstGeom>
              <a:solidFill>
                <a:srgbClr val="b49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2221200" y="3429000"/>
                <a:ext cx="11160" cy="1794960"/>
              </a:xfrm>
              <a:prstGeom prst="rect">
                <a:avLst/>
              </a:prstGeom>
              <a:solidFill>
                <a:srgbClr val="d7a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2232720" y="3429000"/>
                <a:ext cx="23040" cy="1794960"/>
              </a:xfrm>
              <a:prstGeom prst="rect">
                <a:avLst/>
              </a:prstGeom>
              <a:solidFill>
                <a:srgbClr val="ee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2255760" y="3429000"/>
                <a:ext cx="11160" cy="1794960"/>
              </a:xfrm>
              <a:prstGeom prst="rect">
                <a:avLst/>
              </a:prstGeom>
              <a:solidFill>
                <a:srgbClr val="fbc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2267280" y="3429000"/>
                <a:ext cx="23040" cy="1794960"/>
              </a:xfrm>
              <a:prstGeom prst="rect">
                <a:avLst/>
              </a:prstGeom>
              <a:solidFill>
                <a:srgbClr val="fd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2290680" y="3429000"/>
                <a:ext cx="22680" cy="1794960"/>
              </a:xfrm>
              <a:prstGeom prst="rect">
                <a:avLst/>
              </a:prstGeom>
              <a:solidFill>
                <a:srgbClr val="ee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2313360" y="3429000"/>
                <a:ext cx="11160" cy="1794960"/>
              </a:xfrm>
              <a:prstGeom prst="rect">
                <a:avLst/>
              </a:prstGeom>
              <a:solidFill>
                <a:srgbClr val="d7a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2324880" y="3429000"/>
                <a:ext cx="23040" cy="1794960"/>
              </a:xfrm>
              <a:prstGeom prst="rect">
                <a:avLst/>
              </a:prstGeom>
              <a:solidFill>
                <a:srgbClr val="b49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2347920" y="3429000"/>
                <a:ext cx="11160" cy="1794960"/>
              </a:xfrm>
              <a:prstGeom prst="rect">
                <a:avLst/>
              </a:prstGeom>
              <a:solidFill>
                <a:srgbClr val="937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2359440" y="3429000"/>
                <a:ext cx="23040" cy="1794960"/>
              </a:xfrm>
              <a:prstGeom prst="rect">
                <a:avLst/>
              </a:prstGeom>
              <a:solidFill>
                <a:srgbClr val="7d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9" name=""/>
            <p:cNvSpPr/>
            <p:nvPr/>
          </p:nvSpPr>
          <p:spPr>
            <a:xfrm>
              <a:off x="2163600" y="3483000"/>
              <a:ext cx="241560" cy="174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0" name=""/>
            <p:cNvGrpSpPr/>
            <p:nvPr/>
          </p:nvGrpSpPr>
          <p:grpSpPr>
            <a:xfrm>
              <a:off x="2657520" y="4267080"/>
              <a:ext cx="218520" cy="960120"/>
              <a:chOff x="2657520" y="4267080"/>
              <a:chExt cx="218520" cy="960120"/>
            </a:xfrm>
          </p:grpSpPr>
          <p:sp>
            <p:nvSpPr>
              <p:cNvPr id="231" name=""/>
              <p:cNvSpPr/>
              <p:nvPr/>
            </p:nvSpPr>
            <p:spPr>
              <a:xfrm>
                <a:off x="2657520" y="4267080"/>
                <a:ext cx="11880" cy="960120"/>
              </a:xfrm>
              <a:prstGeom prst="rect">
                <a:avLst/>
              </a:prstGeom>
              <a:solidFill>
                <a:srgbClr val="79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2669400" y="4267080"/>
                <a:ext cx="24480" cy="960120"/>
              </a:xfrm>
              <a:prstGeom prst="rect">
                <a:avLst/>
              </a:prstGeom>
              <a:solidFill>
                <a:srgbClr val="8c7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2694240" y="4267080"/>
                <a:ext cx="11880" cy="960120"/>
              </a:xfrm>
              <a:prstGeom prst="rect">
                <a:avLst/>
              </a:prstGeom>
              <a:solidFill>
                <a:srgbClr val="ad8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706480" y="4267080"/>
                <a:ext cx="24480" cy="960120"/>
              </a:xfrm>
              <a:prstGeom prst="rect">
                <a:avLst/>
              </a:prstGeom>
              <a:solidFill>
                <a:srgbClr val="d2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2730960" y="4267080"/>
                <a:ext cx="11880" cy="960120"/>
              </a:xfrm>
              <a:prstGeom prst="rect">
                <a:avLst/>
              </a:prstGeom>
              <a:solidFill>
                <a:srgbClr val="ed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2743200" y="4267080"/>
                <a:ext cx="22680" cy="960120"/>
              </a:xfrm>
              <a:prstGeom prst="rect">
                <a:avLst/>
              </a:prstGeom>
              <a:solidFill>
                <a:srgbClr val="fb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766240" y="4267080"/>
                <a:ext cx="11880" cy="960120"/>
              </a:xfrm>
              <a:prstGeom prst="rect">
                <a:avLst/>
              </a:prstGeom>
              <a:solidFill>
                <a:srgbClr val="fd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2778120" y="4267080"/>
                <a:ext cx="24480" cy="960120"/>
              </a:xfrm>
              <a:prstGeom prst="rect">
                <a:avLst/>
              </a:prstGeom>
              <a:solidFill>
                <a:srgbClr val="f3c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2802960" y="4267080"/>
                <a:ext cx="11880" cy="960120"/>
              </a:xfrm>
              <a:prstGeom prst="rect">
                <a:avLst/>
              </a:prstGeom>
              <a:solidFill>
                <a:srgbClr val="dcb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2815200" y="4267080"/>
                <a:ext cx="24480" cy="960120"/>
              </a:xfrm>
              <a:prstGeom prst="rect">
                <a:avLst/>
              </a:prstGeom>
              <a:solidFill>
                <a:srgbClr val="ba9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2839680" y="4267080"/>
                <a:ext cx="11880" cy="960120"/>
              </a:xfrm>
              <a:prstGeom prst="rect">
                <a:avLst/>
              </a:prstGeom>
              <a:solidFill>
                <a:srgbClr val="967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851920" y="4267080"/>
                <a:ext cx="24120" cy="960120"/>
              </a:xfrm>
              <a:prstGeom prst="rect">
                <a:avLst/>
              </a:prstGeom>
              <a:solidFill>
                <a:srgbClr val="7e6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3" name=""/>
            <p:cNvGrpSpPr/>
            <p:nvPr/>
          </p:nvGrpSpPr>
          <p:grpSpPr>
            <a:xfrm>
              <a:off x="3137040" y="4114800"/>
              <a:ext cx="215280" cy="1109160"/>
              <a:chOff x="3137040" y="4114800"/>
              <a:chExt cx="215280" cy="1109160"/>
            </a:xfrm>
          </p:grpSpPr>
          <p:sp>
            <p:nvSpPr>
              <p:cNvPr id="244" name=""/>
              <p:cNvSpPr/>
              <p:nvPr/>
            </p:nvSpPr>
            <p:spPr>
              <a:xfrm>
                <a:off x="3137040" y="4114800"/>
                <a:ext cx="22320" cy="1109160"/>
              </a:xfrm>
              <a:prstGeom prst="rect">
                <a:avLst/>
              </a:prstGeom>
              <a:solidFill>
                <a:srgbClr val="7d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3159360" y="4114800"/>
                <a:ext cx="11160" cy="1109160"/>
              </a:xfrm>
              <a:prstGeom prst="rect">
                <a:avLst/>
              </a:prstGeom>
              <a:solidFill>
                <a:srgbClr val="937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3170520" y="4114800"/>
                <a:ext cx="22680" cy="1109160"/>
              </a:xfrm>
              <a:prstGeom prst="rect">
                <a:avLst/>
              </a:prstGeom>
              <a:solidFill>
                <a:srgbClr val="b49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3193560" y="4114800"/>
                <a:ext cx="11160" cy="1109160"/>
              </a:xfrm>
              <a:prstGeom prst="rect">
                <a:avLst/>
              </a:prstGeom>
              <a:solidFill>
                <a:srgbClr val="d7a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204720" y="4114800"/>
                <a:ext cx="22680" cy="1109160"/>
              </a:xfrm>
              <a:prstGeom prst="rect">
                <a:avLst/>
              </a:prstGeom>
              <a:solidFill>
                <a:srgbClr val="ee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3227760" y="4114800"/>
                <a:ext cx="11160" cy="1109160"/>
              </a:xfrm>
              <a:prstGeom prst="rect">
                <a:avLst/>
              </a:prstGeom>
              <a:solidFill>
                <a:srgbClr val="fbc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3238920" y="4114800"/>
                <a:ext cx="22680" cy="1109160"/>
              </a:xfrm>
              <a:prstGeom prst="rect">
                <a:avLst/>
              </a:prstGeom>
              <a:solidFill>
                <a:srgbClr val="fd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3261600" y="4114800"/>
                <a:ext cx="22320" cy="1109160"/>
              </a:xfrm>
              <a:prstGeom prst="rect">
                <a:avLst/>
              </a:prstGeom>
              <a:solidFill>
                <a:srgbClr val="ee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3284280" y="4114800"/>
                <a:ext cx="11520" cy="1109160"/>
              </a:xfrm>
              <a:prstGeom prst="rect">
                <a:avLst/>
              </a:prstGeom>
              <a:solidFill>
                <a:srgbClr val="d7a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295800" y="4114800"/>
                <a:ext cx="22320" cy="1109160"/>
              </a:xfrm>
              <a:prstGeom prst="rect">
                <a:avLst/>
              </a:prstGeom>
              <a:solidFill>
                <a:srgbClr val="b49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3318480" y="4114800"/>
                <a:ext cx="11160" cy="1109160"/>
              </a:xfrm>
              <a:prstGeom prst="rect">
                <a:avLst/>
              </a:prstGeom>
              <a:solidFill>
                <a:srgbClr val="937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3329640" y="4114800"/>
                <a:ext cx="22680" cy="1109160"/>
              </a:xfrm>
              <a:prstGeom prst="rect">
                <a:avLst/>
              </a:prstGeom>
              <a:solidFill>
                <a:srgbClr val="7d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6" name=""/>
            <p:cNvGrpSpPr/>
            <p:nvPr/>
          </p:nvGrpSpPr>
          <p:grpSpPr>
            <a:xfrm>
              <a:off x="3630600" y="3352680"/>
              <a:ext cx="218880" cy="1919160"/>
              <a:chOff x="3630600" y="3352680"/>
              <a:chExt cx="218880" cy="1919160"/>
            </a:xfrm>
          </p:grpSpPr>
          <p:sp>
            <p:nvSpPr>
              <p:cNvPr id="257" name=""/>
              <p:cNvSpPr/>
              <p:nvPr/>
            </p:nvSpPr>
            <p:spPr>
              <a:xfrm>
                <a:off x="3630600" y="3352680"/>
                <a:ext cx="11880" cy="1919160"/>
              </a:xfrm>
              <a:prstGeom prst="rect">
                <a:avLst/>
              </a:prstGeom>
              <a:solidFill>
                <a:srgbClr val="79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642480" y="3352680"/>
                <a:ext cx="24480" cy="1919160"/>
              </a:xfrm>
              <a:prstGeom prst="rect">
                <a:avLst/>
              </a:prstGeom>
              <a:solidFill>
                <a:srgbClr val="8c7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3667320" y="3352680"/>
                <a:ext cx="11880" cy="1919160"/>
              </a:xfrm>
              <a:prstGeom prst="rect">
                <a:avLst/>
              </a:prstGeom>
              <a:solidFill>
                <a:srgbClr val="ad8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3679560" y="3352680"/>
                <a:ext cx="24480" cy="1919160"/>
              </a:xfrm>
              <a:prstGeom prst="rect">
                <a:avLst/>
              </a:prstGeom>
              <a:solidFill>
                <a:srgbClr val="d2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3704040" y="3352680"/>
                <a:ext cx="11880" cy="1919160"/>
              </a:xfrm>
              <a:prstGeom prst="rect">
                <a:avLst/>
              </a:prstGeom>
              <a:solidFill>
                <a:srgbClr val="ed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3716280" y="3352680"/>
                <a:ext cx="24480" cy="1919160"/>
              </a:xfrm>
              <a:prstGeom prst="rect">
                <a:avLst/>
              </a:prstGeom>
              <a:solidFill>
                <a:srgbClr val="fb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740760" y="3352680"/>
                <a:ext cx="10080" cy="1919160"/>
              </a:xfrm>
              <a:prstGeom prst="rect">
                <a:avLst/>
              </a:prstGeom>
              <a:solidFill>
                <a:srgbClr val="fd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3751200" y="3352680"/>
                <a:ext cx="24480" cy="1919160"/>
              </a:xfrm>
              <a:prstGeom prst="rect">
                <a:avLst/>
              </a:prstGeom>
              <a:solidFill>
                <a:srgbClr val="f3c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3776040" y="3352680"/>
                <a:ext cx="11880" cy="1919160"/>
              </a:xfrm>
              <a:prstGeom prst="rect">
                <a:avLst/>
              </a:prstGeom>
              <a:solidFill>
                <a:srgbClr val="dcb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3788280" y="3352680"/>
                <a:ext cx="24480" cy="1919160"/>
              </a:xfrm>
              <a:prstGeom prst="rect">
                <a:avLst/>
              </a:prstGeom>
              <a:solidFill>
                <a:srgbClr val="ba9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3812760" y="3352680"/>
                <a:ext cx="11880" cy="1919160"/>
              </a:xfrm>
              <a:prstGeom prst="rect">
                <a:avLst/>
              </a:prstGeom>
              <a:solidFill>
                <a:srgbClr val="967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825000" y="3352680"/>
                <a:ext cx="24480" cy="1919160"/>
              </a:xfrm>
              <a:prstGeom prst="rect">
                <a:avLst/>
              </a:prstGeom>
              <a:solidFill>
                <a:srgbClr val="7e6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9" name=""/>
            <p:cNvGrpSpPr/>
            <p:nvPr/>
          </p:nvGrpSpPr>
          <p:grpSpPr>
            <a:xfrm>
              <a:off x="4110120" y="2666880"/>
              <a:ext cx="218520" cy="2557080"/>
              <a:chOff x="4110120" y="2666880"/>
              <a:chExt cx="218520" cy="2557080"/>
            </a:xfrm>
          </p:grpSpPr>
          <p:sp>
            <p:nvSpPr>
              <p:cNvPr id="270" name=""/>
              <p:cNvSpPr/>
              <p:nvPr/>
            </p:nvSpPr>
            <p:spPr>
              <a:xfrm>
                <a:off x="4110120" y="2666880"/>
                <a:ext cx="22680" cy="2557080"/>
              </a:xfrm>
              <a:prstGeom prst="rect">
                <a:avLst/>
              </a:prstGeom>
              <a:solidFill>
                <a:srgbClr val="7d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4132800" y="2666880"/>
                <a:ext cx="11520" cy="2557080"/>
              </a:xfrm>
              <a:prstGeom prst="rect">
                <a:avLst/>
              </a:prstGeom>
              <a:solidFill>
                <a:srgbClr val="937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4144680" y="2666880"/>
                <a:ext cx="22680" cy="2557080"/>
              </a:xfrm>
              <a:prstGeom prst="rect">
                <a:avLst/>
              </a:prstGeom>
              <a:solidFill>
                <a:srgbClr val="b49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4167360" y="2666880"/>
                <a:ext cx="11160" cy="2557080"/>
              </a:xfrm>
              <a:prstGeom prst="rect">
                <a:avLst/>
              </a:prstGeom>
              <a:solidFill>
                <a:srgbClr val="d7a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4178880" y="2666880"/>
                <a:ext cx="23040" cy="2557080"/>
              </a:xfrm>
              <a:prstGeom prst="rect">
                <a:avLst/>
              </a:prstGeom>
              <a:solidFill>
                <a:srgbClr val="ee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201920" y="2666880"/>
                <a:ext cx="11160" cy="2557080"/>
              </a:xfrm>
              <a:prstGeom prst="rect">
                <a:avLst/>
              </a:prstGeom>
              <a:solidFill>
                <a:srgbClr val="fbc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4213440" y="2666880"/>
                <a:ext cx="23040" cy="2557080"/>
              </a:xfrm>
              <a:prstGeom prst="rect">
                <a:avLst/>
              </a:prstGeom>
              <a:solidFill>
                <a:srgbClr val="fd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4236840" y="2666880"/>
                <a:ext cx="22680" cy="2557080"/>
              </a:xfrm>
              <a:prstGeom prst="rect">
                <a:avLst/>
              </a:prstGeom>
              <a:solidFill>
                <a:srgbClr val="ee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4259520" y="2666880"/>
                <a:ext cx="11520" cy="2557080"/>
              </a:xfrm>
              <a:prstGeom prst="rect">
                <a:avLst/>
              </a:prstGeom>
              <a:solidFill>
                <a:srgbClr val="d7a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4271400" y="2666880"/>
                <a:ext cx="22680" cy="2557080"/>
              </a:xfrm>
              <a:prstGeom prst="rect">
                <a:avLst/>
              </a:prstGeom>
              <a:solidFill>
                <a:srgbClr val="b49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4294080" y="2666880"/>
                <a:ext cx="11160" cy="2557080"/>
              </a:xfrm>
              <a:prstGeom prst="rect">
                <a:avLst/>
              </a:prstGeom>
              <a:solidFill>
                <a:srgbClr val="937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4305600" y="2666880"/>
                <a:ext cx="23040" cy="2557080"/>
              </a:xfrm>
              <a:prstGeom prst="rect">
                <a:avLst/>
              </a:prstGeom>
              <a:solidFill>
                <a:srgbClr val="7d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2" name=""/>
            <p:cNvGrpSpPr/>
            <p:nvPr/>
          </p:nvGrpSpPr>
          <p:grpSpPr>
            <a:xfrm>
              <a:off x="4603680" y="4267080"/>
              <a:ext cx="218880" cy="956880"/>
              <a:chOff x="4603680" y="4267080"/>
              <a:chExt cx="218880" cy="956880"/>
            </a:xfrm>
          </p:grpSpPr>
          <p:sp>
            <p:nvSpPr>
              <p:cNvPr id="283" name=""/>
              <p:cNvSpPr/>
              <p:nvPr/>
            </p:nvSpPr>
            <p:spPr>
              <a:xfrm>
                <a:off x="4603680" y="4267080"/>
                <a:ext cx="11880" cy="956880"/>
              </a:xfrm>
              <a:prstGeom prst="rect">
                <a:avLst/>
              </a:prstGeom>
              <a:solidFill>
                <a:srgbClr val="79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4615560" y="4267080"/>
                <a:ext cx="24480" cy="956880"/>
              </a:xfrm>
              <a:prstGeom prst="rect">
                <a:avLst/>
              </a:prstGeom>
              <a:solidFill>
                <a:srgbClr val="8c7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4640400" y="4267080"/>
                <a:ext cx="11880" cy="956880"/>
              </a:xfrm>
              <a:prstGeom prst="rect">
                <a:avLst/>
              </a:prstGeom>
              <a:solidFill>
                <a:srgbClr val="ad8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4652640" y="4267080"/>
                <a:ext cx="24480" cy="956880"/>
              </a:xfrm>
              <a:prstGeom prst="rect">
                <a:avLst/>
              </a:prstGeom>
              <a:solidFill>
                <a:srgbClr val="d2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4677120" y="4267080"/>
                <a:ext cx="11880" cy="956880"/>
              </a:xfrm>
              <a:prstGeom prst="rect">
                <a:avLst/>
              </a:prstGeom>
              <a:solidFill>
                <a:srgbClr val="ed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4689360" y="4267080"/>
                <a:ext cx="24480" cy="956880"/>
              </a:xfrm>
              <a:prstGeom prst="rect">
                <a:avLst/>
              </a:prstGeom>
              <a:solidFill>
                <a:srgbClr val="fb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713840" y="4267080"/>
                <a:ext cx="11880" cy="956880"/>
              </a:xfrm>
              <a:prstGeom prst="rect">
                <a:avLst/>
              </a:prstGeom>
              <a:solidFill>
                <a:srgbClr val="fd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4726080" y="4267080"/>
                <a:ext cx="22680" cy="956880"/>
              </a:xfrm>
              <a:prstGeom prst="rect">
                <a:avLst/>
              </a:prstGeom>
              <a:solidFill>
                <a:srgbClr val="f3c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4749120" y="4267080"/>
                <a:ext cx="11880" cy="956880"/>
              </a:xfrm>
              <a:prstGeom prst="rect">
                <a:avLst/>
              </a:prstGeom>
              <a:solidFill>
                <a:srgbClr val="dcb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4761360" y="4267080"/>
                <a:ext cx="24480" cy="956880"/>
              </a:xfrm>
              <a:prstGeom prst="rect">
                <a:avLst/>
              </a:prstGeom>
              <a:solidFill>
                <a:srgbClr val="ba9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4785840" y="4267080"/>
                <a:ext cx="11880" cy="956880"/>
              </a:xfrm>
              <a:prstGeom prst="rect">
                <a:avLst/>
              </a:prstGeom>
              <a:solidFill>
                <a:srgbClr val="967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4798080" y="4267080"/>
                <a:ext cx="24480" cy="956880"/>
              </a:xfrm>
              <a:prstGeom prst="rect">
                <a:avLst/>
              </a:prstGeom>
              <a:solidFill>
                <a:srgbClr val="7e6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5" name=""/>
            <p:cNvSpPr/>
            <p:nvPr/>
          </p:nvSpPr>
          <p:spPr>
            <a:xfrm>
              <a:off x="4603680" y="4284720"/>
              <a:ext cx="227160" cy="93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6" name=""/>
            <p:cNvGrpSpPr/>
            <p:nvPr/>
          </p:nvGrpSpPr>
          <p:grpSpPr>
            <a:xfrm>
              <a:off x="5083200" y="4419720"/>
              <a:ext cx="218520" cy="804240"/>
              <a:chOff x="5083200" y="4419720"/>
              <a:chExt cx="218520" cy="804240"/>
            </a:xfrm>
          </p:grpSpPr>
          <p:sp>
            <p:nvSpPr>
              <p:cNvPr id="297" name=""/>
              <p:cNvSpPr/>
              <p:nvPr/>
            </p:nvSpPr>
            <p:spPr>
              <a:xfrm>
                <a:off x="5083200" y="4419720"/>
                <a:ext cx="11880" cy="804240"/>
              </a:xfrm>
              <a:prstGeom prst="rect">
                <a:avLst/>
              </a:prstGeom>
              <a:solidFill>
                <a:srgbClr val="79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5095080" y="4419720"/>
                <a:ext cx="24120" cy="804240"/>
              </a:xfrm>
              <a:prstGeom prst="rect">
                <a:avLst/>
              </a:prstGeom>
              <a:solidFill>
                <a:srgbClr val="8c7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119560" y="4419720"/>
                <a:ext cx="11880" cy="804240"/>
              </a:xfrm>
              <a:prstGeom prst="rect">
                <a:avLst/>
              </a:prstGeom>
              <a:solidFill>
                <a:srgbClr val="ad8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131800" y="4419720"/>
                <a:ext cx="24120" cy="804240"/>
              </a:xfrm>
              <a:prstGeom prst="rect">
                <a:avLst/>
              </a:prstGeom>
              <a:solidFill>
                <a:srgbClr val="d2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5156280" y="4419720"/>
                <a:ext cx="11880" cy="804240"/>
              </a:xfrm>
              <a:prstGeom prst="rect">
                <a:avLst/>
              </a:prstGeom>
              <a:solidFill>
                <a:srgbClr val="ed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68160" y="4419720"/>
                <a:ext cx="24120" cy="804240"/>
              </a:xfrm>
              <a:prstGeom prst="rect">
                <a:avLst/>
              </a:prstGeom>
              <a:solidFill>
                <a:srgbClr val="fb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5192280" y="4419720"/>
                <a:ext cx="12240" cy="804240"/>
              </a:xfrm>
              <a:prstGeom prst="rect">
                <a:avLst/>
              </a:prstGeom>
              <a:solidFill>
                <a:srgbClr val="fd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5204880" y="4419720"/>
                <a:ext cx="24120" cy="804240"/>
              </a:xfrm>
              <a:prstGeom prst="rect">
                <a:avLst/>
              </a:prstGeom>
              <a:solidFill>
                <a:srgbClr val="f3c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5229000" y="4419720"/>
                <a:ext cx="12240" cy="804240"/>
              </a:xfrm>
              <a:prstGeom prst="rect">
                <a:avLst/>
              </a:prstGeom>
              <a:solidFill>
                <a:srgbClr val="dcb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5241240" y="4419720"/>
                <a:ext cx="24120" cy="804240"/>
              </a:xfrm>
              <a:prstGeom prst="rect">
                <a:avLst/>
              </a:prstGeom>
              <a:solidFill>
                <a:srgbClr val="ba9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5265360" y="4419720"/>
                <a:ext cx="11880" cy="804240"/>
              </a:xfrm>
              <a:prstGeom prst="rect">
                <a:avLst/>
              </a:prstGeom>
              <a:solidFill>
                <a:srgbClr val="967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5277600" y="4419720"/>
                <a:ext cx="24120" cy="804240"/>
              </a:xfrm>
              <a:prstGeom prst="rect">
                <a:avLst/>
              </a:prstGeom>
              <a:solidFill>
                <a:srgbClr val="7e6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9" name=""/>
            <p:cNvGrpSpPr/>
            <p:nvPr/>
          </p:nvGrpSpPr>
          <p:grpSpPr>
            <a:xfrm>
              <a:off x="5564160" y="4038480"/>
              <a:ext cx="218880" cy="1185480"/>
              <a:chOff x="5564160" y="4038480"/>
              <a:chExt cx="218880" cy="1185480"/>
            </a:xfrm>
          </p:grpSpPr>
          <p:sp>
            <p:nvSpPr>
              <p:cNvPr id="310" name=""/>
              <p:cNvSpPr/>
              <p:nvPr/>
            </p:nvSpPr>
            <p:spPr>
              <a:xfrm>
                <a:off x="5564160" y="4038480"/>
                <a:ext cx="23040" cy="1185480"/>
              </a:xfrm>
              <a:prstGeom prst="rect">
                <a:avLst/>
              </a:prstGeom>
              <a:solidFill>
                <a:srgbClr val="7d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5587200" y="4038480"/>
                <a:ext cx="11520" cy="1185480"/>
              </a:xfrm>
              <a:prstGeom prst="rect">
                <a:avLst/>
              </a:prstGeom>
              <a:solidFill>
                <a:srgbClr val="937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5598720" y="4038480"/>
                <a:ext cx="23040" cy="1185480"/>
              </a:xfrm>
              <a:prstGeom prst="rect">
                <a:avLst/>
              </a:prstGeom>
              <a:solidFill>
                <a:srgbClr val="b49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5621760" y="4038480"/>
                <a:ext cx="11520" cy="1185480"/>
              </a:xfrm>
              <a:prstGeom prst="rect">
                <a:avLst/>
              </a:prstGeom>
              <a:solidFill>
                <a:srgbClr val="d7a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633640" y="4038480"/>
                <a:ext cx="23040" cy="1185480"/>
              </a:xfrm>
              <a:prstGeom prst="rect">
                <a:avLst/>
              </a:prstGeom>
              <a:solidFill>
                <a:srgbClr val="ee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656680" y="4038480"/>
                <a:ext cx="11520" cy="1185480"/>
              </a:xfrm>
              <a:prstGeom prst="rect">
                <a:avLst/>
              </a:prstGeom>
              <a:solidFill>
                <a:srgbClr val="fbc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5668560" y="4038480"/>
                <a:ext cx="23040" cy="1185480"/>
              </a:xfrm>
              <a:prstGeom prst="rect">
                <a:avLst/>
              </a:prstGeom>
              <a:solidFill>
                <a:srgbClr val="fd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5691600" y="4038480"/>
                <a:ext cx="21600" cy="1185480"/>
              </a:xfrm>
              <a:prstGeom prst="rect">
                <a:avLst/>
              </a:prstGeom>
              <a:solidFill>
                <a:srgbClr val="ee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5713560" y="4038480"/>
                <a:ext cx="11520" cy="1185480"/>
              </a:xfrm>
              <a:prstGeom prst="rect">
                <a:avLst/>
              </a:prstGeom>
              <a:solidFill>
                <a:srgbClr val="d7a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5725440" y="4038480"/>
                <a:ext cx="23040" cy="1185480"/>
              </a:xfrm>
              <a:prstGeom prst="rect">
                <a:avLst/>
              </a:prstGeom>
              <a:solidFill>
                <a:srgbClr val="b49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5748480" y="4038480"/>
                <a:ext cx="11520" cy="1185480"/>
              </a:xfrm>
              <a:prstGeom prst="rect">
                <a:avLst/>
              </a:prstGeom>
              <a:solidFill>
                <a:srgbClr val="937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5760000" y="4038480"/>
                <a:ext cx="23040" cy="1185480"/>
              </a:xfrm>
              <a:prstGeom prst="rect">
                <a:avLst/>
              </a:prstGeom>
              <a:solidFill>
                <a:srgbClr val="7d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6058080" y="4343400"/>
              <a:ext cx="218520" cy="880920"/>
              <a:chOff x="6058080" y="4343400"/>
              <a:chExt cx="218520" cy="880920"/>
            </a:xfrm>
          </p:grpSpPr>
          <p:sp>
            <p:nvSpPr>
              <p:cNvPr id="323" name=""/>
              <p:cNvSpPr/>
              <p:nvPr/>
            </p:nvSpPr>
            <p:spPr>
              <a:xfrm>
                <a:off x="6058080" y="4343400"/>
                <a:ext cx="10080" cy="880920"/>
              </a:xfrm>
              <a:prstGeom prst="rect">
                <a:avLst/>
              </a:prstGeom>
              <a:solidFill>
                <a:srgbClr val="79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6068160" y="4343400"/>
                <a:ext cx="24480" cy="880920"/>
              </a:xfrm>
              <a:prstGeom prst="rect">
                <a:avLst/>
              </a:prstGeom>
              <a:solidFill>
                <a:srgbClr val="8c7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6093000" y="4343400"/>
                <a:ext cx="11880" cy="880920"/>
              </a:xfrm>
              <a:prstGeom prst="rect">
                <a:avLst/>
              </a:prstGeom>
              <a:solidFill>
                <a:srgbClr val="ad8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6105240" y="4343400"/>
                <a:ext cx="24480" cy="880920"/>
              </a:xfrm>
              <a:prstGeom prst="rect">
                <a:avLst/>
              </a:prstGeom>
              <a:solidFill>
                <a:srgbClr val="d2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6129720" y="4343400"/>
                <a:ext cx="11880" cy="880920"/>
              </a:xfrm>
              <a:prstGeom prst="rect">
                <a:avLst/>
              </a:prstGeom>
              <a:solidFill>
                <a:srgbClr val="ed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6141960" y="4343400"/>
                <a:ext cx="24480" cy="880920"/>
              </a:xfrm>
              <a:prstGeom prst="rect">
                <a:avLst/>
              </a:prstGeom>
              <a:solidFill>
                <a:srgbClr val="fb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6166800" y="4343400"/>
                <a:ext cx="11880" cy="880920"/>
              </a:xfrm>
              <a:prstGeom prst="rect">
                <a:avLst/>
              </a:prstGeom>
              <a:solidFill>
                <a:srgbClr val="fd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6178680" y="4343400"/>
                <a:ext cx="24120" cy="880920"/>
              </a:xfrm>
              <a:prstGeom prst="rect">
                <a:avLst/>
              </a:prstGeom>
              <a:solidFill>
                <a:srgbClr val="f3c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6203160" y="4343400"/>
                <a:ext cx="12240" cy="880920"/>
              </a:xfrm>
              <a:prstGeom prst="rect">
                <a:avLst/>
              </a:prstGeom>
              <a:solidFill>
                <a:srgbClr val="dcb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6215760" y="4343400"/>
                <a:ext cx="24120" cy="880920"/>
              </a:xfrm>
              <a:prstGeom prst="rect">
                <a:avLst/>
              </a:prstGeom>
              <a:solidFill>
                <a:srgbClr val="ba9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6239880" y="4343400"/>
                <a:ext cx="12240" cy="880920"/>
              </a:xfrm>
              <a:prstGeom prst="rect">
                <a:avLst/>
              </a:prstGeom>
              <a:solidFill>
                <a:srgbClr val="967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252480" y="4343400"/>
                <a:ext cx="24120" cy="880920"/>
              </a:xfrm>
              <a:prstGeom prst="rect">
                <a:avLst/>
              </a:prstGeom>
              <a:solidFill>
                <a:srgbClr val="7e6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5" name=""/>
            <p:cNvSpPr/>
            <p:nvPr/>
          </p:nvSpPr>
          <p:spPr>
            <a:xfrm>
              <a:off x="6058080" y="4319640"/>
              <a:ext cx="218880" cy="90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6" name=""/>
            <p:cNvGrpSpPr/>
            <p:nvPr/>
          </p:nvGrpSpPr>
          <p:grpSpPr>
            <a:xfrm>
              <a:off x="6537240" y="4038480"/>
              <a:ext cx="219240" cy="1185480"/>
              <a:chOff x="6537240" y="4038480"/>
              <a:chExt cx="219240" cy="1185480"/>
            </a:xfrm>
          </p:grpSpPr>
          <p:sp>
            <p:nvSpPr>
              <p:cNvPr id="337" name=""/>
              <p:cNvSpPr/>
              <p:nvPr/>
            </p:nvSpPr>
            <p:spPr>
              <a:xfrm>
                <a:off x="6537240" y="4038480"/>
                <a:ext cx="23040" cy="1185480"/>
              </a:xfrm>
              <a:prstGeom prst="rect">
                <a:avLst/>
              </a:prstGeom>
              <a:solidFill>
                <a:srgbClr val="7d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6560280" y="4038480"/>
                <a:ext cx="11520" cy="1185480"/>
              </a:xfrm>
              <a:prstGeom prst="rect">
                <a:avLst/>
              </a:prstGeom>
              <a:solidFill>
                <a:srgbClr val="937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6571800" y="4038480"/>
                <a:ext cx="23040" cy="1185480"/>
              </a:xfrm>
              <a:prstGeom prst="rect">
                <a:avLst/>
              </a:prstGeom>
              <a:solidFill>
                <a:srgbClr val="b49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6595200" y="4038480"/>
                <a:ext cx="11520" cy="1185480"/>
              </a:xfrm>
              <a:prstGeom prst="rect">
                <a:avLst/>
              </a:prstGeom>
              <a:solidFill>
                <a:srgbClr val="d7a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6606720" y="4038480"/>
                <a:ext cx="23040" cy="1185480"/>
              </a:xfrm>
              <a:prstGeom prst="rect">
                <a:avLst/>
              </a:prstGeom>
              <a:solidFill>
                <a:srgbClr val="ee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6629760" y="4038480"/>
                <a:ext cx="11520" cy="1185480"/>
              </a:xfrm>
              <a:prstGeom prst="rect">
                <a:avLst/>
              </a:prstGeom>
              <a:solidFill>
                <a:srgbClr val="fbc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6641640" y="4038480"/>
                <a:ext cx="23040" cy="1185480"/>
              </a:xfrm>
              <a:prstGeom prst="rect">
                <a:avLst/>
              </a:prstGeom>
              <a:solidFill>
                <a:srgbClr val="fd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6664680" y="4038480"/>
                <a:ext cx="23040" cy="1185480"/>
              </a:xfrm>
              <a:prstGeom prst="rect">
                <a:avLst/>
              </a:prstGeom>
              <a:solidFill>
                <a:srgbClr val="ee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6688080" y="4038480"/>
                <a:ext cx="11520" cy="1185480"/>
              </a:xfrm>
              <a:prstGeom prst="rect">
                <a:avLst/>
              </a:prstGeom>
              <a:solidFill>
                <a:srgbClr val="d7a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6699600" y="4038480"/>
                <a:ext cx="21600" cy="1185480"/>
              </a:xfrm>
              <a:prstGeom prst="rect">
                <a:avLst/>
              </a:prstGeom>
              <a:solidFill>
                <a:srgbClr val="b49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6721560" y="4038480"/>
                <a:ext cx="11520" cy="1185480"/>
              </a:xfrm>
              <a:prstGeom prst="rect">
                <a:avLst/>
              </a:prstGeom>
              <a:solidFill>
                <a:srgbClr val="937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6733440" y="4038480"/>
                <a:ext cx="23040" cy="1185480"/>
              </a:xfrm>
              <a:prstGeom prst="rect">
                <a:avLst/>
              </a:prstGeom>
              <a:solidFill>
                <a:srgbClr val="7d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6537240" y="4148280"/>
              <a:ext cx="239760" cy="107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0" name=""/>
            <p:cNvGrpSpPr/>
            <p:nvPr/>
          </p:nvGrpSpPr>
          <p:grpSpPr>
            <a:xfrm>
              <a:off x="7031160" y="3809880"/>
              <a:ext cx="218520" cy="1414080"/>
              <a:chOff x="7031160" y="3809880"/>
              <a:chExt cx="218520" cy="1414080"/>
            </a:xfrm>
          </p:grpSpPr>
          <p:sp>
            <p:nvSpPr>
              <p:cNvPr id="351" name=""/>
              <p:cNvSpPr/>
              <p:nvPr/>
            </p:nvSpPr>
            <p:spPr>
              <a:xfrm>
                <a:off x="7031160" y="3809880"/>
                <a:ext cx="11880" cy="1414080"/>
              </a:xfrm>
              <a:prstGeom prst="rect">
                <a:avLst/>
              </a:prstGeom>
              <a:solidFill>
                <a:srgbClr val="79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043040" y="3809880"/>
                <a:ext cx="22680" cy="1414080"/>
              </a:xfrm>
              <a:prstGeom prst="rect">
                <a:avLst/>
              </a:prstGeom>
              <a:solidFill>
                <a:srgbClr val="8c7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7066080" y="3809880"/>
                <a:ext cx="11880" cy="1414080"/>
              </a:xfrm>
              <a:prstGeom prst="rect">
                <a:avLst/>
              </a:prstGeom>
              <a:solidFill>
                <a:srgbClr val="ad8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7078320" y="3809880"/>
                <a:ext cx="24480" cy="1414080"/>
              </a:xfrm>
              <a:prstGeom prst="rect">
                <a:avLst/>
              </a:prstGeom>
              <a:solidFill>
                <a:srgbClr val="d2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7102800" y="3809880"/>
                <a:ext cx="11880" cy="1414080"/>
              </a:xfrm>
              <a:prstGeom prst="rect">
                <a:avLst/>
              </a:prstGeom>
              <a:solidFill>
                <a:srgbClr val="ed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7115040" y="3809880"/>
                <a:ext cx="24480" cy="1414080"/>
              </a:xfrm>
              <a:prstGeom prst="rect">
                <a:avLst/>
              </a:prstGeom>
              <a:solidFill>
                <a:srgbClr val="fb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7139880" y="3809880"/>
                <a:ext cx="11880" cy="1414080"/>
              </a:xfrm>
              <a:prstGeom prst="rect">
                <a:avLst/>
              </a:prstGeom>
              <a:solidFill>
                <a:srgbClr val="fd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151760" y="3809880"/>
                <a:ext cx="24480" cy="1414080"/>
              </a:xfrm>
              <a:prstGeom prst="rect">
                <a:avLst/>
              </a:prstGeom>
              <a:solidFill>
                <a:srgbClr val="f3c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7176600" y="3809880"/>
                <a:ext cx="11880" cy="1414080"/>
              </a:xfrm>
              <a:prstGeom prst="rect">
                <a:avLst/>
              </a:prstGeom>
              <a:solidFill>
                <a:srgbClr val="dcb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7188840" y="3809880"/>
                <a:ext cx="24120" cy="1414080"/>
              </a:xfrm>
              <a:prstGeom prst="rect">
                <a:avLst/>
              </a:prstGeom>
              <a:solidFill>
                <a:srgbClr val="ba9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7212960" y="3809880"/>
                <a:ext cx="12240" cy="1414080"/>
              </a:xfrm>
              <a:prstGeom prst="rect">
                <a:avLst/>
              </a:prstGeom>
              <a:solidFill>
                <a:srgbClr val="967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7225560" y="3809880"/>
                <a:ext cx="24120" cy="1414080"/>
              </a:xfrm>
              <a:prstGeom prst="rect">
                <a:avLst/>
              </a:prstGeom>
              <a:solidFill>
                <a:srgbClr val="7e6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3" name=""/>
            <p:cNvSpPr/>
            <p:nvPr/>
          </p:nvSpPr>
          <p:spPr>
            <a:xfrm>
              <a:off x="7031160" y="3906720"/>
              <a:ext cx="226800" cy="131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4" name=""/>
            <p:cNvGrpSpPr/>
            <p:nvPr/>
          </p:nvGrpSpPr>
          <p:grpSpPr>
            <a:xfrm>
              <a:off x="7510320" y="3200400"/>
              <a:ext cx="219240" cy="2023560"/>
              <a:chOff x="7510320" y="3200400"/>
              <a:chExt cx="219240" cy="2023560"/>
            </a:xfrm>
          </p:grpSpPr>
          <p:sp>
            <p:nvSpPr>
              <p:cNvPr id="365" name=""/>
              <p:cNvSpPr/>
              <p:nvPr/>
            </p:nvSpPr>
            <p:spPr>
              <a:xfrm>
                <a:off x="7510320" y="3200400"/>
                <a:ext cx="23040" cy="2023560"/>
              </a:xfrm>
              <a:prstGeom prst="rect">
                <a:avLst/>
              </a:prstGeom>
              <a:solidFill>
                <a:srgbClr val="7d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7533360" y="3200400"/>
                <a:ext cx="11520" cy="2023560"/>
              </a:xfrm>
              <a:prstGeom prst="rect">
                <a:avLst/>
              </a:prstGeom>
              <a:solidFill>
                <a:srgbClr val="937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7544880" y="3200400"/>
                <a:ext cx="23040" cy="2023560"/>
              </a:xfrm>
              <a:prstGeom prst="rect">
                <a:avLst/>
              </a:prstGeom>
              <a:solidFill>
                <a:srgbClr val="b49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7568280" y="3200400"/>
                <a:ext cx="11520" cy="2023560"/>
              </a:xfrm>
              <a:prstGeom prst="rect">
                <a:avLst/>
              </a:prstGeom>
              <a:solidFill>
                <a:srgbClr val="d7a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7579800" y="3200400"/>
                <a:ext cx="23040" cy="2023560"/>
              </a:xfrm>
              <a:prstGeom prst="rect">
                <a:avLst/>
              </a:prstGeom>
              <a:solidFill>
                <a:srgbClr val="ee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7603200" y="3200400"/>
                <a:ext cx="11520" cy="2023560"/>
              </a:xfrm>
              <a:prstGeom prst="rect">
                <a:avLst/>
              </a:prstGeom>
              <a:solidFill>
                <a:srgbClr val="fbc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7614720" y="3200400"/>
                <a:ext cx="23040" cy="2023560"/>
              </a:xfrm>
              <a:prstGeom prst="rect">
                <a:avLst/>
              </a:prstGeom>
              <a:solidFill>
                <a:srgbClr val="fd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7637760" y="3200400"/>
                <a:ext cx="23040" cy="2023560"/>
              </a:xfrm>
              <a:prstGeom prst="rect">
                <a:avLst/>
              </a:prstGeom>
              <a:solidFill>
                <a:srgbClr val="ee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661160" y="3200400"/>
                <a:ext cx="11520" cy="2023560"/>
              </a:xfrm>
              <a:prstGeom prst="rect">
                <a:avLst/>
              </a:prstGeom>
              <a:solidFill>
                <a:srgbClr val="d7a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7672680" y="3200400"/>
                <a:ext cx="21600" cy="2023560"/>
              </a:xfrm>
              <a:prstGeom prst="rect">
                <a:avLst/>
              </a:prstGeom>
              <a:solidFill>
                <a:srgbClr val="b49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7694640" y="3200400"/>
                <a:ext cx="11520" cy="2023560"/>
              </a:xfrm>
              <a:prstGeom prst="rect">
                <a:avLst/>
              </a:prstGeom>
              <a:solidFill>
                <a:srgbClr val="937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7706520" y="3200400"/>
                <a:ext cx="23040" cy="2023560"/>
              </a:xfrm>
              <a:prstGeom prst="rect">
                <a:avLst/>
              </a:prstGeom>
              <a:solidFill>
                <a:srgbClr val="7d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7" name=""/>
            <p:cNvSpPr/>
            <p:nvPr/>
          </p:nvSpPr>
          <p:spPr>
            <a:xfrm>
              <a:off x="7510320" y="3333600"/>
              <a:ext cx="239760" cy="18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8" name=""/>
            <p:cNvGrpSpPr/>
            <p:nvPr/>
          </p:nvGrpSpPr>
          <p:grpSpPr>
            <a:xfrm>
              <a:off x="8004240" y="3429000"/>
              <a:ext cx="218520" cy="1794960"/>
              <a:chOff x="8004240" y="3429000"/>
              <a:chExt cx="218520" cy="1794960"/>
            </a:xfrm>
          </p:grpSpPr>
          <p:sp>
            <p:nvSpPr>
              <p:cNvPr id="379" name=""/>
              <p:cNvSpPr/>
              <p:nvPr/>
            </p:nvSpPr>
            <p:spPr>
              <a:xfrm>
                <a:off x="8004240" y="3429000"/>
                <a:ext cx="11880" cy="1794960"/>
              </a:xfrm>
              <a:prstGeom prst="rect">
                <a:avLst/>
              </a:prstGeom>
              <a:solidFill>
                <a:srgbClr val="48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8016120" y="3429000"/>
                <a:ext cx="22680" cy="1794960"/>
              </a:xfrm>
              <a:prstGeom prst="rect">
                <a:avLst/>
              </a:prstGeom>
              <a:solidFill>
                <a:srgbClr val="547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8039160" y="3429000"/>
                <a:ext cx="12240" cy="1794960"/>
              </a:xfrm>
              <a:prstGeom prst="rect">
                <a:avLst/>
              </a:prstGeom>
              <a:solidFill>
                <a:srgbClr val="688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8051760" y="3429000"/>
                <a:ext cx="24120" cy="1794960"/>
              </a:xfrm>
              <a:prstGeom prst="rect">
                <a:avLst/>
              </a:prstGeom>
              <a:solidFill>
                <a:srgbClr val="7e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8075880" y="3429000"/>
                <a:ext cx="11880" cy="1794960"/>
              </a:xfrm>
              <a:prstGeom prst="rect">
                <a:avLst/>
              </a:prstGeom>
              <a:solidFill>
                <a:srgbClr val="8e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8088120" y="3429000"/>
                <a:ext cx="24480" cy="1794960"/>
              </a:xfrm>
              <a:prstGeom prst="rect">
                <a:avLst/>
              </a:prstGeom>
              <a:solidFill>
                <a:srgbClr val="96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8112960" y="3429000"/>
                <a:ext cx="11880" cy="1794960"/>
              </a:xfrm>
              <a:prstGeom prst="rect">
                <a:avLst/>
              </a:prstGeom>
              <a:solidFill>
                <a:srgbClr val="98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8124840" y="3429000"/>
                <a:ext cx="24480" cy="1794960"/>
              </a:xfrm>
              <a:prstGeom prst="rect">
                <a:avLst/>
              </a:prstGeom>
              <a:solidFill>
                <a:srgbClr val="92c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8149680" y="3429000"/>
                <a:ext cx="11880" cy="1794960"/>
              </a:xfrm>
              <a:prstGeom prst="rect">
                <a:avLst/>
              </a:prstGeom>
              <a:solidFill>
                <a:srgbClr val="84b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8161920" y="3429000"/>
                <a:ext cx="24480" cy="1794960"/>
              </a:xfrm>
              <a:prstGeom prst="rect">
                <a:avLst/>
              </a:prstGeom>
              <a:solidFill>
                <a:srgbClr val="6f9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8186400" y="3429000"/>
                <a:ext cx="11880" cy="1794960"/>
              </a:xfrm>
              <a:prstGeom prst="rect">
                <a:avLst/>
              </a:prstGeom>
              <a:solidFill>
                <a:srgbClr val="5a7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8198640" y="3429000"/>
                <a:ext cx="24120" cy="1794960"/>
              </a:xfrm>
              <a:prstGeom prst="rect">
                <a:avLst/>
              </a:prstGeom>
              <a:solidFill>
                <a:srgbClr val="4b6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1" name=""/>
            <p:cNvSpPr/>
            <p:nvPr/>
          </p:nvSpPr>
          <p:spPr>
            <a:xfrm>
              <a:off x="8004240" y="3529080"/>
              <a:ext cx="226800" cy="169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557360" y="2349360"/>
              <a:ext cx="1440" cy="287496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506600" y="5224320"/>
              <a:ext cx="50760" cy="180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506600" y="4811760"/>
              <a:ext cx="50760" cy="144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506600" y="4398840"/>
              <a:ext cx="50760" cy="180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506600" y="3987720"/>
              <a:ext cx="50760" cy="180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506600" y="3586320"/>
              <a:ext cx="50760" cy="144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506600" y="3173400"/>
              <a:ext cx="50760" cy="144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506600" y="2762280"/>
              <a:ext cx="50760" cy="144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506600" y="2349360"/>
              <a:ext cx="50760" cy="180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557360" y="5224320"/>
              <a:ext cx="6800760" cy="180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V="1">
              <a:off x="1557360" y="5223960"/>
              <a:ext cx="1440" cy="349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 flipV="1">
              <a:off x="2038320" y="5223960"/>
              <a:ext cx="1440" cy="349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V="1">
              <a:off x="2530440" y="5223960"/>
              <a:ext cx="1800" cy="349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V="1">
              <a:off x="3011400" y="5223960"/>
              <a:ext cx="1800" cy="349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V="1">
              <a:off x="3503520" y="5223960"/>
              <a:ext cx="1800" cy="349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flipV="1">
              <a:off x="3984480" y="5223960"/>
              <a:ext cx="1800" cy="349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flipV="1">
              <a:off x="4476600" y="5223960"/>
              <a:ext cx="1800" cy="349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V="1">
              <a:off x="4957920" y="5223960"/>
              <a:ext cx="1440" cy="349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V="1">
              <a:off x="5437080" y="5223960"/>
              <a:ext cx="1800" cy="349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V="1">
              <a:off x="5931000" y="5223960"/>
              <a:ext cx="1440" cy="349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V="1">
              <a:off x="6410160" y="5223960"/>
              <a:ext cx="1800" cy="349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V="1">
              <a:off x="6904080" y="5223960"/>
              <a:ext cx="1440" cy="349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7383600" y="5223960"/>
              <a:ext cx="1440" cy="349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V="1">
              <a:off x="7877160" y="5223960"/>
              <a:ext cx="1440" cy="349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V="1">
              <a:off x="8358120" y="5223960"/>
              <a:ext cx="1800" cy="349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324160" y="1547640"/>
              <a:ext cx="4440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Verdana"/>
                </a:rPr>
                <a:t>Penetración Telefónica por Región</a:t>
              </a:r>
              <a:r>
                <a:rPr b="1" lang="en-US" sz="2200" spc="-1" strike="noStrike">
                  <a:solidFill>
                    <a:srgbClr val="333399"/>
                  </a:solidFill>
                  <a:latin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408120" y="1879560"/>
              <a:ext cx="2250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Verdana"/>
                </a:rPr>
                <a:t>(Diciembre de 2000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70760" y="32767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20,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150280" y="31734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80"/>
                  </a:solidFill>
                  <a:latin typeface="Arial"/>
                </a:rPr>
                <a:t>22,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656800" y="39528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12,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136320" y="384984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13,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604320" y="311616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80"/>
                  </a:solidFill>
                  <a:latin typeface="Arial"/>
                </a:rPr>
                <a:t>23,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114080" y="243828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80"/>
                  </a:solidFill>
                  <a:latin typeface="Arial"/>
                </a:rPr>
                <a:t>31,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602960" y="39877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11,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107680" y="420516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10,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550840" y="384984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14,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031800" y="40212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11,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523920" y="386064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14,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043040" y="361008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17,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509600" y="30258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80"/>
                  </a:solidFill>
                  <a:latin typeface="Arial"/>
                </a:rPr>
                <a:t>25,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990920" y="321948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80"/>
                  </a:solidFill>
                  <a:latin typeface="Arial"/>
                </a:rPr>
                <a:t>22,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228680" y="513252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80"/>
                  </a:solidFill>
                  <a:latin typeface="Arial"/>
                </a:rPr>
                <a:t>0,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228680" y="471960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80"/>
                  </a:solidFill>
                  <a:latin typeface="Arial"/>
                </a:rPr>
                <a:t>5,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141560" y="430848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80"/>
                  </a:solidFill>
                  <a:latin typeface="Arial"/>
                </a:rPr>
                <a:t>10,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141560" y="389556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80"/>
                  </a:solidFill>
                  <a:latin typeface="Arial"/>
                </a:rPr>
                <a:t>15,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141560" y="349416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80"/>
                  </a:solidFill>
                  <a:latin typeface="Arial"/>
                </a:rPr>
                <a:t>20,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141560" y="308304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80"/>
                  </a:solidFill>
                  <a:latin typeface="Arial"/>
                </a:rPr>
                <a:t>25,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141560" y="26701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80"/>
                  </a:solidFill>
                  <a:latin typeface="Arial"/>
                </a:rPr>
                <a:t>30,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141560" y="225756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80"/>
                  </a:solidFill>
                  <a:latin typeface="Arial"/>
                </a:rPr>
                <a:t>35,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rot="16200000">
              <a:off x="1766520" y="52164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rot="16200000">
              <a:off x="2241000" y="52477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80"/>
                  </a:solidFill>
                  <a:latin typeface="Arial"/>
                </a:rPr>
                <a:t>I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rot="16200000">
              <a:off x="2704680" y="5230440"/>
              <a:ext cx="105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II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rot="16200000">
              <a:off x="3189960" y="5270400"/>
              <a:ext cx="119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IV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rot="16200000">
              <a:off x="3688200" y="528516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80"/>
                  </a:solidFill>
                  <a:latin typeface="Arial"/>
                </a:rPr>
                <a:t>V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rot="16200000">
              <a:off x="4111560" y="5307480"/>
              <a:ext cx="197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80"/>
                  </a:solidFill>
                  <a:latin typeface="Arial"/>
                </a:rPr>
                <a:t>R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rot="16200000">
              <a:off x="4644000" y="5270400"/>
              <a:ext cx="119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V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rot="16200000">
              <a:off x="5105880" y="5272920"/>
              <a:ext cx="15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VI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rot="16200000">
              <a:off x="5582160" y="5277600"/>
              <a:ext cx="189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VII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rot="16200000">
              <a:off x="6096600" y="5259240"/>
              <a:ext cx="119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I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rot="16200000">
              <a:off x="6607800" y="524808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rot="16200000">
              <a:off x="7069680" y="5259240"/>
              <a:ext cx="119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X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rot="16200000">
              <a:off x="7533360" y="5283360"/>
              <a:ext cx="15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80"/>
                  </a:solidFill>
                  <a:latin typeface="Arial"/>
                </a:rPr>
                <a:t>XI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rot="16200000">
              <a:off x="7727400" y="5546880"/>
              <a:ext cx="753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80"/>
                  </a:solidFill>
                  <a:latin typeface="Arial"/>
                </a:rPr>
                <a:t>TOTAL PAÍ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52920" y="5626080"/>
              <a:ext cx="517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80"/>
                  </a:solidFill>
                  <a:latin typeface="Arial"/>
                </a:rPr>
                <a:t>Reg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 rot="16200000">
              <a:off x="-241560" y="3679560"/>
              <a:ext cx="2311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80"/>
                  </a:solidFill>
                  <a:latin typeface="Arial"/>
                </a:rPr>
                <a:t>Nº Líneas en Servicio / 100 Hab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73200" y="1352520"/>
              <a:ext cx="8089920" cy="51325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125800" y="5773680"/>
              <a:ext cx="3058920" cy="53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232000" y="5808600"/>
              <a:ext cx="1158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80"/>
                  </a:solidFill>
                  <a:latin typeface="Verdana"/>
                </a:rPr>
                <a:t>Fuente:  SUBT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523880" y="3429000"/>
              <a:ext cx="693432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/>
          <p:nvPr/>
        </p:nvSpPr>
        <p:spPr>
          <a:xfrm>
            <a:off x="1523880" y="762120"/>
            <a:ext cx="60962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3399"/>
                </a:solidFill>
                <a:uFillTx/>
                <a:latin typeface="Verdana"/>
              </a:rPr>
              <a:t>TELEFONÍA  FIJA - Centrales Telefón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2" name="Chile" descr=""/>
          <p:cNvPicPr/>
          <p:nvPr/>
        </p:nvPicPr>
        <p:blipFill>
          <a:blip r:embed="rId1"/>
          <a:stretch/>
        </p:blipFill>
        <p:spPr>
          <a:xfrm>
            <a:off x="1600200" y="1143000"/>
            <a:ext cx="7062840" cy="5438880"/>
          </a:xfrm>
          <a:prstGeom prst="rect">
            <a:avLst/>
          </a:prstGeom>
          <a:ln w="0">
            <a:noFill/>
          </a:ln>
        </p:spPr>
      </p:pic>
      <p:sp>
        <p:nvSpPr>
          <p:cNvPr id="463" name=""/>
          <p:cNvSpPr/>
          <p:nvPr/>
        </p:nvSpPr>
        <p:spPr>
          <a:xfrm>
            <a:off x="0" y="2057400"/>
            <a:ext cx="1676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1" lang="es-ES_tradnl" sz="1200" spc="-1" strike="noStrike" baseline="30000">
                <a:solidFill>
                  <a:srgbClr val="000000"/>
                </a:solidFill>
                <a:latin typeface="Verdana"/>
              </a:rPr>
              <a:t>a </a:t>
            </a: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Región: 14 CT (2.3%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228600" y="2666880"/>
            <a:ext cx="1752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II</a:t>
            </a:r>
            <a:r>
              <a:rPr b="1" lang="es-ES_tradnl" sz="1200" spc="-1" strike="noStrike" baseline="30000">
                <a:solidFill>
                  <a:srgbClr val="000000"/>
                </a:solidFill>
                <a:latin typeface="Verdana"/>
              </a:rPr>
              <a:t>a </a:t>
            </a: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Región: 15 CT (2.5%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990720" y="3886200"/>
            <a:ext cx="182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IV</a:t>
            </a:r>
            <a:r>
              <a:rPr b="1" lang="es-ES_tradnl" sz="1200" spc="-1" strike="noStrike" baseline="30000">
                <a:solidFill>
                  <a:srgbClr val="000000"/>
                </a:solidFill>
                <a:latin typeface="Verdana"/>
              </a:rPr>
              <a:t>a </a:t>
            </a: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Región: 36 CT (6.0%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33520" y="443556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1" lang="en-US" sz="1600" spc="-1" strike="noStrike" baseline="30000">
                <a:solidFill>
                  <a:srgbClr val="000000"/>
                </a:solidFill>
                <a:latin typeface="Verdana"/>
              </a:rPr>
              <a:t>a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Región: 87 CT (14.5%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209680" y="5791320"/>
            <a:ext cx="19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VI</a:t>
            </a:r>
            <a:r>
              <a:rPr b="1" lang="es-ES_tradnl" sz="1200" spc="-1" strike="noStrike" baseline="30000">
                <a:solidFill>
                  <a:srgbClr val="000000"/>
                </a:solidFill>
                <a:latin typeface="Verdana"/>
              </a:rPr>
              <a:t>a </a:t>
            </a: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Región: 48 (8.0%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876920" y="1143000"/>
            <a:ext cx="204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VII</a:t>
            </a:r>
            <a:r>
              <a:rPr b="1" lang="es-ES_tradnl" sz="1200" spc="-1" strike="noStrike" baseline="30000">
                <a:solidFill>
                  <a:srgbClr val="000000"/>
                </a:solidFill>
                <a:latin typeface="Verdana"/>
              </a:rPr>
              <a:t>a </a:t>
            </a: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Región: 49 CT (8.2%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801400" y="1704960"/>
            <a:ext cx="1997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VIII</a:t>
            </a:r>
            <a:r>
              <a:rPr b="1" lang="es-ES_tradnl" sz="1600" spc="-1" strike="noStrike" baseline="30000">
                <a:solidFill>
                  <a:srgbClr val="000000"/>
                </a:solidFill>
                <a:latin typeface="Verdana"/>
              </a:rPr>
              <a:t>a </a:t>
            </a: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Región: 83 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(13.8%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988600" y="2438280"/>
            <a:ext cx="1430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IX</a:t>
            </a:r>
            <a:r>
              <a:rPr b="1" lang="es-ES_tradnl" sz="1200" spc="-1" strike="noStrike" baseline="30000">
                <a:solidFill>
                  <a:srgbClr val="000000"/>
                </a:solidFill>
                <a:latin typeface="Verdana"/>
              </a:rPr>
              <a:t>a </a:t>
            </a: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Región: 54 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(9.0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480360" y="3048120"/>
            <a:ext cx="1371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s-ES_tradnl" sz="1200" spc="-1" strike="noStrike" baseline="30000">
                <a:solidFill>
                  <a:srgbClr val="000000"/>
                </a:solidFill>
                <a:latin typeface="Verdana"/>
              </a:rPr>
              <a:t>a </a:t>
            </a: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Región: 23 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(3.8%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919200" y="3733920"/>
            <a:ext cx="1343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XI</a:t>
            </a:r>
            <a:r>
              <a:rPr b="1" lang="es-ES_tradnl" sz="1200" spc="-1" strike="noStrike" baseline="30000">
                <a:solidFill>
                  <a:srgbClr val="000000"/>
                </a:solidFill>
                <a:latin typeface="Verdana"/>
              </a:rPr>
              <a:t>a </a:t>
            </a: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Región: 4 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(0.7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7371720" y="4343400"/>
            <a:ext cx="149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XII</a:t>
            </a:r>
            <a:r>
              <a:rPr b="1" lang="es-ES_tradnl" sz="1200" spc="-1" strike="noStrike" baseline="30000">
                <a:solidFill>
                  <a:srgbClr val="000000"/>
                </a:solidFill>
                <a:latin typeface="Verdana"/>
              </a:rPr>
              <a:t>a </a:t>
            </a: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Región: 12 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(2.0%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13080" y="5054760"/>
            <a:ext cx="274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gión Metropolitan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64 CT (27.3%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09480" y="3276720"/>
            <a:ext cx="182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III</a:t>
            </a:r>
            <a:r>
              <a:rPr b="1" lang="es-ES_tradnl" sz="1200" spc="-1" strike="noStrike" baseline="30000">
                <a:solidFill>
                  <a:srgbClr val="000000"/>
                </a:solidFill>
                <a:latin typeface="Verdana"/>
              </a:rPr>
              <a:t>a </a:t>
            </a: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Región: 12 CT (2.0%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flipH="1">
            <a:off x="1676520" y="1828800"/>
            <a:ext cx="761760" cy="457200"/>
          </a:xfrm>
          <a:prstGeom prst="line">
            <a:avLst/>
          </a:prstGeom>
          <a:ln w="28440">
            <a:solidFill>
              <a:srgbClr val="339933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flipH="1">
            <a:off x="1981080" y="2286000"/>
            <a:ext cx="1067040" cy="609480"/>
          </a:xfrm>
          <a:prstGeom prst="line">
            <a:avLst/>
          </a:prstGeom>
          <a:ln w="28440">
            <a:solidFill>
              <a:srgbClr val="339933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flipH="1">
            <a:off x="2438280" y="2819520"/>
            <a:ext cx="1067040" cy="685800"/>
          </a:xfrm>
          <a:prstGeom prst="line">
            <a:avLst/>
          </a:prstGeom>
          <a:ln w="28440">
            <a:solidFill>
              <a:srgbClr val="339933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H="1">
            <a:off x="3048120" y="3581280"/>
            <a:ext cx="1218960" cy="990720"/>
          </a:xfrm>
          <a:prstGeom prst="line">
            <a:avLst/>
          </a:prstGeom>
          <a:ln w="28440">
            <a:solidFill>
              <a:srgbClr val="339933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flipH="1">
            <a:off x="3505320" y="3581280"/>
            <a:ext cx="914400" cy="1676520"/>
          </a:xfrm>
          <a:prstGeom prst="line">
            <a:avLst/>
          </a:prstGeom>
          <a:ln w="38160">
            <a:solidFill>
              <a:srgbClr val="3399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 flipH="1">
            <a:off x="2819160" y="3352680"/>
            <a:ext cx="1143000" cy="762120"/>
          </a:xfrm>
          <a:prstGeom prst="line">
            <a:avLst/>
          </a:prstGeom>
          <a:ln w="28440">
            <a:solidFill>
              <a:srgbClr val="339933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 flipH="1">
            <a:off x="3885840" y="3733920"/>
            <a:ext cx="609480" cy="2057400"/>
          </a:xfrm>
          <a:prstGeom prst="line">
            <a:avLst/>
          </a:prstGeom>
          <a:ln w="28440">
            <a:solidFill>
              <a:srgbClr val="339933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flipH="1">
            <a:off x="4800600" y="1600200"/>
            <a:ext cx="457200" cy="2209680"/>
          </a:xfrm>
          <a:prstGeom prst="line">
            <a:avLst/>
          </a:prstGeom>
          <a:ln w="28440">
            <a:solidFill>
              <a:srgbClr val="339933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 flipH="1">
            <a:off x="4952520" y="2209680"/>
            <a:ext cx="685800" cy="1905120"/>
          </a:xfrm>
          <a:prstGeom prst="line">
            <a:avLst/>
          </a:prstGeom>
          <a:ln w="28440">
            <a:solidFill>
              <a:srgbClr val="339933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5181120" y="2895480"/>
            <a:ext cx="762120" cy="1371600"/>
          </a:xfrm>
          <a:prstGeom prst="line">
            <a:avLst/>
          </a:prstGeom>
          <a:ln w="28440">
            <a:solidFill>
              <a:srgbClr val="339933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flipH="1">
            <a:off x="5486400" y="3352680"/>
            <a:ext cx="914400" cy="1219320"/>
          </a:xfrm>
          <a:prstGeom prst="line">
            <a:avLst/>
          </a:prstGeom>
          <a:ln w="28440">
            <a:solidFill>
              <a:srgbClr val="339933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flipH="1">
            <a:off x="6248520" y="4191120"/>
            <a:ext cx="761760" cy="990360"/>
          </a:xfrm>
          <a:prstGeom prst="line">
            <a:avLst/>
          </a:prstGeom>
          <a:ln w="28440">
            <a:solidFill>
              <a:srgbClr val="339933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7543800" y="4800600"/>
            <a:ext cx="1440" cy="1143000"/>
          </a:xfrm>
          <a:prstGeom prst="line">
            <a:avLst/>
          </a:prstGeom>
          <a:ln w="28440">
            <a:solidFill>
              <a:srgbClr val="339933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92480" y="152280"/>
            <a:ext cx="2623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99"/>
                </a:solidFill>
                <a:uFillTx/>
                <a:latin typeface="Verdana"/>
              </a:rPr>
              <a:t>Medios de Acce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755280" y="6308640"/>
            <a:ext cx="449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Verdana"/>
              </a:rPr>
              <a:t>TOTAL = 601 Centrales Telefón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1" name="Logo%20SUBTEL" descr=""/>
          <p:cNvPicPr/>
          <p:nvPr/>
        </p:nvPicPr>
        <p:blipFill>
          <a:blip r:embed="rId2"/>
          <a:stretch/>
        </p:blipFill>
        <p:spPr>
          <a:xfrm>
            <a:off x="7924680" y="152280"/>
            <a:ext cx="1067040" cy="10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10T18:56:22Z</dcterms:created>
  <dc:creator>evega</dc:creator>
  <dc:description/>
  <dc:language>en-US</dc:language>
  <cp:lastModifiedBy>Fabiola Diaz</cp:lastModifiedBy>
  <cp:lastPrinted>2001-10-11T01:35:12Z</cp:lastPrinted>
  <dcterms:modified xsi:type="dcterms:W3CDTF">2001-10-16T03:55:23Z</dcterms:modified>
  <cp:revision>239</cp:revision>
  <dc:subject/>
  <dc:title>Sin título de diapositiva</dc:title>
</cp:coreProperties>
</file>