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0F5-30D7-46B9-B183-23DF9140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947-A161-4636-A06B-DBFAC0B4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534-7935-4A06-A63E-21964B93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313-6402-47B6-AC4B-9B8241A4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02CA-F59B-4CBE-A357-1339F28D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15CF-F0E6-4EB5-A71E-CE03C787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B4D1-0498-4135-A1C1-A6315346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E6F7-E7E6-4FB3-B49D-34808D91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83B2-9DB8-4FCF-987B-1B02D980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76C8-CC14-443D-A833-B917423D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FDF3-E740-4D50-97E2-0E081F6B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C51-31FE-4366-B76B-150C372C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14B3-387D-43D2-AD2B-E90CD6D6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8201-6542-42A2-AA97-F69E97A9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B92D-4C46-4B78-89BB-A5B75436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0793-8B74-44AD-B3EF-AECC74E0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B30A-D354-492D-BEA1-1169D40E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0A0-5992-4519-A646-E0CFD065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062-D08B-410A-B306-B6107724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56B4-9AE9-4E6D-A4E4-39FCC5B1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908-CEDB-4A50-B213-280B3262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F65-6174-4F96-BEEA-0EC582FC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CAE-36A9-49F2-9286-586AFDAC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49B-111D-4B41-891B-AF206316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84D0-11A2-4138-A7C6-4DA9A799E075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32D2-D65D-4179-8907-6BFAA6705E5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C86A-11E5-4A42-8DEA-927E478A9FCE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6480-2957-40A7-92D0-EC960D48E43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6DFD-2C69-4F19-9A95-C725E099AA6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F1A4DD4-735E-4F88-9B5A-EDEC20F422ED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591-B75E-4988-BEA1-B9F2DAD90AE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D768D-1C3E-466E-A8A1-BE86082CAA96}" type="datetime1">
              <a:rPr lang="en-US"/>
              <a:t>07/31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3AD-D16D-49DD-87D0-22539D35406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41303-7B87-45FF-8C5A-B034CAF48E19}" type="datetime1">
              <a:rPr lang="en-US"/>
              <a:t>07/31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167-6085-4A78-BF1D-5A389BBF65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06A60-116F-4DB5-964E-5380004C1AB0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7E7-FBCA-4BBF-A7D4-4248D4234BE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DD73A-BB03-4AC0-A5D0-B8324C8BDB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147C-63C1-44B1-9360-1F7E80F29CF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2C177B0-B06C-4B49-8A4B-8F8C3593EFEF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438-87EB-4715-AF60-6440ECEFC9D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8A76E-EF9D-48A0-86B7-C93ED9F376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197-93ED-442E-A862-34669B5CFE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0F95C-72BE-4930-84D2-A09C06065F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8A2-25D0-4D63-89B1-72870DDC2CB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46E13-06A5-4F0A-8BB5-E0562B228514}" type="datetime1">
              <a:rPr lang="en-US"/>
              <a:t>07/31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8A9-D766-41CB-9496-400EC90C0BF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433C7-B0C8-45C7-B4D4-A8FB58C49DB5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E3B-0E54-4AA8-AD92-CC61038038F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E139F-393D-4BB9-BD86-4EB860919B00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0234-8B30-4743-BC43-2079197090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ECB7B-0935-46D3-97E2-CED3632618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8B6-1937-45AE-A42D-1536FB86C0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E46B8-5AB7-4590-8AA9-491A384FAA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0EF-DC8D-4BEE-BF54-D0F13956E5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20687-D6F5-4EE1-970C-C233ED822D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FF3-E539-4C36-B6A7-83541455512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6A5F5-F1C3-4ED7-B3F8-126552BEC56C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BDC-6C8B-4E36-AF7A-11B7F759A6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42D70-5840-43FF-95AB-A81BFDE0F00D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AF5-18FD-4C52-A6B8-71A7F3D8F7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3E194-D763-4A6B-AEA7-F8E25FC3A58E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1F9-99AF-4C84-8B7D-93F18694E38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397E7-3325-4061-AE70-FF5358B720CA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0537-D6BE-493D-9D9E-45132D1D9A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DC87C-22E3-4A09-8423-60ECF95F33BF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