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8DAB-2C1D-42E4-9BEA-E6844FEDAB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56251-F662-4288-9F1E-313D3723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C4AB-8949-4B60-A3AA-B697D10D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F0C7A-FC64-4498-9421-A020B294F5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407C4-3F08-416E-9B9E-ED7FA0E8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24988-1DEA-4FE6-8541-06CAD787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85D7C-B4EF-41F9-81AD-783CD429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012F6-AC56-4FFB-BAE1-F371AB3F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653FF-CE54-422B-8F68-F3B842B9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6F184-8399-4A50-88A3-E24BBF62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D217E-05BB-44E4-ABCB-7BFB3D53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6F831-29D7-4AC9-AA36-C4845F10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C9DF1-8B90-41DA-B9FB-2649193D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E7469-1F08-4E10-A298-F6BB97F2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72EEC-F800-4F65-BA0D-12D241DC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6A74B-685B-4CEA-B4BF-5D8471F7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4AB17-BB83-4944-942B-C4CD9BE0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8409F-B00A-4213-8D53-677C8D5F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229D-5CCF-4DF5-8F38-2DCF8DC2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7F48-2C29-44DF-A732-3547CDA9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4D12C-DD19-4190-B63F-5DAD88EC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A425B-D61A-40B8-A00F-FEB2BB6C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A3CCB-5C2D-4A34-9CFD-F157D713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9D4FA-A032-4F41-AB8D-16FD1FF4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C56C-8145-40B7-B270-623A03D90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D8B7-EE31-421E-B6D7-D151EE209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eckmark" descr=""/>
          <p:cNvPicPr/>
          <p:nvPr/>
        </p:nvPicPr>
        <p:blipFill>
          <a:blip r:embed="rId2"/>
          <a:stretch/>
        </p:blipFill>
        <p:spPr>
          <a:xfrm>
            <a:off x="457200" y="355608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86" name="kite%20for%20ppt" descr=""/>
          <p:cNvPicPr/>
          <p:nvPr/>
        </p:nvPicPr>
        <p:blipFill>
          <a:blip r:embed="rId3"/>
          <a:stretch/>
        </p:blipFill>
        <p:spPr>
          <a:xfrm>
            <a:off x="5334120" y="93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6394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q Business Partner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Program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Paraguay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7489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ining &amp; Certification Requiremen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lange Gué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duc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FL00259_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1827360" cy="118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646" name=""/>
          <p:cNvGraphicFramePr/>
          <p:nvPr/>
        </p:nvGraphicFramePr>
        <p:xfrm>
          <a:off x="76320" y="2286000"/>
          <a:ext cx="7848360" cy="4387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7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924680" y="41911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51814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24680" y="3809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6095880" y="24382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28600" y="28195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8600" y="4267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" y="56386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095880" y="39625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095880" y="53341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0" y="1219320"/>
            <a:ext cx="8169120" cy="1022400"/>
            <a:chOff x="0" y="1219320"/>
            <a:chExt cx="8169120" cy="1022400"/>
          </a:xfrm>
        </p:grpSpPr>
        <p:grpSp>
          <p:nvGrpSpPr>
            <p:cNvPr id="1660" name=""/>
            <p:cNvGrpSpPr/>
            <p:nvPr/>
          </p:nvGrpSpPr>
          <p:grpSpPr>
            <a:xfrm>
              <a:off x="47520" y="1219320"/>
              <a:ext cx="1798920" cy="991800"/>
              <a:chOff x="47520" y="1219320"/>
              <a:chExt cx="1798920" cy="991800"/>
            </a:xfrm>
          </p:grpSpPr>
          <p:sp>
            <p:nvSpPr>
              <p:cNvPr id="1661" name=""/>
              <p:cNvSpPr/>
              <p:nvPr/>
            </p:nvSpPr>
            <p:spPr>
              <a:xfrm>
                <a:off x="47520" y="129240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685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45240" y="132156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45240" y="126324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5240" y="121932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3072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06320" y="132156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6320" y="126324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06320" y="121932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9921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06740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740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7400" y="121932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35360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42884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42884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28840" y="121932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572480" y="129600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7520" y="164520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31040" y="153432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06280" y="150732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06280" y="144900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06280" y="140472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9212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6772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772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7720" y="140472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5356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92880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2880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28800" y="140472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21464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91320" y="150732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291320" y="144900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291320" y="140472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6" name=""/>
            <p:cNvGrpSpPr/>
            <p:nvPr/>
          </p:nvGrpSpPr>
          <p:grpSpPr>
            <a:xfrm>
              <a:off x="1538280" y="1228680"/>
              <a:ext cx="1905120" cy="981000"/>
              <a:chOff x="1538280" y="1228680"/>
              <a:chExt cx="1905120" cy="981000"/>
            </a:xfrm>
          </p:grpSpPr>
          <p:sp>
            <p:nvSpPr>
              <p:cNvPr id="1697" name=""/>
              <p:cNvSpPr/>
              <p:nvPr/>
            </p:nvSpPr>
            <p:spPr>
              <a:xfrm>
                <a:off x="1538280" y="130104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7726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85364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85364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53640" y="122868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1560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23596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596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5960" y="122868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53872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618640" y="13294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18640" y="127224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18640" y="122868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92140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001320" y="132948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001320" y="127224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01320" y="122868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149280" y="130608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538280" y="164916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626840" y="153900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706760" y="151272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706760" y="145512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06760" y="141156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00952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89440" y="151272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089440" y="145512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089440" y="141156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9184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471760" y="151272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71760" y="14551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71760" y="141156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77416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855160" y="151272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855160" y="145512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55160" y="141156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3152880" y="1219320"/>
              <a:ext cx="1990800" cy="988920"/>
              <a:chOff x="3152880" y="1219320"/>
              <a:chExt cx="1990800" cy="988920"/>
            </a:xfrm>
          </p:grpSpPr>
          <p:sp>
            <p:nvSpPr>
              <p:cNvPr id="1733" name=""/>
              <p:cNvSpPr/>
              <p:nvPr/>
            </p:nvSpPr>
            <p:spPr>
              <a:xfrm>
                <a:off x="3152880" y="129204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4" name=""/>
              <p:cNvGrpSpPr/>
              <p:nvPr/>
            </p:nvGrpSpPr>
            <p:grpSpPr>
              <a:xfrm>
                <a:off x="3398400" y="1219320"/>
                <a:ext cx="351360" cy="212760"/>
                <a:chOff x="3398400" y="1219320"/>
                <a:chExt cx="351360" cy="212760"/>
              </a:xfrm>
            </p:grpSpPr>
            <p:sp>
              <p:nvSpPr>
                <p:cNvPr id="1735" name=""/>
                <p:cNvSpPr/>
                <p:nvPr/>
              </p:nvSpPr>
              <p:spPr>
                <a:xfrm>
                  <a:off x="3398400" y="134820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6" name=""/>
                <p:cNvGrpSpPr/>
                <p:nvPr/>
              </p:nvGrpSpPr>
              <p:grpSpPr>
                <a:xfrm>
                  <a:off x="3482280" y="1219320"/>
                  <a:ext cx="263880" cy="196200"/>
                  <a:chOff x="3482280" y="1219320"/>
                  <a:chExt cx="263880" cy="196200"/>
                </a:xfrm>
              </p:grpSpPr>
              <p:sp>
                <p:nvSpPr>
                  <p:cNvPr id="1737" name=""/>
                  <p:cNvSpPr/>
                  <p:nvPr/>
                </p:nvSpPr>
                <p:spPr>
                  <a:xfrm>
                    <a:off x="3482280" y="132084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3482280" y="126288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82280" y="121932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0" name=""/>
              <p:cNvGrpSpPr/>
              <p:nvPr/>
            </p:nvGrpSpPr>
            <p:grpSpPr>
              <a:xfrm>
                <a:off x="3798360" y="1219320"/>
                <a:ext cx="351720" cy="212760"/>
                <a:chOff x="3798360" y="1219320"/>
                <a:chExt cx="351720" cy="21276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379836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2" name=""/>
                <p:cNvGrpSpPr/>
                <p:nvPr/>
              </p:nvGrpSpPr>
              <p:grpSpPr>
                <a:xfrm>
                  <a:off x="3882240" y="1219320"/>
                  <a:ext cx="264240" cy="196200"/>
                  <a:chOff x="3882240" y="1219320"/>
                  <a:chExt cx="264240" cy="19620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>
                    <a:off x="388224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88224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88224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6" name=""/>
              <p:cNvGrpSpPr/>
              <p:nvPr/>
            </p:nvGrpSpPr>
            <p:grpSpPr>
              <a:xfrm>
                <a:off x="4198320" y="1219320"/>
                <a:ext cx="351720" cy="212760"/>
                <a:chOff x="4198320" y="1219320"/>
                <a:chExt cx="351720" cy="21276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419832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8" name=""/>
                <p:cNvGrpSpPr/>
                <p:nvPr/>
              </p:nvGrpSpPr>
              <p:grpSpPr>
                <a:xfrm>
                  <a:off x="4282200" y="1219320"/>
                  <a:ext cx="264240" cy="196200"/>
                  <a:chOff x="4282200" y="1219320"/>
                  <a:chExt cx="264240" cy="196200"/>
                </a:xfrm>
              </p:grpSpPr>
              <p:sp>
                <p:nvSpPr>
                  <p:cNvPr id="1749" name=""/>
                  <p:cNvSpPr/>
                  <p:nvPr/>
                </p:nvSpPr>
                <p:spPr>
                  <a:xfrm>
                    <a:off x="428220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428220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28220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2" name=""/>
              <p:cNvGrpSpPr/>
              <p:nvPr/>
            </p:nvGrpSpPr>
            <p:grpSpPr>
              <a:xfrm>
                <a:off x="4598280" y="1219320"/>
                <a:ext cx="351720" cy="212760"/>
                <a:chOff x="4598280" y="1219320"/>
                <a:chExt cx="351720" cy="21276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459828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4" name=""/>
                <p:cNvGrpSpPr/>
                <p:nvPr/>
              </p:nvGrpSpPr>
              <p:grpSpPr>
                <a:xfrm>
                  <a:off x="4682160" y="1219320"/>
                  <a:ext cx="264240" cy="196200"/>
                  <a:chOff x="4682160" y="1219320"/>
                  <a:chExt cx="264240" cy="19620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>
                    <a:off x="468216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468216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68216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58" name=""/>
              <p:cNvSpPr/>
              <p:nvPr/>
            </p:nvSpPr>
            <p:spPr>
              <a:xfrm>
                <a:off x="4836600" y="129708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152880" y="164268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0" name=""/>
              <p:cNvGrpSpPr/>
              <p:nvPr/>
            </p:nvGrpSpPr>
            <p:grpSpPr>
              <a:xfrm>
                <a:off x="3244680" y="1404000"/>
                <a:ext cx="351720" cy="212760"/>
                <a:chOff x="3244680" y="1404000"/>
                <a:chExt cx="351720" cy="212760"/>
              </a:xfrm>
            </p:grpSpPr>
            <p:sp>
              <p:nvSpPr>
                <p:cNvPr id="1761" name=""/>
                <p:cNvSpPr/>
                <p:nvPr/>
              </p:nvSpPr>
              <p:spPr>
                <a:xfrm>
                  <a:off x="324468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2" name=""/>
                <p:cNvGrpSpPr/>
                <p:nvPr/>
              </p:nvGrpSpPr>
              <p:grpSpPr>
                <a:xfrm>
                  <a:off x="3328560" y="1404000"/>
                  <a:ext cx="264240" cy="196200"/>
                  <a:chOff x="3328560" y="1404000"/>
                  <a:chExt cx="264240" cy="196200"/>
                </a:xfrm>
              </p:grpSpPr>
              <p:sp>
                <p:nvSpPr>
                  <p:cNvPr id="1763" name=""/>
                  <p:cNvSpPr/>
                  <p:nvPr/>
                </p:nvSpPr>
                <p:spPr>
                  <a:xfrm>
                    <a:off x="332856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332856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32856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6" name=""/>
              <p:cNvGrpSpPr/>
              <p:nvPr/>
            </p:nvGrpSpPr>
            <p:grpSpPr>
              <a:xfrm>
                <a:off x="3644640" y="1404000"/>
                <a:ext cx="351720" cy="212760"/>
                <a:chOff x="3644640" y="1404000"/>
                <a:chExt cx="351720" cy="212760"/>
              </a:xfrm>
            </p:grpSpPr>
            <p:sp>
              <p:nvSpPr>
                <p:cNvPr id="1767" name=""/>
                <p:cNvSpPr/>
                <p:nvPr/>
              </p:nvSpPr>
              <p:spPr>
                <a:xfrm>
                  <a:off x="364464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8" name=""/>
                <p:cNvGrpSpPr/>
                <p:nvPr/>
              </p:nvGrpSpPr>
              <p:grpSpPr>
                <a:xfrm>
                  <a:off x="3728520" y="1404000"/>
                  <a:ext cx="264240" cy="196200"/>
                  <a:chOff x="3728520" y="1404000"/>
                  <a:chExt cx="264240" cy="196200"/>
                </a:xfrm>
              </p:grpSpPr>
              <p:sp>
                <p:nvSpPr>
                  <p:cNvPr id="1769" name=""/>
                  <p:cNvSpPr/>
                  <p:nvPr/>
                </p:nvSpPr>
                <p:spPr>
                  <a:xfrm>
                    <a:off x="372852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372852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72852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2" name=""/>
              <p:cNvGrpSpPr/>
              <p:nvPr/>
            </p:nvGrpSpPr>
            <p:grpSpPr>
              <a:xfrm>
                <a:off x="4044600" y="1404000"/>
                <a:ext cx="351720" cy="212760"/>
                <a:chOff x="4044600" y="1404000"/>
                <a:chExt cx="351720" cy="212760"/>
              </a:xfrm>
            </p:grpSpPr>
            <p:sp>
              <p:nvSpPr>
                <p:cNvPr id="1773" name=""/>
                <p:cNvSpPr/>
                <p:nvPr/>
              </p:nvSpPr>
              <p:spPr>
                <a:xfrm>
                  <a:off x="404460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4" name=""/>
                <p:cNvGrpSpPr/>
                <p:nvPr/>
              </p:nvGrpSpPr>
              <p:grpSpPr>
                <a:xfrm>
                  <a:off x="4128480" y="1404000"/>
                  <a:ext cx="264240" cy="196200"/>
                  <a:chOff x="4128480" y="1404000"/>
                  <a:chExt cx="264240" cy="196200"/>
                </a:xfrm>
              </p:grpSpPr>
              <p:sp>
                <p:nvSpPr>
                  <p:cNvPr id="1775" name=""/>
                  <p:cNvSpPr/>
                  <p:nvPr/>
                </p:nvSpPr>
                <p:spPr>
                  <a:xfrm>
                    <a:off x="412848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412848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412848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8" name=""/>
              <p:cNvGrpSpPr/>
              <p:nvPr/>
            </p:nvGrpSpPr>
            <p:grpSpPr>
              <a:xfrm>
                <a:off x="4444920" y="1404000"/>
                <a:ext cx="351720" cy="212760"/>
                <a:chOff x="4444920" y="1404000"/>
                <a:chExt cx="351720" cy="2127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444492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0" name=""/>
                <p:cNvGrpSpPr/>
                <p:nvPr/>
              </p:nvGrpSpPr>
              <p:grpSpPr>
                <a:xfrm>
                  <a:off x="4528800" y="1404000"/>
                  <a:ext cx="264240" cy="196200"/>
                  <a:chOff x="4528800" y="1404000"/>
                  <a:chExt cx="264240" cy="196200"/>
                </a:xfrm>
              </p:grpSpPr>
              <p:sp>
                <p:nvSpPr>
                  <p:cNvPr id="1781" name=""/>
                  <p:cNvSpPr/>
                  <p:nvPr/>
                </p:nvSpPr>
                <p:spPr>
                  <a:xfrm>
                    <a:off x="452880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452880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452880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4" name=""/>
            <p:cNvGrpSpPr/>
            <p:nvPr/>
          </p:nvGrpSpPr>
          <p:grpSpPr>
            <a:xfrm>
              <a:off x="4800600" y="1230480"/>
              <a:ext cx="1914480" cy="981000"/>
              <a:chOff x="4800600" y="1230480"/>
              <a:chExt cx="1914480" cy="981000"/>
            </a:xfrm>
          </p:grpSpPr>
          <p:sp>
            <p:nvSpPr>
              <p:cNvPr id="1785" name=""/>
              <p:cNvSpPr/>
              <p:nvPr/>
            </p:nvSpPr>
            <p:spPr>
              <a:xfrm>
                <a:off x="4800600" y="130248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03604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11740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1740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17400" y="123048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42160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0188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0188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01880" y="123048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80608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8636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8636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86360" y="123048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19056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7084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7084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270840" y="123048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19520" y="130788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800600" y="165060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889520" y="154080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96980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6980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969800" y="141336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2740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35428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5428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354280" y="141336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65812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73840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3840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38400" y="141336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0426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12396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12396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123960" y="141336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0" name=""/>
            <p:cNvSpPr/>
            <p:nvPr/>
          </p:nvSpPr>
          <p:spPr>
            <a:xfrm>
              <a:off x="154404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0956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0724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0" y="168912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4" name=""/>
            <p:cNvGrpSpPr/>
            <p:nvPr/>
          </p:nvGrpSpPr>
          <p:grpSpPr>
            <a:xfrm>
              <a:off x="6400800" y="1230480"/>
              <a:ext cx="1768320" cy="981000"/>
              <a:chOff x="6400800" y="1230480"/>
              <a:chExt cx="1768320" cy="981000"/>
            </a:xfrm>
          </p:grpSpPr>
          <p:sp>
            <p:nvSpPr>
              <p:cNvPr id="1825" name=""/>
              <p:cNvSpPr/>
              <p:nvPr/>
            </p:nvSpPr>
            <p:spPr>
              <a:xfrm>
                <a:off x="6400800" y="130284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1824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9348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9348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693480" y="123048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97428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04844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4844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8440" y="123048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32960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40340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0340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03400" y="123048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68456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75872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5872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758720" y="123048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99840" y="130608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400800" y="165168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82880" y="154188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557040" y="151524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57040" y="145764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57040" y="141372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83784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91200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00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12000" y="141372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19316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26732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6732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67320" y="141372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54812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623360" y="151524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623360" y="145764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623360" y="141372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0" name=""/>
            <p:cNvSpPr/>
            <p:nvPr/>
          </p:nvSpPr>
          <p:spPr>
            <a:xfrm>
              <a:off x="6537240" y="170496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1" name=""/>
          <p:cNvSpPr/>
          <p:nvPr/>
        </p:nvSpPr>
        <p:spPr>
          <a:xfrm>
            <a:off x="3812040" y="40384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2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3812040" y="54100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3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12040" y="2819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4" name=""/>
          <p:cNvGraphicFramePr/>
          <p:nvPr/>
        </p:nvGraphicFramePr>
        <p:xfrm>
          <a:off x="76320" y="2438280"/>
          <a:ext cx="7848360" cy="4226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5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2209680" y="4495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676520" y="3962520"/>
            <a:ext cx="4876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76520" y="297180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7772400" y="23623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924680" y="40384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924680" y="373392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0" y="1219320"/>
            <a:ext cx="8153280" cy="1022040"/>
            <a:chOff x="0" y="1219320"/>
            <a:chExt cx="8153280" cy="1022040"/>
          </a:xfrm>
        </p:grpSpPr>
        <p:grpSp>
          <p:nvGrpSpPr>
            <p:cNvPr id="1879" name=""/>
            <p:cNvGrpSpPr/>
            <p:nvPr/>
          </p:nvGrpSpPr>
          <p:grpSpPr>
            <a:xfrm>
              <a:off x="47520" y="1219320"/>
              <a:ext cx="1781280" cy="991800"/>
              <a:chOff x="47520" y="1219320"/>
              <a:chExt cx="1781280" cy="9918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7520" y="129240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664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42360" y="132156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360" y="126324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360" y="121932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2496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99840" y="132156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9840" y="126324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9840" y="121932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9828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05768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5768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057680" y="121932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34064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41516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1516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15160" y="121932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557360" y="129600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7520" y="164520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9960" y="153432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04840" y="150732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04840" y="144900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4840" y="140472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8780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6268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268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2680" y="140472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84564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92016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016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0160" y="140472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20312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79080" y="150732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279080" y="144900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279080" y="140472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1523880" y="1220760"/>
              <a:ext cx="1887480" cy="980640"/>
              <a:chOff x="1523880" y="1220760"/>
              <a:chExt cx="1887480" cy="980640"/>
            </a:xfrm>
          </p:grpSpPr>
          <p:sp>
            <p:nvSpPr>
              <p:cNvPr id="1916" name=""/>
              <p:cNvSpPr/>
              <p:nvPr/>
            </p:nvSpPr>
            <p:spPr>
              <a:xfrm>
                <a:off x="1523880" y="129312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75608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83600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3600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36000" y="122076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1362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21508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1508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5080" y="122076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51532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594160" y="132156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594160" y="126432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94160" y="122076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8940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973240" y="132156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73240" y="126432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73240" y="122076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119760" y="129816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523880" y="164088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611720" y="153108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90920" y="150444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690920" y="144720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90920" y="140364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9908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069640" y="150444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69640" y="144720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69640" y="140364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36952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448720" y="150444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48720" y="144720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48720" y="140364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7486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828880" y="150444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828880" y="144720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828880" y="140364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3124080" y="1220760"/>
              <a:ext cx="1971720" cy="988920"/>
              <a:chOff x="3124080" y="1220760"/>
              <a:chExt cx="1971720" cy="988920"/>
            </a:xfrm>
          </p:grpSpPr>
          <p:sp>
            <p:nvSpPr>
              <p:cNvPr id="1952" name=""/>
              <p:cNvSpPr/>
              <p:nvPr/>
            </p:nvSpPr>
            <p:spPr>
              <a:xfrm>
                <a:off x="3124080" y="129348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53" name=""/>
              <p:cNvGrpSpPr/>
              <p:nvPr/>
            </p:nvGrpSpPr>
            <p:grpSpPr>
              <a:xfrm>
                <a:off x="3367080" y="1220760"/>
                <a:ext cx="348120" cy="212760"/>
                <a:chOff x="3367080" y="1220760"/>
                <a:chExt cx="348120" cy="21276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3367080" y="134964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5" name=""/>
                <p:cNvGrpSpPr/>
                <p:nvPr/>
              </p:nvGrpSpPr>
              <p:grpSpPr>
                <a:xfrm>
                  <a:off x="3450240" y="1220760"/>
                  <a:ext cx="261360" cy="196200"/>
                  <a:chOff x="3450240" y="1220760"/>
                  <a:chExt cx="261360" cy="196200"/>
                </a:xfrm>
              </p:grpSpPr>
              <p:sp>
                <p:nvSpPr>
                  <p:cNvPr id="1956" name=""/>
                  <p:cNvSpPr/>
                  <p:nvPr/>
                </p:nvSpPr>
                <p:spPr>
                  <a:xfrm>
                    <a:off x="3450240" y="132228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3450240" y="126432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450240" y="122076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9" name=""/>
              <p:cNvGrpSpPr/>
              <p:nvPr/>
            </p:nvGrpSpPr>
            <p:grpSpPr>
              <a:xfrm>
                <a:off x="3763440" y="1220760"/>
                <a:ext cx="348480" cy="212760"/>
                <a:chOff x="3763440" y="1220760"/>
                <a:chExt cx="348480" cy="21276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3763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1" name=""/>
                <p:cNvGrpSpPr/>
                <p:nvPr/>
              </p:nvGrpSpPr>
              <p:grpSpPr>
                <a:xfrm>
                  <a:off x="3846600" y="1220760"/>
                  <a:ext cx="261720" cy="196200"/>
                  <a:chOff x="3846600" y="1220760"/>
                  <a:chExt cx="261720" cy="196200"/>
                </a:xfrm>
              </p:grpSpPr>
              <p:sp>
                <p:nvSpPr>
                  <p:cNvPr id="1962" name=""/>
                  <p:cNvSpPr/>
                  <p:nvPr/>
                </p:nvSpPr>
                <p:spPr>
                  <a:xfrm>
                    <a:off x="3846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3846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846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5" name=""/>
              <p:cNvGrpSpPr/>
              <p:nvPr/>
            </p:nvGrpSpPr>
            <p:grpSpPr>
              <a:xfrm>
                <a:off x="4159440" y="1220760"/>
                <a:ext cx="348480" cy="212760"/>
                <a:chOff x="4159440" y="1220760"/>
                <a:chExt cx="348480" cy="21276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4159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7" name=""/>
                <p:cNvGrpSpPr/>
                <p:nvPr/>
              </p:nvGrpSpPr>
              <p:grpSpPr>
                <a:xfrm>
                  <a:off x="4242600" y="1220760"/>
                  <a:ext cx="261720" cy="196200"/>
                  <a:chOff x="4242600" y="1220760"/>
                  <a:chExt cx="261720" cy="196200"/>
                </a:xfrm>
              </p:grpSpPr>
              <p:sp>
                <p:nvSpPr>
                  <p:cNvPr id="1968" name=""/>
                  <p:cNvSpPr/>
                  <p:nvPr/>
                </p:nvSpPr>
                <p:spPr>
                  <a:xfrm>
                    <a:off x="4242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4242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242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1" name=""/>
              <p:cNvGrpSpPr/>
              <p:nvPr/>
            </p:nvGrpSpPr>
            <p:grpSpPr>
              <a:xfrm>
                <a:off x="4555440" y="1220760"/>
                <a:ext cx="348480" cy="212760"/>
                <a:chOff x="4555440" y="1220760"/>
                <a:chExt cx="348480" cy="21276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4555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3" name=""/>
                <p:cNvGrpSpPr/>
                <p:nvPr/>
              </p:nvGrpSpPr>
              <p:grpSpPr>
                <a:xfrm>
                  <a:off x="4638600" y="1220760"/>
                  <a:ext cx="261720" cy="196200"/>
                  <a:chOff x="4638600" y="1220760"/>
                  <a:chExt cx="261720" cy="196200"/>
                </a:xfrm>
              </p:grpSpPr>
              <p:sp>
                <p:nvSpPr>
                  <p:cNvPr id="1974" name=""/>
                  <p:cNvSpPr/>
                  <p:nvPr/>
                </p:nvSpPr>
                <p:spPr>
                  <a:xfrm>
                    <a:off x="4638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4638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638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7" name=""/>
              <p:cNvSpPr/>
              <p:nvPr/>
            </p:nvSpPr>
            <p:spPr>
              <a:xfrm>
                <a:off x="4791600" y="129852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124080" y="164412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9" name=""/>
              <p:cNvGrpSpPr/>
              <p:nvPr/>
            </p:nvGrpSpPr>
            <p:grpSpPr>
              <a:xfrm>
                <a:off x="3215160" y="1405440"/>
                <a:ext cx="348480" cy="212760"/>
                <a:chOff x="3215160" y="1405440"/>
                <a:chExt cx="348480" cy="21276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3215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1" name=""/>
                <p:cNvGrpSpPr/>
                <p:nvPr/>
              </p:nvGrpSpPr>
              <p:grpSpPr>
                <a:xfrm>
                  <a:off x="3298320" y="1405440"/>
                  <a:ext cx="261720" cy="196200"/>
                  <a:chOff x="3298320" y="1405440"/>
                  <a:chExt cx="261720" cy="196200"/>
                </a:xfrm>
              </p:grpSpPr>
              <p:sp>
                <p:nvSpPr>
                  <p:cNvPr id="1982" name=""/>
                  <p:cNvSpPr/>
                  <p:nvPr/>
                </p:nvSpPr>
                <p:spPr>
                  <a:xfrm>
                    <a:off x="3298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3298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298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5" name=""/>
              <p:cNvGrpSpPr/>
              <p:nvPr/>
            </p:nvGrpSpPr>
            <p:grpSpPr>
              <a:xfrm>
                <a:off x="3611160" y="1405440"/>
                <a:ext cx="348480" cy="212760"/>
                <a:chOff x="3611160" y="1405440"/>
                <a:chExt cx="348480" cy="21276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3611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7" name=""/>
                <p:cNvGrpSpPr/>
                <p:nvPr/>
              </p:nvGrpSpPr>
              <p:grpSpPr>
                <a:xfrm>
                  <a:off x="3694320" y="1405440"/>
                  <a:ext cx="261720" cy="196200"/>
                  <a:chOff x="3694320" y="1405440"/>
                  <a:chExt cx="261720" cy="196200"/>
                </a:xfrm>
              </p:grpSpPr>
              <p:sp>
                <p:nvSpPr>
                  <p:cNvPr id="1988" name=""/>
                  <p:cNvSpPr/>
                  <p:nvPr/>
                </p:nvSpPr>
                <p:spPr>
                  <a:xfrm>
                    <a:off x="3694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3694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694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1" name=""/>
              <p:cNvGrpSpPr/>
              <p:nvPr/>
            </p:nvGrpSpPr>
            <p:grpSpPr>
              <a:xfrm>
                <a:off x="4007520" y="1405440"/>
                <a:ext cx="348480" cy="212760"/>
                <a:chOff x="4007520" y="1405440"/>
                <a:chExt cx="348480" cy="212760"/>
              </a:xfrm>
            </p:grpSpPr>
            <p:sp>
              <p:nvSpPr>
                <p:cNvPr id="1992" name=""/>
                <p:cNvSpPr/>
                <p:nvPr/>
              </p:nvSpPr>
              <p:spPr>
                <a:xfrm>
                  <a:off x="4007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3" name=""/>
                <p:cNvGrpSpPr/>
                <p:nvPr/>
              </p:nvGrpSpPr>
              <p:grpSpPr>
                <a:xfrm>
                  <a:off x="4090680" y="1405440"/>
                  <a:ext cx="261720" cy="196200"/>
                  <a:chOff x="4090680" y="1405440"/>
                  <a:chExt cx="261720" cy="19620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>
                    <a:off x="4090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4090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090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7" name=""/>
              <p:cNvGrpSpPr/>
              <p:nvPr/>
            </p:nvGrpSpPr>
            <p:grpSpPr>
              <a:xfrm>
                <a:off x="4403520" y="1405440"/>
                <a:ext cx="348480" cy="212760"/>
                <a:chOff x="4403520" y="1405440"/>
                <a:chExt cx="348480" cy="212760"/>
              </a:xfrm>
            </p:grpSpPr>
            <p:sp>
              <p:nvSpPr>
                <p:cNvPr id="1998" name=""/>
                <p:cNvSpPr/>
                <p:nvPr/>
              </p:nvSpPr>
              <p:spPr>
                <a:xfrm>
                  <a:off x="4403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9" name=""/>
                <p:cNvGrpSpPr/>
                <p:nvPr/>
              </p:nvGrpSpPr>
              <p:grpSpPr>
                <a:xfrm>
                  <a:off x="4486680" y="1405440"/>
                  <a:ext cx="261720" cy="196200"/>
                  <a:chOff x="4486680" y="1405440"/>
                  <a:chExt cx="261720" cy="196200"/>
                </a:xfrm>
              </p:grpSpPr>
              <p:sp>
                <p:nvSpPr>
                  <p:cNvPr id="2000" name=""/>
                  <p:cNvSpPr/>
                  <p:nvPr/>
                </p:nvSpPr>
                <p:spPr>
                  <a:xfrm>
                    <a:off x="4486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4486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486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3" name=""/>
            <p:cNvGrpSpPr/>
            <p:nvPr/>
          </p:nvGrpSpPr>
          <p:grpSpPr>
            <a:xfrm>
              <a:off x="4800600" y="1230120"/>
              <a:ext cx="1897200" cy="981360"/>
              <a:chOff x="4800600" y="1230120"/>
              <a:chExt cx="1897200" cy="981360"/>
            </a:xfrm>
          </p:grpSpPr>
          <p:sp>
            <p:nvSpPr>
              <p:cNvPr id="2004" name=""/>
              <p:cNvSpPr/>
              <p:nvPr/>
            </p:nvSpPr>
            <p:spPr>
              <a:xfrm>
                <a:off x="4800600" y="130212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0338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11452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11452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14520" y="123012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41584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9540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49540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5400" y="123012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7970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87664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664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76640" y="123012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17796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25752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5752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257520" y="123012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405120" y="130752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800600" y="165024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88800" y="154080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968360" y="151416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968360" y="145656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968360" y="141300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26968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34924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4924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49240" y="141300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65056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73012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73012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30120" y="141300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603144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112080" y="151416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112080" y="145656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112080" y="141300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39" name=""/>
            <p:cNvSpPr/>
            <p:nvPr/>
          </p:nvSpPr>
          <p:spPr>
            <a:xfrm>
              <a:off x="1523160" y="1728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373200" y="1728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955040" y="1728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0" y="168912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3" name=""/>
            <p:cNvGrpSpPr/>
            <p:nvPr/>
          </p:nvGrpSpPr>
          <p:grpSpPr>
            <a:xfrm>
              <a:off x="6400800" y="1230120"/>
              <a:ext cx="1752480" cy="981000"/>
              <a:chOff x="6400800" y="1230120"/>
              <a:chExt cx="1752480" cy="981000"/>
            </a:xfrm>
          </p:grpSpPr>
          <p:sp>
            <p:nvSpPr>
              <p:cNvPr id="2044" name=""/>
              <p:cNvSpPr/>
              <p:nvPr/>
            </p:nvSpPr>
            <p:spPr>
              <a:xfrm>
                <a:off x="6400800" y="130248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661608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69060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69060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90600" y="123012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9692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04268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4268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42680" y="123012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32132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9440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9440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394400" y="123012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6730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74648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4648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46480" y="123012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886160" y="130572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400800" y="165132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482160" y="154152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555600" y="151488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555600" y="145728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555600" y="141372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83388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90732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0732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907320" y="141372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18596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25940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5940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9400" y="141372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53804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612560" y="151488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12560" y="145728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2560" y="141372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9" name=""/>
            <p:cNvSpPr/>
            <p:nvPr/>
          </p:nvSpPr>
          <p:spPr>
            <a:xfrm>
              <a:off x="6477120" y="17049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0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1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Generalidades del CBP Progr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rquitectura de Programa “SIMP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identificados por:</a:t>
            </a:r>
            <a:br>
              <a:rPr sz="2600"/>
            </a:b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Cinco Grupos de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“C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ompetencia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diferenciados en:</a:t>
            </a:r>
            <a:br>
              <a:rPr sz="2600"/>
            </a:b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Cuatro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Niveles</a:t>
            </a: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de “Especializació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4419720"/>
            <a:ext cx="6782040" cy="1523520"/>
            <a:chOff x="152280" y="4419720"/>
            <a:chExt cx="6782040" cy="1523520"/>
          </a:xfrm>
        </p:grpSpPr>
        <p:grpSp>
          <p:nvGrpSpPr>
            <p:cNvPr id="93" name=""/>
            <p:cNvGrpSpPr/>
            <p:nvPr/>
          </p:nvGrpSpPr>
          <p:grpSpPr>
            <a:xfrm>
              <a:off x="192240" y="4419720"/>
              <a:ext cx="1492200" cy="1523520"/>
              <a:chOff x="192240" y="4419720"/>
              <a:chExt cx="1492200" cy="1523520"/>
            </a:xfrm>
          </p:grpSpPr>
          <p:sp>
            <p:nvSpPr>
              <p:cNvPr id="94" name=""/>
              <p:cNvSpPr/>
              <p:nvPr/>
            </p:nvSpPr>
            <p:spPr>
              <a:xfrm>
                <a:off x="192240" y="4532400"/>
                <a:ext cx="1492200" cy="5468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920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920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9200" y="4419720"/>
                <a:ext cx="197280" cy="1458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60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872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72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720" y="4419720"/>
                <a:ext cx="197280" cy="1458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7596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824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824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38240" y="4419720"/>
                <a:ext cx="198360" cy="1458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812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3812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120" y="4419720"/>
                <a:ext cx="198360" cy="145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57280" y="4537440"/>
                <a:ext cx="224280" cy="14058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2240" y="5073840"/>
                <a:ext cx="1265760" cy="8694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1360" y="4903200"/>
                <a:ext cx="26280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000" y="4704480"/>
                <a:ext cx="197280" cy="1454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24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52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352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20" y="4704480"/>
                <a:ext cx="198360" cy="1454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076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304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2304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23040" y="4704480"/>
                <a:ext cx="198360" cy="1454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028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4000" y="4704480"/>
                <a:ext cx="197280" cy="1454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28840" y="4433760"/>
              <a:ext cx="1582560" cy="1506240"/>
              <a:chOff x="1428840" y="4433760"/>
              <a:chExt cx="1582560" cy="150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28840" y="4544640"/>
                <a:ext cx="1582560" cy="5371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2324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056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9056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90560" y="4433760"/>
                <a:ext cx="209160" cy="143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220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844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0844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08440" y="4433760"/>
                <a:ext cx="209160" cy="1436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08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26320" y="4588920"/>
                <a:ext cx="2102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26320" y="4500720"/>
                <a:ext cx="21024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26320" y="4433760"/>
                <a:ext cx="210240" cy="143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7796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4200" y="4588920"/>
                <a:ext cx="20988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44200" y="4500720"/>
                <a:ext cx="20988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4200" y="4433760"/>
                <a:ext cx="209880" cy="1436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6960" y="4552920"/>
                <a:ext cx="238680" cy="13870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8840" y="5078880"/>
                <a:ext cx="1342440" cy="8575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2280" y="4910400"/>
                <a:ext cx="27864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68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68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68880" y="4714560"/>
                <a:ext cx="209160" cy="143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01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6400" y="4869720"/>
                <a:ext cx="2098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86400" y="4781520"/>
                <a:ext cx="20988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86400" y="4714560"/>
                <a:ext cx="209880" cy="1436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768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4280" y="4869720"/>
                <a:ext cx="2102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4280" y="478152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04280" y="4714560"/>
                <a:ext cx="210240" cy="14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55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2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2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2880" y="4714560"/>
                <a:ext cx="209160" cy="14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70200" y="4419720"/>
              <a:ext cx="1652400" cy="1519200"/>
              <a:chOff x="2770200" y="4419720"/>
              <a:chExt cx="1652400" cy="1519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770200" y="4531680"/>
                <a:ext cx="1652400" cy="5421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973960" y="4419720"/>
                <a:ext cx="291600" cy="327240"/>
                <a:chOff x="2973960" y="4419720"/>
                <a:chExt cx="291600" cy="3272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973960" y="4617720"/>
                  <a:ext cx="29160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440" y="4419720"/>
                  <a:ext cx="218880" cy="302040"/>
                  <a:chOff x="3043440" y="4419720"/>
                  <a:chExt cx="218880" cy="302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440" y="4575960"/>
                    <a:ext cx="21888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043440" y="4486680"/>
                    <a:ext cx="21888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043440" y="4419720"/>
                    <a:ext cx="21888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3305880" y="4419720"/>
                <a:ext cx="291960" cy="327240"/>
                <a:chOff x="3305880" y="4419720"/>
                <a:chExt cx="291960" cy="3272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0588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375360" y="4419720"/>
                  <a:ext cx="219240" cy="302040"/>
                  <a:chOff x="3375360" y="4419720"/>
                  <a:chExt cx="219240" cy="3020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37536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7536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37536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3637800" y="4419720"/>
                <a:ext cx="291960" cy="327240"/>
                <a:chOff x="3637800" y="4419720"/>
                <a:chExt cx="291960" cy="327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780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3707280" y="4419720"/>
                  <a:ext cx="219240" cy="302040"/>
                  <a:chOff x="3707280" y="4419720"/>
                  <a:chExt cx="219240" cy="302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70728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70728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70728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69720" y="4419720"/>
                <a:ext cx="291960" cy="327240"/>
                <a:chOff x="3969720" y="4419720"/>
                <a:chExt cx="291960" cy="327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6972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039200" y="4419720"/>
                  <a:ext cx="219240" cy="302040"/>
                  <a:chOff x="4039200" y="4419720"/>
                  <a:chExt cx="219240" cy="302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3920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03920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03920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4167720" y="4539240"/>
                <a:ext cx="249480" cy="1399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0200" y="5070240"/>
                <a:ext cx="1401840" cy="8647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846520" y="4703400"/>
                <a:ext cx="291960" cy="327240"/>
                <a:chOff x="2846520" y="4703400"/>
                <a:chExt cx="2919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84652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916000" y="4703400"/>
                  <a:ext cx="219240" cy="302040"/>
                  <a:chOff x="2916000" y="4703400"/>
                  <a:chExt cx="219240" cy="302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91600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1600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91600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8440" y="4703400"/>
                <a:ext cx="291960" cy="327240"/>
                <a:chOff x="3178440" y="4703400"/>
                <a:chExt cx="291960" cy="327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4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247920" y="4703400"/>
                  <a:ext cx="219240" cy="302040"/>
                  <a:chOff x="3247920" y="4703400"/>
                  <a:chExt cx="219240" cy="3020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2479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2479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479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3510360" y="4703400"/>
                <a:ext cx="291960" cy="327240"/>
                <a:chOff x="3510360" y="4703400"/>
                <a:chExt cx="291960" cy="327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036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579840" y="4703400"/>
                  <a:ext cx="219240" cy="302040"/>
                  <a:chOff x="3579840" y="4703400"/>
                  <a:chExt cx="219240" cy="302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84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84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7984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3842640" y="4703400"/>
                <a:ext cx="291960" cy="327240"/>
                <a:chOff x="3842640" y="4703400"/>
                <a:chExt cx="291960" cy="32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8426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3912120" y="4703400"/>
                  <a:ext cx="219240" cy="302040"/>
                  <a:chOff x="3912120" y="4703400"/>
                  <a:chExt cx="219240" cy="3020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9121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121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9121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4137120" y="4437000"/>
              <a:ext cx="1590480" cy="1506240"/>
              <a:chOff x="4137120" y="4437000"/>
              <a:chExt cx="1590480" cy="1506240"/>
            </a:xfrm>
          </p:grpSpPr>
          <p:sp>
            <p:nvSpPr>
              <p:cNvPr id="218" name=""/>
              <p:cNvSpPr/>
              <p:nvPr/>
            </p:nvSpPr>
            <p:spPr>
              <a:xfrm>
                <a:off x="4137120" y="4547520"/>
                <a:ext cx="1590480" cy="5374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26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0028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0028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0280" y="4437000"/>
                <a:ext cx="210240" cy="14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3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960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1960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9600" y="4437000"/>
                <a:ext cx="210240" cy="1436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232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3892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3892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38920" y="4437000"/>
                <a:ext cx="211320" cy="1436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92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5860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860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8600" y="4437000"/>
                <a:ext cx="211320" cy="1436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2080" y="4555800"/>
                <a:ext cx="239760" cy="1387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37120" y="5082120"/>
                <a:ext cx="1349280" cy="85788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0920" y="4913640"/>
                <a:ext cx="28008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788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788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77880" y="4717800"/>
                <a:ext cx="210240" cy="1436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3060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720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9720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200" y="4717800"/>
                <a:ext cx="211320" cy="1436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956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1616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1616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16160" y="4717800"/>
                <a:ext cx="211320" cy="1436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888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656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656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36560" y="4717800"/>
                <a:ext cx="210240" cy="1436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305720" y="5202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6920" y="5202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0840" y="5202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280" y="5141880"/>
              <a:ext cx="1295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65880" y="4437000"/>
              <a:ext cx="1468440" cy="1506240"/>
              <a:chOff x="5465880" y="4437000"/>
              <a:chExt cx="1468440" cy="1506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465880" y="4548240"/>
                <a:ext cx="1468440" cy="54000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462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888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888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8880" y="4437000"/>
                <a:ext cx="194040" cy="1440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21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0372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372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3720" y="4437000"/>
                <a:ext cx="194040" cy="1440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73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856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856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8560" y="4437000"/>
                <a:ext cx="195120" cy="1440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18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340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9340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93400" y="4437000"/>
                <a:ext cx="195120" cy="1440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0760" y="4552920"/>
                <a:ext cx="220680" cy="13903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5880" y="5083560"/>
                <a:ext cx="1245960" cy="85968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4280" y="4915080"/>
                <a:ext cx="25848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95480" y="4874400"/>
                <a:ext cx="19440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95480" y="4785840"/>
                <a:ext cx="19440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95480" y="4718520"/>
                <a:ext cx="194400" cy="1440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87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903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903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0320" y="4718520"/>
                <a:ext cx="195120" cy="1440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39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55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55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520" y="4718520"/>
                <a:ext cx="195120" cy="1440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1880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080" y="4874400"/>
                <a:ext cx="19404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81080" y="4785840"/>
                <a:ext cx="19404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81080" y="4718520"/>
                <a:ext cx="194040" cy="1440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80000" y="5165640"/>
              <a:ext cx="1049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4572000"/>
            <a:ext cx="228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8eb6e"/>
                </a:solidFill>
                <a:latin typeface="Arial"/>
              </a:rPr>
              <a:t>CBP Prefer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8eb6e"/>
                </a:solidFill>
                <a:latin typeface="Arial"/>
              </a:rPr>
              <a:t>CBP Premier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ebb11f"/>
                </a:solidFill>
                <a:latin typeface="Arial"/>
              </a:rPr>
              <a:t>CBP Strate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de Educació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xtender un Programa de Certificación y Entrenamiento Integral, Homogéneo y Customizado al mismo tiempo. Que le permita al Canal profesionalizar su Fuerza de Trabajo, tanto en las áreas de Venta como de Tecnología,  generando los niveles de conocimiento y las herramientas necesarias para desarrollar su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302" name=""/>
            <p:cNvSpPr/>
            <p:nvPr/>
          </p:nvSpPr>
          <p:spPr>
            <a:xfrm>
              <a:off x="7848720" y="28638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br>
                <a:rPr sz="1600"/>
              </a:b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311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315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1219320"/>
            <a:ext cx="8229240" cy="1022400"/>
            <a:chOff x="0" y="1219320"/>
            <a:chExt cx="8229240" cy="1022400"/>
          </a:xfrm>
        </p:grpSpPr>
        <p:grpSp>
          <p:nvGrpSpPr>
            <p:cNvPr id="321" name=""/>
            <p:cNvGrpSpPr/>
            <p:nvPr/>
          </p:nvGrpSpPr>
          <p:grpSpPr>
            <a:xfrm>
              <a:off x="47520" y="1219320"/>
              <a:ext cx="1811880" cy="991800"/>
              <a:chOff x="47520" y="1219320"/>
              <a:chExt cx="1811880" cy="991800"/>
            </a:xfrm>
          </p:grpSpPr>
          <p:sp>
            <p:nvSpPr>
              <p:cNvPr id="322" name=""/>
              <p:cNvSpPr/>
              <p:nvPr/>
            </p:nvSpPr>
            <p:spPr>
              <a:xfrm>
                <a:off x="47520" y="129240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400" y="132156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7400" y="126324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7400" y="121932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1000" y="132156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1000" y="126324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1000" y="121932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9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96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96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960" y="121932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6296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892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38920" y="121932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3280" y="129600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" y="164520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400" y="153432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7360" y="150732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7360" y="144900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" y="140472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536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3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3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20" y="140472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93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349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49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4920" y="140472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9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0320" y="150732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0320" y="144900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00320" y="140472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549440" y="1228680"/>
              <a:ext cx="1919160" cy="981000"/>
              <a:chOff x="1549440" y="1228680"/>
              <a:chExt cx="1919160" cy="981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549440" y="130104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852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696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6696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66960" y="122868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7188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5252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252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52520" y="122868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574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772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772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720" y="122868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26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2328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328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3280" y="122868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2320" y="130608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9440" y="164916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38720" y="153900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9000" y="151272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19000" y="145512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19000" y="141156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239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045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45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4560" y="141156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091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897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897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89760" y="141156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468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6040" y="151272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76040" y="145512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76040" y="141156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75920" y="1219320"/>
              <a:ext cx="2005200" cy="988920"/>
              <a:chOff x="3175920" y="1219320"/>
              <a:chExt cx="2005200" cy="988920"/>
            </a:xfrm>
          </p:grpSpPr>
          <p:sp>
            <p:nvSpPr>
              <p:cNvPr id="394" name=""/>
              <p:cNvSpPr/>
              <p:nvPr/>
            </p:nvSpPr>
            <p:spPr>
              <a:xfrm>
                <a:off x="3175920" y="129204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23240" y="1219320"/>
                <a:ext cx="353880" cy="212760"/>
                <a:chOff x="3423240" y="1219320"/>
                <a:chExt cx="353880" cy="212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23240" y="134820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507480" y="1219320"/>
                  <a:ext cx="265680" cy="196200"/>
                  <a:chOff x="3507480" y="1219320"/>
                  <a:chExt cx="265680" cy="196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507480" y="132084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507480" y="126288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507480" y="121932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826080" y="1219320"/>
                <a:ext cx="354240" cy="212760"/>
                <a:chOff x="3826080" y="1219320"/>
                <a:chExt cx="354240" cy="212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2608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910680" y="1219320"/>
                  <a:ext cx="266040" cy="196200"/>
                  <a:chOff x="3910680" y="1219320"/>
                  <a:chExt cx="266040" cy="1962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391068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1068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1068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228920" y="1219320"/>
                <a:ext cx="354240" cy="212760"/>
                <a:chOff x="4228920" y="1219320"/>
                <a:chExt cx="354240" cy="21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22892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313520" y="1219320"/>
                  <a:ext cx="266040" cy="196200"/>
                  <a:chOff x="4313520" y="1219320"/>
                  <a:chExt cx="266040" cy="196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31352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1352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1352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631760" y="1219320"/>
                <a:ext cx="354240" cy="212760"/>
                <a:chOff x="4631760" y="1219320"/>
                <a:chExt cx="354240" cy="212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63176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716360" y="1219320"/>
                  <a:ext cx="266040" cy="196200"/>
                  <a:chOff x="4716360" y="1219320"/>
                  <a:chExt cx="266040" cy="196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71636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1636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636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>
                <a:off x="4871880" y="129708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75920" y="164268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3268440" y="1404000"/>
                <a:ext cx="354240" cy="212760"/>
                <a:chOff x="3268440" y="1404000"/>
                <a:chExt cx="354240" cy="212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26844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53040" y="1404000"/>
                  <a:ext cx="266040" cy="196200"/>
                  <a:chOff x="3353040" y="1404000"/>
                  <a:chExt cx="266040" cy="1962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335304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35304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35304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671280" y="1404000"/>
                <a:ext cx="354240" cy="212760"/>
                <a:chOff x="3671280" y="1404000"/>
                <a:chExt cx="354240" cy="212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7128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755880" y="1404000"/>
                  <a:ext cx="266040" cy="196200"/>
                  <a:chOff x="3755880" y="1404000"/>
                  <a:chExt cx="266040" cy="1962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375588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75588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75588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074120" y="1404000"/>
                <a:ext cx="354240" cy="212760"/>
                <a:chOff x="4074120" y="1404000"/>
                <a:chExt cx="354240" cy="212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0741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4158720" y="1404000"/>
                  <a:ext cx="266040" cy="196200"/>
                  <a:chOff x="4158720" y="1404000"/>
                  <a:chExt cx="266040" cy="196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1587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1587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1587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477320" y="1404000"/>
                <a:ext cx="354240" cy="212760"/>
                <a:chOff x="4477320" y="1404000"/>
                <a:chExt cx="354240" cy="212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773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4561920" y="1404000"/>
                  <a:ext cx="266040" cy="196200"/>
                  <a:chOff x="4561920" y="1404000"/>
                  <a:chExt cx="266040" cy="196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5619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619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5619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"/>
            <p:cNvGrpSpPr/>
            <p:nvPr/>
          </p:nvGrpSpPr>
          <p:grpSpPr>
            <a:xfrm>
              <a:off x="4835880" y="1230480"/>
              <a:ext cx="1928520" cy="981000"/>
              <a:chOff x="4835880" y="1230480"/>
              <a:chExt cx="1928520" cy="9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4835880" y="130248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731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5484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5484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54840" y="123048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61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4220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4220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2200" y="123048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48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956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956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9560" y="123048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359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1692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692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16920" y="123048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66680" y="130788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35880" y="165060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25520" y="154080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06520" y="151452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06520" y="14569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6520" y="141336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2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93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93520" y="141336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9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80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80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0520" y="141336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8724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68960" y="151452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68960" y="145692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68960" y="141336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5988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800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900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68912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447960" y="1230480"/>
              <a:ext cx="1781280" cy="981000"/>
              <a:chOff x="6447960" y="1230480"/>
              <a:chExt cx="1781280" cy="981000"/>
            </a:xfrm>
          </p:grpSpPr>
          <p:sp>
            <p:nvSpPr>
              <p:cNvPr id="486" name=""/>
              <p:cNvSpPr/>
              <p:nvPr/>
            </p:nvSpPr>
            <p:spPr>
              <a:xfrm>
                <a:off x="6447960" y="130284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6684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4280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280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42800" y="123048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576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0064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064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00640" y="123048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360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5812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5812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58120" y="123048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108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1560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1560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15600" y="123048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57800" y="130608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7960" y="165168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30760" y="154188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05280" y="151524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280" y="145764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05280" y="141372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824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6312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6312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63120" y="141372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4608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2060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2060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20600" y="141372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0392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9520" y="151524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9520" y="145764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9520" y="141372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585480" y="170496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9640" y="2590920"/>
            <a:ext cx="1729080" cy="4190760"/>
            <a:chOff x="6119640" y="2590920"/>
            <a:chExt cx="1729080" cy="4190760"/>
          </a:xfrm>
        </p:grpSpPr>
        <p:sp>
          <p:nvSpPr>
            <p:cNvPr id="523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916760" y="26668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16760" y="396252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16760" y="503064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16760" y="373536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5146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3124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44197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57150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38098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54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54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61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66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70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777240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72400" y="39625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772400" y="54720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4680" y="3657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38862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42670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46483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753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58000" y="52578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3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60199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6400800"/>
            <a:ext cx="9903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t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623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1295280"/>
            <a:ext cx="8153280" cy="982080"/>
            <a:chOff x="0" y="1295280"/>
            <a:chExt cx="8153280" cy="982080"/>
          </a:xfrm>
        </p:grpSpPr>
        <p:grpSp>
          <p:nvGrpSpPr>
            <p:cNvPr id="761" name=""/>
            <p:cNvGrpSpPr/>
            <p:nvPr/>
          </p:nvGrpSpPr>
          <p:grpSpPr>
            <a:xfrm>
              <a:off x="47520" y="1295280"/>
              <a:ext cx="1781280" cy="914760"/>
              <a:chOff x="47520" y="1295280"/>
              <a:chExt cx="1781280" cy="914760"/>
            </a:xfrm>
          </p:grpSpPr>
          <p:sp>
            <p:nvSpPr>
              <p:cNvPr id="762" name=""/>
              <p:cNvSpPr/>
              <p:nvPr/>
            </p:nvSpPr>
            <p:spPr>
              <a:xfrm>
                <a:off x="47520" y="136260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64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2360" y="138960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360" y="133596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360" y="129528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496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840" y="138960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840" y="133596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9840" y="129528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828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5768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5768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57680" y="129528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4064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516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41516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15160" y="129528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7360" y="136584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520" y="168804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9960" y="158544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840" y="156060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4840" y="150696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840" y="146628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780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68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68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680" y="146628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564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016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2016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20160" y="146628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0312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9080" y="156060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9080" y="150696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79080" y="146628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523880" y="1296360"/>
              <a:ext cx="1887480" cy="903960"/>
              <a:chOff x="1523880" y="1296360"/>
              <a:chExt cx="1887480" cy="903960"/>
            </a:xfrm>
          </p:grpSpPr>
          <p:sp>
            <p:nvSpPr>
              <p:cNvPr id="798" name=""/>
              <p:cNvSpPr/>
              <p:nvPr/>
            </p:nvSpPr>
            <p:spPr>
              <a:xfrm>
                <a:off x="1523880" y="136296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608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3600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3600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36000" y="129636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362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1508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1508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215080" y="129636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532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94160" y="138924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94160" y="133632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4160" y="129636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940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73240" y="138924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3240" y="133632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73240" y="129636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9760" y="136764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168372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1720" y="158256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90920" y="155808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90920" y="150516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90920" y="146484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08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69640" y="155808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69640" y="150516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069640" y="146484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6952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48720" y="155808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48720" y="150516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48720" y="146484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486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8880" y="155808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880" y="150516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28880" y="146484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124080" y="1296360"/>
              <a:ext cx="1971720" cy="911880"/>
              <a:chOff x="3124080" y="1296360"/>
              <a:chExt cx="1971720" cy="911880"/>
            </a:xfrm>
          </p:grpSpPr>
          <p:sp>
            <p:nvSpPr>
              <p:cNvPr id="834" name=""/>
              <p:cNvSpPr/>
              <p:nvPr/>
            </p:nvSpPr>
            <p:spPr>
              <a:xfrm>
                <a:off x="3124080" y="136332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367080" y="1296360"/>
                <a:ext cx="348120" cy="196200"/>
                <a:chOff x="3367080" y="1296360"/>
                <a:chExt cx="348120" cy="196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367080" y="141516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450240" y="1296360"/>
                  <a:ext cx="261360" cy="181080"/>
                  <a:chOff x="3450240" y="1296360"/>
                  <a:chExt cx="261360" cy="1810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450240" y="138996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0240" y="133668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450240" y="129636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3763440" y="1296360"/>
                <a:ext cx="348480" cy="196200"/>
                <a:chOff x="3763440" y="1296360"/>
                <a:chExt cx="348480" cy="196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763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3846600" y="1296360"/>
                  <a:ext cx="261720" cy="181080"/>
                  <a:chOff x="3846600" y="1296360"/>
                  <a:chExt cx="261720" cy="1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3846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46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46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4159440" y="1296360"/>
                <a:ext cx="348480" cy="196200"/>
                <a:chOff x="4159440" y="1296360"/>
                <a:chExt cx="348480" cy="196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159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4242600" y="1296360"/>
                  <a:ext cx="261720" cy="181080"/>
                  <a:chOff x="4242600" y="1296360"/>
                  <a:chExt cx="261720" cy="1810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4242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242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242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4555440" y="1296360"/>
                <a:ext cx="348480" cy="196200"/>
                <a:chOff x="4555440" y="1296360"/>
                <a:chExt cx="348480" cy="1962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555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638600" y="1296360"/>
                  <a:ext cx="261720" cy="181080"/>
                  <a:chOff x="4638600" y="1296360"/>
                  <a:chExt cx="261720" cy="1810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638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638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638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>
                <a:off x="4791600" y="136800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24080" y="168696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3215160" y="1466640"/>
                <a:ext cx="348480" cy="196200"/>
                <a:chOff x="3215160" y="1466640"/>
                <a:chExt cx="348480" cy="19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215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3298320" y="1466640"/>
                  <a:ext cx="261720" cy="181080"/>
                  <a:chOff x="3298320" y="1466640"/>
                  <a:chExt cx="261720" cy="1810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298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298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298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611160" y="1466640"/>
                <a:ext cx="348480" cy="196200"/>
                <a:chOff x="3611160" y="1466640"/>
                <a:chExt cx="348480" cy="1962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11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3694320" y="1466640"/>
                  <a:ext cx="261720" cy="181080"/>
                  <a:chOff x="3694320" y="1466640"/>
                  <a:chExt cx="261720" cy="181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3694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694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94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4007520" y="1466640"/>
                <a:ext cx="348480" cy="196200"/>
                <a:chOff x="4007520" y="1466640"/>
                <a:chExt cx="348480" cy="1962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007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090680" y="1466640"/>
                  <a:ext cx="261720" cy="181080"/>
                  <a:chOff x="4090680" y="1466640"/>
                  <a:chExt cx="261720" cy="18108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090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090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090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4403520" y="1466640"/>
                <a:ext cx="348480" cy="196200"/>
                <a:chOff x="4403520" y="1466640"/>
                <a:chExt cx="348480" cy="196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403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4486680" y="1466640"/>
                  <a:ext cx="261720" cy="181080"/>
                  <a:chOff x="4486680" y="1466640"/>
                  <a:chExt cx="261720" cy="1810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4486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486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4486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"/>
            <p:cNvGrpSpPr/>
            <p:nvPr/>
          </p:nvGrpSpPr>
          <p:grpSpPr>
            <a:xfrm>
              <a:off x="4800600" y="1305000"/>
              <a:ext cx="1897200" cy="904320"/>
              <a:chOff x="4800600" y="1305000"/>
              <a:chExt cx="1897200" cy="904320"/>
            </a:xfrm>
          </p:grpSpPr>
          <p:sp>
            <p:nvSpPr>
              <p:cNvPr id="886" name=""/>
              <p:cNvSpPr/>
              <p:nvPr/>
            </p:nvSpPr>
            <p:spPr>
              <a:xfrm>
                <a:off x="4800600" y="137124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338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1452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1452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14520" y="130500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84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9540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9540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95400" y="130500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970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664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664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76640" y="130500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7796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5752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5752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57520" y="130500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5120" y="137628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00600" y="169236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88800" y="159120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8360" y="1566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68360" y="1513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8360" y="147348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968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24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924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9240" y="147348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5056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3012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3012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30120" y="147348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3144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12080" y="1566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2080" y="1513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12080" y="147348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1524960" y="1764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73200" y="1764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5040" y="1764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172836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400800" y="1305000"/>
              <a:ext cx="1752480" cy="904680"/>
              <a:chOff x="6400800" y="1305000"/>
              <a:chExt cx="1752480" cy="904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400800" y="137160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08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9060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060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0600" y="130500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692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4268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4268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42680" y="130500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2132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9440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39440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94400" y="130500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730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4648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4648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46480" y="130500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86160" y="137448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0800" y="169344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82160" y="159192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55600" y="156744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555600" y="151452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600" y="147420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388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732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732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07320" y="147420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596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40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5940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59400" y="147420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3804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12560" y="156744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12560" y="151452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12560" y="147420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77120" y="17427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19720" y="5334120"/>
            <a:ext cx="17524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56386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76320" y="2666880"/>
          <a:ext cx="7924680" cy="41799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7916760" y="29718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16760" y="43434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916760" y="56386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53560" y="533412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53560" y="403848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977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978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014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7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5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9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717640" y="2286000"/>
            <a:ext cx="2718000" cy="533520"/>
          </a:xfrm>
          <a:prstGeom prst="downArrowCallout">
            <a:avLst>
              <a:gd name="adj1" fmla="val 127373"/>
              <a:gd name="adj2" fmla="val 127362"/>
              <a:gd name="adj3" fmla="val 16667"/>
              <a:gd name="adj4" fmla="val 66667"/>
            </a:avLst>
          </a:prstGeom>
          <a:gradFill rotWithShape="0">
            <a:gsLst>
              <a:gs pos="0">
                <a:srgbClr val="d05a3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971800" y="43434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3124080"/>
            <a:ext cx="213372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Alpha 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371600" y="57150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876920" y="57150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186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7" name=""/>
          <p:cNvSpPr/>
          <p:nvPr/>
        </p:nvSpPr>
        <p:spPr>
          <a:xfrm>
            <a:off x="7916760" y="27432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916760" y="40384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16760" y="502920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16760" y="373392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900600" y="25146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" y="28954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411480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" y="54100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900600" y="380988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00600" y="52578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1200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1237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1273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6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0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2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6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8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1289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2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4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8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0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2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6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8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1309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2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4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1315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8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4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1325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1365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0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1" name=""/>
          <p:cNvSpPr/>
          <p:nvPr/>
        </p:nvSpPr>
        <p:spPr>
          <a:xfrm>
            <a:off x="1833120" y="38098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2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833120" y="51814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3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0960" y="28954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4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5" name=""/>
          <p:cNvSpPr/>
          <p:nvPr/>
        </p:nvSpPr>
        <p:spPr>
          <a:xfrm>
            <a:off x="830592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1408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1409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1445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2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1485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8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0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1491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4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6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1497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0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02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1503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6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8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0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4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6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0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2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8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2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1533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8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2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1573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8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9" name=""/>
          <p:cNvSpPr/>
          <p:nvPr/>
        </p:nvSpPr>
        <p:spPr>
          <a:xfrm>
            <a:off x="6019920" y="4114800"/>
            <a:ext cx="2057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 Full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1612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6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33520" y="56386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049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2209680" y="6324480"/>
            <a:ext cx="1524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209680" y="4419720"/>
            <a:ext cx="15242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2096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209680" y="39625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57913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4114800" y="4191120"/>
            <a:ext cx="16765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541008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209680" y="53341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04920" y="2209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Obligato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4115520" y="22096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Solo Alpha C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14800" y="6019920"/>
            <a:ext cx="167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019920" y="6248520"/>
            <a:ext cx="2133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19920" y="57913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-560-561 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olutions Fast Tr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53341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52280" y="5105520"/>
            <a:ext cx="8001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305920" y="5867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305920" y="4267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erinS</cp:lastModifiedBy>
  <cp:lastPrinted>2000-08-21T15:23:38Z</cp:lastPrinted>
  <dcterms:modified xsi:type="dcterms:W3CDTF">2001-11-21T14:52:29Z</dcterms:modified>
  <cp:revision>565</cp:revision>
  <dc:subject/>
  <dc:title>Michael Capellas</dc:title>
</cp:coreProperties>
</file>