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5CB-D4B7-493A-AFED-7C07607C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F263-CFF2-4F6F-B052-9F64DF72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6C2-8D02-4EB7-A52B-38062A0D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3CC-12E9-4610-8FEF-AC541550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F6C9-9A97-4741-B163-3767D309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ECC-1726-4D6C-B160-BA1036D3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3BC7-B1D2-4928-9EA7-F15EA4A6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5809-051D-41E4-8E89-3077799C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AC9A-7536-48F9-9E5C-1654768A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82E7-7753-47A8-BC1A-120B96B9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2F71-CB1A-4839-A1C7-09C0DCFE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1C35-8E22-48F6-AEAD-057637A6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19180-8FCB-4109-BAAC-8C2A237907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5T16:11:19Z</dcterms:created>
  <dc:creator>tester </dc:creator>
  <dc:description/>
  <dc:language>en-US</dc:language>
  <cp:lastModifiedBy/>
  <cp:revision>0</cp:revision>
  <dc:subject/>
  <dc:title/>
</cp:coreProperties>
</file>